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0A7-04A7-43DD-A9F7-6B03AF59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9DF-6532-451C-92B2-B254DB50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A5F-BEE0-432A-8954-A32B227D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68F-2760-4A90-8883-84A93A45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883-5800-4C35-AE98-CFCEB3CB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C4FF-268D-494A-A01E-7A0DB491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FE4A-CE49-4545-876B-CB1F4BC6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5693-1DFE-48B3-979E-C4EF1940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F3B-DA37-421B-8480-3B7546E1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BF4-4134-4FC7-96D3-9105649D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50C-5AF6-4924-9BFD-138C1991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E49-6B18-4C65-853C-AA15CF30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BFB0-F8EA-46A8-82D8-76890D332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6912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46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8000" y="2917800"/>
            <a:ext cx="2700360" cy="2505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3014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55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844560"/>
            <a:ext cx="3564000" cy="1251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l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9326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42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08000" y="1268280"/>
            <a:ext cx="2663640" cy="1427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l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492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35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4110120"/>
            <a:ext cx="3276720" cy="1441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l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602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99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024000" cy="2038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l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20628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3320" y="5826240"/>
            <a:ext cx="3530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orspronkelijke titel A New House for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orspronkelijke uitgever: Walker Books, Londe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© 2006 Uitgeverij J.H. Gottmer / H.J.W. Becht BV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ertaling: J.H. Geve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BN 978 90 257 4087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strips dir="l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9328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541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3600720" cy="126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l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4019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672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3492360" cy="1827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l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502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19640" y="4619520"/>
            <a:ext cx="3751200" cy="118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2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510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3068640"/>
            <a:ext cx="3025800" cy="2749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l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263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64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4192560"/>
            <a:ext cx="4168800" cy="1771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l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082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3292560"/>
            <a:ext cx="2900520" cy="243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l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5234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46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59280" y="4098960"/>
            <a:ext cx="3792600" cy="158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2082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14:22:42Z</dcterms:created>
  <dc:creator>Margriet en Jan</dc:creator>
  <dc:description/>
  <dc:language>en-US</dc:language>
  <cp:lastModifiedBy>Lagast</cp:lastModifiedBy>
  <dcterms:modified xsi:type="dcterms:W3CDTF">2009-03-04T18:40:31Z</dcterms:modified>
  <cp:revision>10</cp:revision>
  <dc:subject/>
  <dc:title>Dia 1</dc:title>
</cp:coreProperties>
</file>