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3E737-7C1C-4A03-A46C-B847B787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BCF91-9C77-449A-9F71-597E9622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3A0B9-F765-40BA-82B6-2D7C983C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DF8E1-3E8C-4209-B1C8-A2ED23CA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9EA2-AF0C-4BF0-B765-12BC999C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27A3-DA32-49F2-82C2-11CAD7C0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40AD-C278-41A8-BECE-6B35F195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E116-E42A-432B-9035-7E696AEB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7AF0-5088-4156-8A67-91586132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8B84-A7B5-4335-AC0A-66F450FD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DC34-11F5-41AD-A527-F5D0DA78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ECA07-4999-4789-AD0A-9C83D093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92E0-D597-4F84-AB92-82988AB2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D22C-9683-4674-8472-172606C9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BBB5-1A02-4639-AEFE-8A922DB1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A6CB-0752-4622-9C31-C7E8B0D8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3A42-4395-4D06-923E-8A2E3235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C0DE4-795D-46B2-BDAF-8A7C758F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D6D22-044A-4521-9299-0D837399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E3428-11F1-4BF7-A8EF-96743BA0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975F3-D40A-453C-A8C1-68B0014A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9FED4-8FD4-4D5E-A531-C26CA6DD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BFEA8-E8A4-4020-9A09-80020367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D627C-BFD1-4CE7-A726-D89DB1C3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AA55-7565-40F5-97E6-FDE902A78B6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7DFB-E072-4A94-8B8B-573C442F6BD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5700" spc="-1" strike="noStrike">
                <a:solidFill>
                  <a:srgbClr val="ffffcc"/>
                </a:solidFill>
                <a:latin typeface="Blackadder ITC"/>
              </a:rPr>
              <a:t>SINTERKLAAS </a:t>
            </a:r>
            <a:br>
              <a:rPr sz="5700"/>
            </a:br>
            <a:r>
              <a:rPr b="1" lang="nl-BE" sz="5700" spc="-1" strike="noStrike">
                <a:solidFill>
                  <a:srgbClr val="ffffcc"/>
                </a:solidFill>
                <a:latin typeface="Blackadder ITC"/>
              </a:rPr>
              <a:t>OP   BEZOEK</a:t>
            </a:r>
            <a:br>
              <a:rPr sz="5700"/>
            </a:br>
            <a:r>
              <a:rPr b="0" lang="nl-BE" sz="3800" spc="-1" strike="noStrike">
                <a:solidFill>
                  <a:srgbClr val="ffffcc"/>
                </a:solidFill>
                <a:latin typeface="Blackadder ITC"/>
              </a:rPr>
              <a:t>in jfw</a:t>
            </a:r>
            <a:br>
              <a:rPr sz="3800"/>
            </a:br>
            <a:r>
              <a:rPr b="0" lang="nl-BE" sz="4200" spc="-1" strike="noStrike">
                <a:solidFill>
                  <a:srgbClr val="ffffcc"/>
                </a:solidFill>
                <a:latin typeface="Blackadder ITC"/>
              </a:rPr>
              <a:t> 4 december</a:t>
            </a:r>
            <a:br>
              <a:rPr sz="2900"/>
            </a:br>
            <a:r>
              <a:rPr b="0" i="1" lang="nl-BE" sz="1900" spc="-1" strike="noStrike">
                <a:solidFill>
                  <a:srgbClr val="ffffcc"/>
                </a:solidFill>
                <a:latin typeface="Blackadder ITC"/>
              </a:rPr>
              <a:t>Heel erg bedankt mama van Jan voor de mooie foto’s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53053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24692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3:57:09Z</dcterms:created>
  <dc:creator>wa</dc:creator>
  <dc:description/>
  <dc:language>en-US</dc:language>
  <cp:lastModifiedBy>2B</cp:lastModifiedBy>
  <dcterms:modified xsi:type="dcterms:W3CDTF">2009-12-14T14:50:26Z</dcterms:modified>
  <cp:revision>5</cp:revision>
  <dc:subject/>
  <dc:title>Dia 1</dc:title>
</cp:coreProperties>
</file>