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6078-095E-4D40-BFD5-33C94651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ED30-7F97-47E1-9DB9-85959011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03CA-119D-4749-8A25-89232F54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E2D3-3386-4FB2-8A27-64A6388E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686-2F1A-4885-8BE4-944D9CDD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3F0-3BC3-4A35-952F-F9AF3C9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B79-DE61-441A-859C-C9A55B67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C174-516F-46ED-A898-7CCF1E0A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849-BC43-4CC3-8A6C-093EEBD3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C6CE-13FA-42EB-8951-1B4D8EB6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014A-5617-4A8F-B370-FD80DCD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84E0-489F-4256-8282-006B9C4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BFB-40F1-457C-9B5F-2DE0277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6441-08D1-4A55-B7CE-8B0D42F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2BC-9207-48A4-B543-BBDECED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AA69-54B0-4642-BC25-BC82B559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9F91-3238-4B08-9C0F-2A14B3A2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995D-DF25-495E-917E-025AD88E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4607-0460-4FFF-AD7D-B1919AA6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8D7E-1091-4E2F-AE41-6878B1C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B066-D5CB-4A85-9ADD-68E6A762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2B42-1AF9-4B1E-9029-618DAB3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485E-2DD9-4104-93D8-047E49A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B4F6-8F0A-4EBF-B4C1-428DD12F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1E3B-2CFC-4504-B7BB-30FDA06184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50E1-B74A-4A01-A864-310876631D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700" spc="-1" strike="noStrike">
                <a:solidFill>
                  <a:srgbClr val="ffffcc"/>
                </a:solidFill>
                <a:latin typeface="Blackadder ITC"/>
              </a:rPr>
              <a:t>SINTERKLAAS </a:t>
            </a:r>
            <a:br>
              <a:rPr sz="5700"/>
            </a:br>
            <a:r>
              <a:rPr b="1" lang="nl-BE" sz="5700" spc="-1" strike="noStrike">
                <a:solidFill>
                  <a:srgbClr val="ffffcc"/>
                </a:solidFill>
                <a:latin typeface="Blackadder ITC"/>
              </a:rPr>
              <a:t>OP   BEZOEK</a:t>
            </a:r>
            <a:br>
              <a:rPr sz="5700"/>
            </a:br>
            <a:r>
              <a:rPr b="0" lang="nl-BE" sz="3800" spc="-1" strike="noStrike">
                <a:solidFill>
                  <a:srgbClr val="ffffcc"/>
                </a:solidFill>
                <a:latin typeface="Blackadder ITC"/>
              </a:rPr>
              <a:t>in jfw</a:t>
            </a:r>
            <a:br>
              <a:rPr sz="3800"/>
            </a:br>
            <a:r>
              <a:rPr b="0" lang="nl-BE" sz="4200" spc="-1" strike="noStrike">
                <a:solidFill>
                  <a:srgbClr val="ffffcc"/>
                </a:solidFill>
                <a:latin typeface="Blackadder ITC"/>
              </a:rPr>
              <a:t> 4 december</a:t>
            </a:r>
            <a:br>
              <a:rPr sz="2900"/>
            </a:br>
            <a:r>
              <a:rPr b="0" i="1" lang="nl-BE" sz="1900" spc="-1" strike="noStrike">
                <a:solidFill>
                  <a:srgbClr val="ffffcc"/>
                </a:solidFill>
                <a:latin typeface="Blackadder ITC"/>
              </a:rPr>
              <a:t>Heel erg bedankt mama van Jan voor de mooie foto’s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3053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24692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57:09Z</dcterms:created>
  <dc:creator>wa</dc:creator>
  <dc:description/>
  <dc:language>en-US</dc:language>
  <cp:lastModifiedBy>2B</cp:lastModifiedBy>
  <dcterms:modified xsi:type="dcterms:W3CDTF">2009-12-14T14:50:26Z</dcterms:modified>
  <cp:revision>5</cp:revision>
  <dc:subject/>
  <dc:title>Dia 1</dc:title>
</cp:coreProperties>
</file>