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458CE-BC9F-4070-90C7-A1979BD8C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132ED-A4DF-4548-A3C1-FC74B4F0D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09A88-A29A-4A73-AA0A-6CE0FF725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5C0F0-4F9F-4F96-9E9E-C7B8B81FC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2E681-C512-4530-A1F3-DC07A87D4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1CD22-4510-4975-9DCA-DAE7C65CF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340A1-BA99-46F3-8B59-6152ED9F8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4ED0C-65E5-43A2-96AA-C8E149A06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8E208-8309-487D-AFC0-6F057E847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CC791-4F25-4A75-A90F-2F9FD504C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5A9AB-CC55-44AB-BDAA-29845983A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D2DF8-CC68-4A76-9C71-3AC5CC638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B7C8-394E-4B37-B941-8CBD60AD3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NDHI</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276280"/>
            <a:ext cx="7704000" cy="360036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handas Gandhi, often called the Mahatma or “Great Soul” was born in India on October 2, 1869. He and his followers threw the King of England and his great armies out of India without using weapons of any kind - unless you call a cotton spinning wheel a weapon!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 me quickly tell you part of his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427280" y="404280"/>
            <a:ext cx="4259160" cy="5721480"/>
          </a:xfrm>
          <a:prstGeom prst="rect">
            <a:avLst/>
          </a:prstGeom>
          <a:noFill/>
          <a:ln w="0">
            <a:noFill/>
          </a:ln>
        </p:spPr>
        <p:txBody>
          <a:bodyPr lIns="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ce upon a time England, the country that once ruled over our United States, also ruled over Indi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 over 200 years it ruled over India until this tiny man, who lived a poor and simple life, changed all that. He had been a lawyer in South Afr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re he is dressed in a fancy suit, sitting outside his law offi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ut when he experienced how badly the white South Africans were treating people of color, Indians like himself and black Africans, he decided to do something about it.</a:t>
            </a:r>
            <a:endParaRPr b="0" lang="en-US" sz="2000" spc="-1" strike="noStrike">
              <a:solidFill>
                <a:srgbClr val="000000"/>
              </a:solidFill>
              <a:latin typeface="Arial"/>
            </a:endParaRPr>
          </a:p>
        </p:txBody>
      </p:sp>
      <p:pic>
        <p:nvPicPr>
          <p:cNvPr id="44" name="" descr=""/>
          <p:cNvPicPr/>
          <p:nvPr/>
        </p:nvPicPr>
        <p:blipFill>
          <a:blip r:embed="rId1"/>
          <a:stretch/>
        </p:blipFill>
        <p:spPr>
          <a:xfrm>
            <a:off x="395280" y="333360"/>
            <a:ext cx="3848040" cy="568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4360" y="4941720"/>
            <a:ext cx="7704000" cy="165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 led huge non-violent protests to change the laws so that people working for the railroads would be treated more fairly. He started dressing in plain, white clothing that wrapped around his body, like the common people and he began to live very simply. After he had helped some of the people in South Africa get better treatment, he returned to India. </a:t>
            </a:r>
            <a:endParaRPr b="0" lang="en-US" sz="2000" spc="-1" strike="noStrike">
              <a:solidFill>
                <a:srgbClr val="000000"/>
              </a:solidFill>
              <a:latin typeface="Arial"/>
            </a:endParaRPr>
          </a:p>
        </p:txBody>
      </p:sp>
      <p:pic>
        <p:nvPicPr>
          <p:cNvPr id="46" name="" descr=""/>
          <p:cNvPicPr/>
          <p:nvPr/>
        </p:nvPicPr>
        <p:blipFill>
          <a:blip r:embed="rId1"/>
          <a:stretch/>
        </p:blipFill>
        <p:spPr>
          <a:xfrm>
            <a:off x="1042920" y="0"/>
            <a:ext cx="7128000" cy="470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900000" y="4076280"/>
            <a:ext cx="7940880" cy="2592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400" spc="-1" strike="noStrike">
                <a:solidFill>
                  <a:srgbClr val="ffffff"/>
                </a:solidFill>
                <a:latin typeface="Arial"/>
              </a:rPr>
              <a:t>He and others believed India should have its freedom and get rid of the English rulers and their army. So he taught his people to fight back at the English - but not with guns or other weapons. He didn’t want to hurt or kill anyone. One way he taught his Indian friends to go 4 against the English was by making their own cloth instead of buying cloth from the English. You see the English would have cotton grown in India, then they would have it picked by Indians, put on ships, ship it to England where it would be spun into thread, woven into cloth, shipped back to India and sold to the Indian people for a higher price. In fact, the English had laws that forced the Indians to buy only this clo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Gandhi said, “NO WAY, that is not fair!! Why should we have to buy back our own cotton cloth?! Let’s spin it ourselves!” So he learned how to spin cotton thread on a spinning wheel - like in this picture - and weave it into cloth. He and his followers taught this old fashioned way of spinning and weaving to thousands and thousands of other Indians. </a:t>
            </a:r>
            <a:endParaRPr b="0" lang="en-US" sz="1400" spc="-1" strike="noStrike">
              <a:solidFill>
                <a:srgbClr val="000000"/>
              </a:solidFill>
              <a:latin typeface="Arial"/>
            </a:endParaRPr>
          </a:p>
        </p:txBody>
      </p:sp>
      <p:pic>
        <p:nvPicPr>
          <p:cNvPr id="48" name="" descr=""/>
          <p:cNvPicPr/>
          <p:nvPr/>
        </p:nvPicPr>
        <p:blipFill>
          <a:blip r:embed="rId1"/>
          <a:stretch/>
        </p:blipFill>
        <p:spPr>
          <a:xfrm>
            <a:off x="1403280" y="0"/>
            <a:ext cx="5761080" cy="394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643280" y="404280"/>
            <a:ext cx="4284720" cy="597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on the English couldn’t make money off the Indians buying their cloth anymore. The English said they had to buy the English cloth. But Gandhi and his followers refused. Gandhi and hundreds of others were thrown in ja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 would be let out of jail but he would keep spinning and weaving and keep breaking the law and get thrown in jail again and again. </a:t>
            </a:r>
            <a:endParaRPr b="0" lang="en-US" sz="2400" spc="-1" strike="noStrike">
              <a:solidFill>
                <a:srgbClr val="000000"/>
              </a:solidFill>
              <a:latin typeface="Arial"/>
            </a:endParaRPr>
          </a:p>
        </p:txBody>
      </p:sp>
      <p:pic>
        <p:nvPicPr>
          <p:cNvPr id="50" name="" descr=""/>
          <p:cNvPicPr/>
          <p:nvPr/>
        </p:nvPicPr>
        <p:blipFill>
          <a:blip r:embed="rId1"/>
          <a:stretch/>
        </p:blipFill>
        <p:spPr>
          <a:xfrm>
            <a:off x="324000" y="189000"/>
            <a:ext cx="4138560" cy="626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4581000"/>
            <a:ext cx="8229600" cy="2087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ffff"/>
                </a:solidFill>
                <a:latin typeface="Arial"/>
              </a:rPr>
              <a:t>This made big news all over the world. People around the world soon began to think that this wasn’t fair either. Even the workers in the cloth factories back in England thought this was not fair. These were the people whose jobs were being lost because of Gandhi and his supporters making their own cloth. Finally the laws about the cloth were changed and Indians were allowed by the English to make their own cloth.</a:t>
            </a:r>
            <a:endParaRPr b="0" lang="en-US" sz="2000" spc="-1" strike="noStrike">
              <a:solidFill>
                <a:srgbClr val="000000"/>
              </a:solidFill>
              <a:latin typeface="Arial"/>
            </a:endParaRPr>
          </a:p>
        </p:txBody>
      </p:sp>
      <p:pic>
        <p:nvPicPr>
          <p:cNvPr id="52" name="" descr=""/>
          <p:cNvPicPr/>
          <p:nvPr/>
        </p:nvPicPr>
        <p:blipFill>
          <a:blip r:embed="rId1"/>
          <a:stretch/>
        </p:blipFill>
        <p:spPr>
          <a:xfrm>
            <a:off x="1835280" y="189000"/>
            <a:ext cx="590544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47960" y="691920"/>
            <a:ext cx="4244760" cy="5761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xt he protested against the English Salt Tax.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ere he leads his fellow freedom fighters on a march to the sea to make their own salt from sea water instead of buying the expensive English salt with its extra tax.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English army beat up Gandhi and his followers and threw them in jail when they tried to make their own salt from the se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ut Gandhi and his friends kept coming back and back until the English gave up.</a:t>
            </a:r>
            <a:endParaRPr b="0" lang="en-US" sz="2000" spc="-1" strike="noStrike">
              <a:solidFill>
                <a:srgbClr val="000000"/>
              </a:solidFill>
              <a:latin typeface="Arial"/>
            </a:endParaRPr>
          </a:p>
        </p:txBody>
      </p:sp>
      <p:pic>
        <p:nvPicPr>
          <p:cNvPr id="54" name="" descr=""/>
          <p:cNvPicPr/>
          <p:nvPr/>
        </p:nvPicPr>
        <p:blipFill>
          <a:blip r:embed="rId1"/>
          <a:stretch/>
        </p:blipFill>
        <p:spPr>
          <a:xfrm>
            <a:off x="324000" y="549360"/>
            <a:ext cx="4076640" cy="579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716000" y="333000"/>
            <a:ext cx="4038840" cy="583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inally, after years and many, many non-violent protests like this, Gandhi and his hundreds of thousands of freedom fighters forced the English to leave India and allow the Indians to run their own countr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y did this without weapons that could hurt or kil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ndhi’s ideas of non-violent protest - or trying to change unfair practices or laws without hurting anyone - have been used by important leaders in our country and around the worl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re, in the United States, the most famous example is Dr. Martin Luther King Jr., when he joined others in the struggle for equal rights and justice for African Americans.</a:t>
            </a:r>
            <a:endParaRPr b="0" lang="en-US" sz="1800" spc="-1" strike="noStrike">
              <a:solidFill>
                <a:srgbClr val="000000"/>
              </a:solidFill>
              <a:latin typeface="Arial"/>
            </a:endParaRPr>
          </a:p>
        </p:txBody>
      </p:sp>
      <p:pic>
        <p:nvPicPr>
          <p:cNvPr id="56" name="" descr=""/>
          <p:cNvPicPr/>
          <p:nvPr/>
        </p:nvPicPr>
        <p:blipFill>
          <a:blip r:embed="rId1"/>
          <a:stretch/>
        </p:blipFill>
        <p:spPr>
          <a:xfrm>
            <a:off x="179280" y="260280"/>
            <a:ext cx="4457880" cy="619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932000" y="1483920"/>
            <a:ext cx="4211640" cy="259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ffffff"/>
                </a:solidFill>
                <a:latin typeface="Arial"/>
              </a:rPr>
              <a:t>Someday, when you are older, you will want to see the film called "Gandhi" which tells his courageous, challenging story that has changed our world forever. </a:t>
            </a:r>
            <a:endParaRPr b="0" lang="en-US" sz="2400" spc="-1" strike="noStrike">
              <a:solidFill>
                <a:srgbClr val="000000"/>
              </a:solidFill>
              <a:latin typeface="Arial"/>
            </a:endParaRPr>
          </a:p>
        </p:txBody>
      </p:sp>
      <p:pic>
        <p:nvPicPr>
          <p:cNvPr id="58" name="" descr=""/>
          <p:cNvPicPr/>
          <p:nvPr/>
        </p:nvPicPr>
        <p:blipFill>
          <a:blip r:embed="rId1"/>
          <a:stretch/>
        </p:blipFill>
        <p:spPr>
          <a:xfrm>
            <a:off x="179280" y="692280"/>
            <a:ext cx="4511880" cy="554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21:10:50Z</dcterms:created>
  <dc:creator>Emma</dc:creator>
  <dc:description/>
  <dc:language>en-US</dc:language>
  <cp:lastModifiedBy>Emma</cp:lastModifiedBy>
  <dcterms:modified xsi:type="dcterms:W3CDTF">2006-03-06T16:20:17Z</dcterms:modified>
  <cp:revision>15</cp:revision>
  <dc:subject/>
  <dc:title>GANDHI</dc:title>
</cp:coreProperties>
</file>