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7.jpeg" ContentType="image/jpeg"/>
  <Override PartName="/ppt/media/image12.jpeg" ContentType="image/jpeg"/>
  <Override PartName="/ppt/media/image37.jpeg" ContentType="image/jpeg"/>
  <Override PartName="/ppt/media/image6.jpeg" ContentType="image/jpeg"/>
  <Override PartName="/ppt/media/image18.png" ContentType="image/png"/>
  <Override PartName="/ppt/media/Ennio%20Morricone.wav" ContentType="audio/x-wav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3.jpeg" ContentType="image/jpeg"/>
  <Override PartName="/ppt/media/image34.gif" ContentType="image/gif"/>
  <Override PartName="/ppt/media/image8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2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DC5-4963-427A-841E-A3ED1AB7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98D-EFA2-410D-AD27-F173687F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A07-F3B5-4C61-BB20-3A31C338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1D7-C340-4A91-8C72-4B9CF59B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606-0CB3-4AD9-8CB2-0513939F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A9C-6563-4594-B4E8-4E9702E3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A5F-3A7C-4ED1-A051-76903F45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525-CE45-40BE-8E51-997A8F6E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093-6491-4BDE-B0B6-1BC3F849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E5A-23C8-4979-8E8F-91F9209D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759-C66A-4CC2-942D-DA71868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5AE-7A31-45CA-80A6-9045C01E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D02B-4FD4-4FCF-8935-CEC7BB2B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nio%20Morricon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84360" y="260280"/>
            <a:ext cx="630720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apyrus"/>
              </a:rPr>
              <a:t>Het UNIVERSUM</a:t>
            </a:r>
            <a:endParaRPr b="1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3736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Kristen ITC"/>
              </a:rPr>
              <a:t>Muziek: Ennio Morricone </a:t>
            </a:r>
            <a:r>
              <a:rPr b="0" lang="nl-BE" sz="2400" spc="-1" strike="noStrike">
                <a:solidFill>
                  <a:srgbClr val="ffffff"/>
                </a:solidFill>
                <a:latin typeface="Kristen ITC"/>
              </a:rPr>
              <a:t>On earth as it is in he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5689440" cy="419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95280" y="5805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996600"/>
                </a:solidFill>
                <a:latin typeface="Kristen ITC"/>
              </a:rPr>
              <a:t>Weg mensonterende Hong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16720" y="476280"/>
            <a:ext cx="2033640" cy="226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0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573408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3399ff"/>
                </a:solidFill>
                <a:latin typeface="Kristen ITC"/>
              </a:rPr>
              <a:t>OVERVLOED voor iederee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100480" cy="51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5472000" cy="5432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637236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6600"/>
                </a:solidFill>
                <a:latin typeface="Kristen ITC"/>
              </a:rPr>
              <a:t>VR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2700360" cy="3627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5" name=""/>
          <p:cNvSpPr txBox="1"/>
          <p:nvPr/>
        </p:nvSpPr>
        <p:spPr>
          <a:xfrm rot="752400">
            <a:off x="0" y="4149360"/>
            <a:ext cx="46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N.E.S.A.R.A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373720"/>
            <a:ext cx="52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6600"/>
                </a:solidFill>
                <a:latin typeface="Kristen ITC"/>
              </a:rPr>
              <a:t>Vrijheid – Gelijkheid - Broed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 rot="20826600">
            <a:off x="536400" y="972720"/>
            <a:ext cx="2629080" cy="135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Papyrus"/>
              </a:rPr>
              <a:t>Golden Age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Papyrus"/>
              <a:ea typeface="Papyrus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3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0" y="436572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333399"/>
                </a:solidFill>
                <a:latin typeface="Kristen ITC"/>
              </a:rPr>
              <a:t>Samen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553440" cy="481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11280" y="566100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558972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9900cc"/>
                </a:solidFill>
                <a:latin typeface="Kristen ITC"/>
              </a:rPr>
              <a:t>Gelijkwaard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4005360"/>
            <a:ext cx="3276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3399ff"/>
                </a:solidFill>
                <a:latin typeface="Kristen ITC"/>
              </a:rPr>
              <a:t>want wij zijn </a:t>
            </a:r>
            <a:r>
              <a:rPr b="1" lang="nl-BE" sz="4400" spc="-1" strike="noStrike">
                <a:solidFill>
                  <a:srgbClr val="3399ff"/>
                </a:solidFill>
                <a:latin typeface="Kristen ITC"/>
              </a:rPr>
              <a:t>één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184720" cy="633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 rot="21178200">
            <a:off x="3924000" y="2636640"/>
            <a:ext cx="149868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5492880" cy="640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65480" y="0"/>
            <a:ext cx="597852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 rot="20773200">
            <a:off x="826560" y="3213000"/>
            <a:ext cx="6767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Denk met je HART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3132000" cy="291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8000" y="566100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Kristen ITC"/>
              </a:rPr>
              <a:t>Onze AAR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24000" y="6021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Kristen ITC"/>
              </a:rPr>
              <a:t>Voel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8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0769600">
            <a:off x="1991880" y="1349280"/>
            <a:ext cx="56674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Papyrus"/>
              </a:rPr>
              <a:t>Een Nieuwe Dageraad...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Papyrus"/>
              <a:ea typeface="Papyru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07280" cy="6207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476360" y="98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99cc"/>
                </a:solidFill>
                <a:latin typeface="Kristen ITC"/>
              </a:rPr>
              <a:t>Leef met een  glimla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33 E">
                                      <p:cBhvr>
                                        <p:cTn id="202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810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21182400">
            <a:off x="0" y="2952720"/>
            <a:ext cx="3676680" cy="3905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867280" y="63388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9900cc"/>
                </a:solidFill>
                <a:latin typeface="Kristen ITC"/>
              </a:rPr>
              <a:t>Bewon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08720" cy="6193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732720" y="1557360"/>
            <a:ext cx="2411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00"/>
                </a:solidFill>
                <a:latin typeface="Kristen ITC"/>
              </a:rPr>
              <a:t>P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00"/>
                </a:solidFill>
                <a:latin typeface="Kristen ITC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0000"/>
                </a:solidFill>
                <a:latin typeface="Kristen ITC"/>
              </a:rPr>
              <a:t>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916360" y="6381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Lucida Calligraphy"/>
              </a:rPr>
              <a:t>heaven is 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614520" y="-171360"/>
            <a:ext cx="9939600" cy="755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181080" y="3645000"/>
            <a:ext cx="3851280" cy="3436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609300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9900cc"/>
                </a:solidFill>
                <a:latin typeface="Kristen ITC"/>
              </a:rPr>
              <a:t>See you in HEAVE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24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0" y="69228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d60093"/>
                </a:solidFill>
                <a:latin typeface="Kristen ITC"/>
              </a:rPr>
              <a:t>HEAVEN is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5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10153440" cy="710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9" name=""/>
          <p:cNvSpPr txBox="1"/>
          <p:nvPr/>
        </p:nvSpPr>
        <p:spPr>
          <a:xfrm>
            <a:off x="250920" y="1989000"/>
            <a:ext cx="468144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Kristen ITC"/>
              </a:rPr>
              <a:t>VREDE is hemels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5805360"/>
            <a:ext cx="489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Kristen ITC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5877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Kristen ITC"/>
              </a:rPr>
              <a:t>lightchild@live.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364000" y="6021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996600"/>
                </a:solidFill>
                <a:latin typeface="Kristen ITC"/>
              </a:rPr>
              <a:t>Onze WER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16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971640" y="5589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Kristen ITC"/>
              </a:rPr>
              <a:t>Allemaal lichtpuntj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92360" y="260280"/>
            <a:ext cx="5688000" cy="5308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80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Kristen ITC"/>
              </a:rPr>
              <a:t>Aarderaster: krachtpunten / krachtlij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260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ff"/>
                </a:solidFill>
                <a:latin typeface="Kristen ITC"/>
              </a:rPr>
              <a:t>Éénhei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780000" y="3068640"/>
            <a:ext cx="133344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561440" cy="602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187280" y="5877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333399"/>
                </a:solidFill>
                <a:latin typeface="Kristen ITC"/>
              </a:rPr>
              <a:t>Een</a:t>
            </a:r>
            <a:r>
              <a:rPr b="1" lang="nl-BE" sz="3200" spc="-1" strike="noStrike">
                <a:solidFill>
                  <a:srgbClr val="bbe0e3"/>
                </a:solidFill>
                <a:latin typeface="Kristen ITC"/>
              </a:rPr>
              <a:t> </a:t>
            </a:r>
            <a:r>
              <a:rPr b="1" lang="nl-BE" sz="3200" spc="-1" strike="noStrike">
                <a:solidFill>
                  <a:srgbClr val="ffffff"/>
                </a:solidFill>
                <a:latin typeface="Kristen ITC"/>
              </a:rPr>
              <a:t>Nieuwe Wereld wacht</a:t>
            </a:r>
            <a:r>
              <a:rPr b="1" lang="nl-BE" sz="3200" spc="-1" strike="noStrike">
                <a:solidFill>
                  <a:srgbClr val="bbe0e3"/>
                </a:solidFill>
                <a:latin typeface="Kristen ITC"/>
              </a:rPr>
              <a:t> </a:t>
            </a:r>
            <a:r>
              <a:rPr b="1" lang="nl-BE" sz="3200" spc="-1" strike="noStrike">
                <a:solidFill>
                  <a:srgbClr val="333399"/>
                </a:solidFill>
                <a:latin typeface="Kristen ITC"/>
              </a:rPr>
              <a:t>on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00720" y="5805360"/>
            <a:ext cx="43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048360" cy="4538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971640" y="5516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6600"/>
                </a:solidFill>
                <a:latin typeface="Kristen ITC"/>
              </a:rPr>
              <a:t>Waar IEDER  zichzelf mag zij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26920" y="59500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9999"/>
                </a:solidFill>
                <a:latin typeface="Kristen ITC"/>
              </a:rPr>
              <a:t>Einde van “Macht”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657600" cy="5227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21179400">
            <a:off x="5148000" y="3141360"/>
            <a:ext cx="2746440" cy="2368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808800">
            <a:off x="5292360" y="549000"/>
            <a:ext cx="144000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06:12Z</dcterms:created>
  <dc:creator>SERAPHINE</dc:creator>
  <dc:description/>
  <dc:language>en-US</dc:language>
  <cp:lastModifiedBy>SERAPHINE</cp:lastModifiedBy>
  <dcterms:modified xsi:type="dcterms:W3CDTF">2009-09-16T16:14:08Z</dcterms:modified>
  <cp:revision>48</cp:revision>
  <dc:subject/>
  <dc:title>Dia 1</dc:title>
</cp:coreProperties>
</file>