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DBF-C7FB-4A2A-989D-07B2C09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B56-A9CA-4449-A0D1-6DC994D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403-9B09-4D02-99B0-B98A258E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807-18FF-4C5A-939A-EB7BC9B6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530-BBFD-421D-AB26-99792FC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E49-8481-454C-9474-74A1AFB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3BE-9476-4125-B5B6-C8E22384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3F5-010B-47F5-B3E6-545A87D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F8B-F34E-4129-B9EE-CC061F05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711-C96B-4B42-9C45-B73C0C6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485-BEE4-4520-A987-2E39B73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056-1639-463C-9279-50EDBAA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9B37-89EB-4C3D-B1D3-52FB50E49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365200" cy="315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1765440"/>
            <a:ext cx="6443640" cy="509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3645000"/>
            <a:ext cx="86756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sileke we hebben al 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zooo veel meegemaakt...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633400" cy="3513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7280" y="3284640"/>
            <a:ext cx="2525760" cy="337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8697800">
            <a:off x="1564200" y="2907000"/>
            <a:ext cx="61214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foto'tjs trek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6360" y="189000"/>
            <a:ext cx="291456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916000" cy="38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84720" y="189000"/>
            <a:ext cx="2914920" cy="388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4724280"/>
            <a:ext cx="597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gedanst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89040" cy="452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9647600">
            <a:off x="4572000" y="3789360"/>
            <a:ext cx="4890960" cy="33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ms beetje ruzi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ar ge weet door wie 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19801800">
            <a:off x="4246200" y="3018960"/>
            <a:ext cx="280836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Î       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4332000">
            <a:off x="758520" y="690480"/>
            <a:ext cx="7458120" cy="559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4000" y="260280"/>
            <a:ext cx="76327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dom/zot gedaa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247176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0280" y="0"/>
            <a:ext cx="3303720" cy="297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9345200">
            <a:off x="468360" y="0"/>
            <a:ext cx="1504800" cy="346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119200">
            <a:off x="1332000" y="2133360"/>
            <a:ext cx="72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.music is our life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20281200">
            <a:off x="-828360" y="1267920"/>
            <a:ext cx="8496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...moviefreak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16000" cy="14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467160" cy="441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32000" y="4578480"/>
            <a:ext cx="2087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3198600">
            <a:off x="-105840" y="617040"/>
            <a:ext cx="7458120" cy="559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084720" y="549360"/>
            <a:ext cx="2590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mmm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3181800">
            <a:off x="-513000" y="513360"/>
            <a:ext cx="4103640" cy="30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39640" y="4267080"/>
            <a:ext cx="8134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meisj kga je zoo hard missen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ar we blijven beste friendjes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or aaltijd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hing can break us appart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6982200">
            <a:off x="5764320" y="483120"/>
            <a:ext cx="3862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8:07:51Z</dcterms:created>
  <dc:creator>Eline</dc:creator>
  <dc:description/>
  <dc:language>en-US</dc:language>
  <cp:lastModifiedBy>Eline</cp:lastModifiedBy>
  <dcterms:modified xsi:type="dcterms:W3CDTF">2009-02-28T19:13:40Z</dcterms:modified>
  <cp:revision>2</cp:revision>
  <dc:subject/>
  <dc:title>Dia 1</dc:title>
</cp:coreProperties>
</file>