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9.jpeg" ContentType="image/jpeg"/>
  <Override PartName="/ppt/media/image11.png" ContentType="image/pn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29F4-9705-4ADD-A2BE-F23DA9B5B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C60F-3E17-4972-83A1-9BD578F5A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B8878-E70F-4B86-90B3-CA10C52E9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F61F-519C-428E-A752-A694B6B81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813A-A85D-428E-B483-C2A115223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E378-344F-43D6-8029-DCF48276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8E0C-FB46-4F0F-AAE1-F20E335B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CE90-D32A-470F-A4F4-B28452F08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4C26-D755-4985-BEDA-90B12E335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5D97-4085-41FF-9C2A-6AD95369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B02D-8094-4B02-AC00-30A954413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A409-421E-4D98-9414-EC8F18BB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3BD5-710A-42E0-BD9E-8B1BA67FE0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2365200" cy="31561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2700360" y="1765440"/>
            <a:ext cx="6443640" cy="50925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179280" y="3645000"/>
            <a:ext cx="867564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ff99cc"/>
                </a:solidFill>
                <a:latin typeface="Arial Black"/>
              </a:rPr>
              <a:t>sileke we hebben al </a:t>
            </a:r>
            <a:endParaRPr b="0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ff99cc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66"/>
                  </a:solidFill>
                  <a:miter/>
                </a:ln>
                <a:solidFill>
                  <a:srgbClr val="ff99cc"/>
                </a:solidFill>
                <a:latin typeface="Arial Black"/>
              </a:rPr>
              <a:t>zooo veel meegemaakt...</a:t>
            </a:r>
            <a:endParaRPr b="0" lang="en-US" sz="1800" spc="1" strike="noStrike">
              <a:ln w="9360">
                <a:solidFill>
                  <a:srgbClr val="993366"/>
                </a:solidFill>
                <a:miter/>
              </a:ln>
              <a:solidFill>
                <a:srgbClr val="ff99cc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2633400" cy="3513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407280" y="3284640"/>
            <a:ext cx="2525760" cy="33703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 rot="18697800">
            <a:off x="1564200" y="2907000"/>
            <a:ext cx="6121440" cy="11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..foto'tjs trekn 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06360" y="189000"/>
            <a:ext cx="2914560" cy="38876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203640" y="189000"/>
            <a:ext cx="2916000" cy="3887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6084720" y="189000"/>
            <a:ext cx="2914920" cy="3887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1692360" y="4724280"/>
            <a:ext cx="597672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... gedanst 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3389040" cy="4521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 rot="19647600">
            <a:off x="4572000" y="3789360"/>
            <a:ext cx="4890960" cy="331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soms beetje ruzie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maar ge weet door wie 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 rot="19801800">
            <a:off x="4246200" y="3018960"/>
            <a:ext cx="2808360" cy="14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Î       Î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 rot="4332000">
            <a:off x="758520" y="690480"/>
            <a:ext cx="7458120" cy="55911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324000" y="260280"/>
            <a:ext cx="7632720" cy="181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... dom/zot gedaan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403280" y="2471760"/>
            <a:ext cx="4386240" cy="43862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5840280" y="0"/>
            <a:ext cx="3303720" cy="29750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 rot="19345200">
            <a:off x="468360" y="0"/>
            <a:ext cx="1504800" cy="34686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 rot="2119200">
            <a:off x="1332000" y="2133360"/>
            <a:ext cx="723564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..music is our life..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 rot="20281200">
            <a:off x="-828360" y="1267920"/>
            <a:ext cx="8496360" cy="33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...moviefreaks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2016000" cy="14652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5508720" y="2205000"/>
            <a:ext cx="3467160" cy="44197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3132000" y="4578480"/>
            <a:ext cx="208764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 rot="3198600">
            <a:off x="-105840" y="617040"/>
            <a:ext cx="7458120" cy="5591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6084720" y="549360"/>
            <a:ext cx="25909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... mmm 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 rot="3181800">
            <a:off x="-513000" y="513360"/>
            <a:ext cx="4103640" cy="30765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539640" y="4267080"/>
            <a:ext cx="81345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...meisj kga je zoo hard missen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maar we blijven beste friendjes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voor aaltijd!!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nothing can break us appart!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 rot="6982200">
            <a:off x="5764320" y="483120"/>
            <a:ext cx="38624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8T18:07:51Z</dcterms:created>
  <dc:creator>Eline</dc:creator>
  <dc:description/>
  <dc:language>en-US</dc:language>
  <cp:lastModifiedBy>Eline</cp:lastModifiedBy>
  <dcterms:modified xsi:type="dcterms:W3CDTF">2009-02-28T19:13:40Z</dcterms:modified>
  <cp:revision>2</cp:revision>
  <dc:subject/>
  <dc:title>Dia 1</dc:title>
</cp:coreProperties>
</file>