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wave_enya_only_time.wav" ContentType="audio/x-wav"/>
  <Override PartName="/ppt/media/image7.jpeg" ContentType="image/jpeg"/>
  <Override PartName="/ppt/media/image11.png" ContentType="image/png"/>
  <Override PartName="/ppt/media/image1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E58E-BC08-4337-802E-18B7B078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AF4F-7830-4BE7-86CB-9C1F6F98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1CF4-4BE5-44A4-B6AA-715C30BE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176C-8D8E-414D-A3C0-2971FEE9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9A9-CEF1-4237-AA49-9FBD5B3F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0F6C-087B-48F6-8422-E03ECCDD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37C-055F-43A7-A655-82DA8B7D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F45-B2F3-49A4-BBAA-36126F46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5BA-2969-4548-A781-CDAFB8A5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182E-0083-46BC-8FA4-2BE17ACD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A4BA-13F6-4E52-9636-2306C3EB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536-90CB-4CB0-9ED2-CD9C5EBC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B6D1-055C-4725-A0B6-50FB243519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ave_enya_only_tim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20_2[1]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285840" y="214200"/>
            <a:ext cx="8496360" cy="6372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380880" y="500040"/>
            <a:ext cx="87631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c000"/>
                </a:solidFill>
                <a:latin typeface="Castellar"/>
              </a:rPr>
              <a:t>WAT BETEKENT</a:t>
            </a:r>
            <a:endParaRPr b="0" lang="en-US" sz="6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c000"/>
                </a:solidFill>
                <a:latin typeface="Castellar"/>
              </a:rPr>
              <a:t>STERK ZIJN ?</a:t>
            </a:r>
            <a:endParaRPr b="0" lang="en-US" sz="66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500120" y="3071880"/>
            <a:ext cx="66438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getphoto3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61722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MX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terk zijn is zwijgen terwijl het ideaal zou zijn al zijn angst en vertwijfeling er eens </a:t>
            </a:r>
            <a:br>
              <a:rPr sz="4000"/>
            </a:br>
            <a:r>
              <a:rPr b="0" lang="es-MX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uit te gooi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6" descr="wowowowo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4868640"/>
            <a:ext cx="789912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terk zijn is troosten terwijl men zelf steun en bemoediging nodig hee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-74628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2204640"/>
            <a:ext cx="37832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7e9bba"/>
                </a:solidFill>
                <a:latin typeface="Comic Sans MS"/>
                <a:ea typeface="Times New Roman"/>
              </a:rPr>
              <a:t>Sterk zijn is een geloofsover-</a:t>
            </a:r>
            <a:br>
              <a:rPr sz="4000"/>
            </a:br>
            <a:r>
              <a:rPr b="0" lang="es-MX" sz="4000" spc="-1" strike="noStrike">
                <a:solidFill>
                  <a:srgbClr val="7e9bba"/>
                </a:solidFill>
                <a:latin typeface="Comic Sans MS"/>
                <a:ea typeface="Times New Roman"/>
              </a:rPr>
              <a:t>tuiging hebben hoewel men er niet in geloo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8" descr="dd[1]"/>
          <p:cNvPicPr/>
          <p:nvPr/>
        </p:nvPicPr>
        <p:blipFill>
          <a:blip r:embed="rId1"/>
          <a:stretch/>
        </p:blipFill>
        <p:spPr>
          <a:xfrm>
            <a:off x="4273560" y="333360"/>
            <a:ext cx="4565520" cy="6191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89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324000" y="476280"/>
            <a:ext cx="327636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Zelfs als het leven een harde en moeilijke realiteit schijnt te zijn :</a:t>
            </a:r>
            <a:endParaRPr b="0" lang="en-US" sz="3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HEB LIEF </a:t>
            </a:r>
            <a:endParaRPr b="0" lang="en-US" sz="3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EN WEES STERK!</a:t>
            </a:r>
            <a:endParaRPr b="0" lang="en-US" sz="36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20_2[1]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380880" y="0"/>
            <a:ext cx="87631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500120" y="3000240"/>
            <a:ext cx="66438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ffff"/>
                </a:solidFill>
                <a:latin typeface="Comic Sans MS"/>
              </a:rPr>
              <a:t>De sterkste mens is niet hij die de meeste kracht heeft, maar die het meest volhardt.</a:t>
            </a:r>
            <a:endParaRPr b="0" lang="en-US" sz="41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20_2[1]"/>
          <p:cNvPicPr/>
          <p:nvPr/>
        </p:nvPicPr>
        <p:blipFill>
          <a:blip r:embed="rId1"/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304920" y="1523880"/>
            <a:ext cx="2712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33cc"/>
                </a:solidFill>
                <a:latin typeface="Comic Sans MS"/>
              </a:rPr>
              <a:t>Sterk zijn is in stilte van iemand houden. </a:t>
            </a: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  <p:sndAc>
      <p:stSnd>
        <p:snd r:embed="rId2" name="wave_enya_only_time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wooooooooo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terk zijn is stralen van geluk terwijl men ongelukkig 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6516720" y="333360"/>
            <a:ext cx="262728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78d8d"/>
                </a:solidFill>
                <a:latin typeface="Comic Sans MS"/>
              </a:rPr>
              <a:t>Sterk zijn is iemand proberen  te vergeven die het niet verdient.</a:t>
            </a: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  <p:pic>
        <p:nvPicPr>
          <p:cNvPr id="51" name="Picture 7" descr="5420_2[1]"/>
          <p:cNvPicPr/>
          <p:nvPr/>
        </p:nvPicPr>
        <p:blipFill>
          <a:blip r:embed="rId1"/>
          <a:stretch/>
        </p:blipFill>
        <p:spPr>
          <a:xfrm>
            <a:off x="144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38" descr="sad_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08428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terk zijn is blijven wachten op genezing terwijl men er niet meer in geloof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385128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erk zijn is kalm blijven in tijden van wanhoo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__20_2[1]"/>
          <p:cNvPicPr/>
          <p:nvPr/>
        </p:nvPicPr>
        <p:blipFill>
          <a:blip r:embed="rId1"/>
          <a:stretch/>
        </p:blipFill>
        <p:spPr>
          <a:xfrm>
            <a:off x="3962520" y="297000"/>
            <a:ext cx="4570200" cy="6264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047"/>
          <p:cNvSpPr/>
          <p:nvPr/>
        </p:nvSpPr>
        <p:spPr>
          <a:xfrm>
            <a:off x="5724360" y="1484280"/>
            <a:ext cx="3106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omic Sans MS"/>
              </a:rPr>
              <a:t>Sterk zijn is opgewekt zijn terwijl men zich lusteloos voelt. </a:t>
            </a: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  <p:pic>
        <p:nvPicPr>
          <p:cNvPr id="57" name="Picture 1049" descr="CAW3ONCJ[1]"/>
          <p:cNvPicPr/>
          <p:nvPr/>
        </p:nvPicPr>
        <p:blipFill>
          <a:blip r:embed="rId1"/>
          <a:stretch/>
        </p:blipFill>
        <p:spPr>
          <a:xfrm>
            <a:off x="0" y="0"/>
            <a:ext cx="54738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8" descr="getphoto51[1]"/>
          <p:cNvPicPr/>
          <p:nvPr/>
        </p:nvPicPr>
        <p:blipFill>
          <a:blip r:embed="rId1"/>
          <a:stretch/>
        </p:blipFill>
        <p:spPr>
          <a:xfrm>
            <a:off x="0" y="0"/>
            <a:ext cx="5472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6"/>
          <p:cNvSpPr/>
          <p:nvPr/>
        </p:nvSpPr>
        <p:spPr>
          <a:xfrm>
            <a:off x="5638680" y="1484280"/>
            <a:ext cx="29718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omic Sans MS"/>
              </a:rPr>
              <a:t>Sterk zijn is glimlachen terwijl men wenst te huilen. </a:t>
            </a: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50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859280" y="1916280"/>
            <a:ext cx="39798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Comic Sans MS"/>
              </a:rPr>
              <a:t>Sterk zijn is iemand gelukkig maken terwijl men zelf een gebroken hart heeft.</a:t>
            </a: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1:24:13Z</dcterms:created>
  <dc:creator>CHOPIN</dc:creator>
  <dc:description/>
  <dc:language>en-US</dc:language>
  <cp:lastModifiedBy> Gebruiker</cp:lastModifiedBy>
  <dcterms:modified xsi:type="dcterms:W3CDTF">2009-02-25T20:46:37Z</dcterms:modified>
  <cp:revision>12</cp:revision>
  <dc:subject/>
  <dc:title>Diapositive 1</dc:title>
</cp:coreProperties>
</file>