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A1D-210D-4638-A922-FB05749B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6B4-1250-4557-8BBC-8A1F85F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468-148D-4C25-8B73-95055792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C3B-EF5F-4B74-AC7F-13E61A34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E5C-37B0-4E98-944A-528A07E7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D24-0691-476A-B9C0-71350B5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8D5-EC34-4017-AE2E-1697AEFA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AB9-45DB-4DF0-A855-BDE241EF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614-B84C-4308-B81B-702A1CDF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D46-B604-47CD-AC2C-BA9D7C6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E7A-4942-4918-BFEB-80F2C3A7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16B-1E06-47A5-877D-5B57A639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B74-F9FE-404E-99B5-4A2CA9B08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BZN%20-%20Eleni%20(Tol%20en%20Tol).wav" TargetMode="External"/><Relationship Id="rId3" Type="http://schemas.microsoft.com/office/2007/relationships/media" Target="file:///tmp/home/.config/libreoffice/4/user/gallery/BZN%20-%20Eleni%20(Tol%20en%20Tol)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0920" y="6381720"/>
            <a:ext cx="2933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ziek Tol &amp; To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1592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Overal ter wereld is 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het wonder der natuur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51160" y="5373720"/>
            <a:ext cx="602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an zal het nooit meer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orden zoals het was.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40" y="189000"/>
            <a:ext cx="881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 voor een ieder dez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ndeling een goede les mag zijn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1592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iet van alle kleine ding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ok al is je leven soms wat lastig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1524240" cy="552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148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ls je  maar oog </a:t>
            </a:r>
            <a:br>
              <a:rPr sz="3600"/>
            </a:b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voor de schepping heb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2205000"/>
            <a:ext cx="338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300640"/>
            <a:ext cx="517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niet van alles om je heen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87700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rgen kan het wel anders zij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5445000"/>
            <a:ext cx="656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eniet van een wandeling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langs een mooi stran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445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je hart gaat uit na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en prachtige oude stad!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58752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niet van al die mooie d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76560" y="216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1920" y="5516640"/>
            <a:ext cx="537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Want als je denkt, dat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doe ik morgen w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7840" y="2168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9080" y="566100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n het wel eens te laat zijn..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08:09Z</dcterms:created>
  <dc:creator>Ann</dc:creator>
  <dc:description/>
  <dc:language>en-US</dc:language>
  <cp:lastModifiedBy>paul</cp:lastModifiedBy>
  <dcterms:modified xsi:type="dcterms:W3CDTF">2008-07-25T18:12:09Z</dcterms:modified>
  <cp:revision>17</cp:revision>
  <dc:subject/>
  <dc:title>Dia 1</dc:title>
</cp:coreProperties>
</file>