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BA8-8EB2-49A2-B85C-84E7E572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493-8F9F-4CBD-9CFA-4BE79891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971-874C-4105-AD6E-5C2C5AF12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DB3-5CC0-431A-B8DD-D8959C18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E13-698E-483C-8BD3-BAC2EFA4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30C-D278-4C7B-A5D5-0195584E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FED-CC5F-4B37-B134-54AEB17E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9BE-77F8-4D8E-886A-CF459B6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436A-A8B0-4DD6-8EA3-1C1FA8B7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5C7-476F-4C32-BAD5-BFBF6E4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164-0EF3-4D75-8A0F-470B831E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045-9987-41FF-8FA2-DA00272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EBC9-13B5-45A9-BC39-939181CE4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BZN%20-%20Eleni%20(Tol%20en%20Tol).wav" TargetMode="External"/><Relationship Id="rId3" Type="http://schemas.microsoft.com/office/2007/relationships/media" Target="file:///tmp/home/.config/libreoffice/4/user/gallery/BZN%20-%20Eleni%20(Tol%20en%20Tol)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50920" y="6381720"/>
            <a:ext cx="29336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uziek Tol &amp; To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1592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Overal ter wereld is 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het wonder der natuur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51160" y="5373720"/>
            <a:ext cx="602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Dan zal het nooit meer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orden zoals het was.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440" y="189000"/>
            <a:ext cx="881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 voor een ieder dez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andeling een goede les mag zijn.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1592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iet van alle kleine ding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ok al is je leven soms wat lastig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1524240" cy="5526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lus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148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Als je  maar oog </a:t>
            </a:r>
            <a:br>
              <a:rPr sz="3600"/>
            </a:b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voor de schepping heb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2205000"/>
            <a:ext cx="3384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3640" y="5300640"/>
            <a:ext cx="517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niet van alles om je heen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87700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rgen kan het wel anders zij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5445000"/>
            <a:ext cx="656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Geniet van een wandeling 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langs een mooi stran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5445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je hart gaat uit na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en prachtige oude stad!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9280" y="587520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niet van al die mooie d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76560" y="216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1920" y="5516640"/>
            <a:ext cx="537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Want als je denkt, dat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Arial"/>
              </a:rPr>
              <a:t>doe ik morgen w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47840" y="2168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19080" y="5661000"/>
            <a:ext cx="74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n het wel eens te laat zijn..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plus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8:08:09Z</dcterms:created>
  <dc:creator>Ann</dc:creator>
  <dc:description/>
  <dc:language>en-US</dc:language>
  <cp:lastModifiedBy>paul</cp:lastModifiedBy>
  <dcterms:modified xsi:type="dcterms:W3CDTF">2008-07-25T18:12:09Z</dcterms:modified>
  <cp:revision>17</cp:revision>
  <dc:subject/>
  <dc:title>Dia 1</dc:title>
</cp:coreProperties>
</file>