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e_enya_only_time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03A1-1DE5-43AB-A4FE-00FED6B4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881-B7E6-4E8B-9FE9-DAC62EB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4E7-2F25-4E5C-8FD6-74278D3C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070-51EF-4E20-88BD-3792EE74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C85-3067-4EB6-85B8-31AAFE4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3FB-8F43-4F57-A27B-B67F8E85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C04-0297-4B63-9B2D-5A006FED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617-BA91-4844-BEC7-B043CCB9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9A4-6EFF-43CD-BEDE-AE6F752A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1BE7-2441-4640-A49E-8C85FF91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54A-8EA5-48E1-8A01-3C126FF9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6E8-802C-4191-B167-9AC02CA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7798-C01A-447A-B251-BB457B56FB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e_enya_only_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285840" y="214200"/>
            <a:ext cx="849636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0880" y="500040"/>
            <a:ext cx="8763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WAT BETEKENT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STERK ZIJN ?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getphoto3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zwijgen terwijl het ideaal zou zijn al zijn angst en vertwijfeling er eens </a:t>
            </a: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uit te goo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wowowow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89912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erk zijn is troosten terwijl men zelf steun en bemoediging nodig he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832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Sterk zijn is een geloofsover-</a:t>
            </a:r>
            <a:br>
              <a:rPr sz="4000"/>
            </a:b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tuiging hebben hoewel men er niet in geloo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dd[1]"/>
          <p:cNvPicPr/>
          <p:nvPr/>
        </p:nvPicPr>
        <p:blipFill>
          <a:blip r:embed="rId1"/>
          <a:stretch/>
        </p:blipFill>
        <p:spPr>
          <a:xfrm>
            <a:off x="4273560" y="333360"/>
            <a:ext cx="4565520" cy="619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89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24000" y="476280"/>
            <a:ext cx="3276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Zelfs als het leven een harde en moeilijke realiteit schijnt te zijn :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HEB LIEF 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N WEES STERK!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380880" y="0"/>
            <a:ext cx="8763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00120" y="3000240"/>
            <a:ext cx="6643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</a:rPr>
              <a:t>De sterkste mens is niet hij die de meeste kracht heeft, maar die het meest volhardt.</a:t>
            </a: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20_2[1]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1523880"/>
            <a:ext cx="27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cc"/>
                </a:solidFill>
                <a:latin typeface="Comic Sans MS"/>
              </a:rPr>
              <a:t>Sterk zijn is in stilte van iemand houd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  <p:sndAc>
      <p:stSnd>
        <p:snd r:embed="rId2" name="wave_enya_only_tim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woooooooo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stralen van geluk terwijl men ongelukkig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516720" y="333360"/>
            <a:ext cx="2627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78d8d"/>
                </a:solidFill>
                <a:latin typeface="Comic Sans MS"/>
              </a:rPr>
              <a:t>Sterk zijn is iemand proberen  te vergeven die het niet verdien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1" name="Picture 7" descr="5420_2[1]"/>
          <p:cNvPicPr/>
          <p:nvPr/>
        </p:nvPicPr>
        <p:blipFill>
          <a:blip r:embed="rId1"/>
          <a:stretch/>
        </p:blipFill>
        <p:spPr>
          <a:xfrm>
            <a:off x="144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38" descr="sad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08428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blijven wachten op genezing terwijl men er niet meer in geloof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385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rk zijn is kalm blijven in tijden van wanho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_20_2[1]"/>
          <p:cNvPicPr/>
          <p:nvPr/>
        </p:nvPicPr>
        <p:blipFill>
          <a:blip r:embed="rId1"/>
          <a:stretch/>
        </p:blipFill>
        <p:spPr>
          <a:xfrm>
            <a:off x="3962520" y="297000"/>
            <a:ext cx="4570200" cy="62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47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opgewekt zijn terwijl men zich lusteloos voelt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7" name="Picture 1049" descr="CAW3ONCJ[1]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getphoto51[1]"/>
          <p:cNvPicPr/>
          <p:nvPr/>
        </p:nvPicPr>
        <p:blipFill>
          <a:blip r:embed="rId1"/>
          <a:stretch/>
        </p:blipFill>
        <p:spPr>
          <a:xfrm>
            <a:off x="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6"/>
          <p:cNvSpPr/>
          <p:nvPr/>
        </p:nvSpPr>
        <p:spPr>
          <a:xfrm>
            <a:off x="5638680" y="1484280"/>
            <a:ext cx="2971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glimlachen terwijl men wenst te huil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5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59280" y="1916280"/>
            <a:ext cx="3979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</a:rPr>
              <a:t>Sterk zijn is iemand gelukkig maken terwijl men zelf een gebroken hart heef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24:13Z</dcterms:created>
  <dc:creator>CHOPIN</dc:creator>
  <dc:description/>
  <dc:language>en-US</dc:language>
  <cp:lastModifiedBy> Gebruiker</cp:lastModifiedBy>
  <dcterms:modified xsi:type="dcterms:W3CDTF">2009-02-25T20:46:37Z</dcterms:modified>
  <cp:revision>12</cp:revision>
  <dc:subject/>
  <dc:title>Diapositive 1</dc:title>
</cp:coreProperties>
</file>