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7.png" ContentType="image/png"/>
  <Override PartName="/ppt/media/image16.gif" ContentType="image/gif"/>
  <Override PartName="/ppt/media/image13.jpeg" ContentType="image/jpeg"/>
  <Override PartName="/ppt/media/image4.png" ContentType="image/png"/>
  <Override PartName="/ppt/media/image1.jpeg" ContentType="image/jpeg"/>
  <Override PartName="/ppt/media/image14.png" ContentType="image/png"/>
  <Override PartName="/ppt/media/Sax%2001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987-FD57-42F1-99D2-743932D6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39A-55D5-4CD1-92F1-E2B08D15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AE5-6FD9-4121-8CBA-12739FB0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87E-B77D-4A35-851A-65558414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8E0-CE21-429D-9060-D44FD86A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7FC-CC31-4DCB-94BE-AF437E2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ADC-211D-4AF6-A67B-BA5B7AC1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2A1-D9DA-4A6F-A234-A415F6E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F7E-0EF6-41ED-A2DF-EB8D9D72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BD1-B31E-4352-8A19-501FFCE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D08-7556-458C-A122-5BA8DCAC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520-E054-434B-AD96-B2566F1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AA03-2CE4-4822-8040-3EDE62F9E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x%2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2678040"/>
            <a:ext cx="6516720" cy="168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ITAT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813280" y="532620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00cc"/>
                </a:solidFill>
                <a:latin typeface="Arial Black"/>
              </a:rPr>
              <a:t>Deel 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  <p:sndAc>
      <p:stSnd>
        <p:snd r:embed="rId2" name="Sax%2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6360" y="5021280"/>
            <a:ext cx="8243640" cy="89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Rockmuziek is een levensstroom die zich door de muzikale trillingen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een weg baant naar ons har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1300" spc="-1" strike="noStrike">
                <a:solidFill>
                  <a:srgbClr val="ffffff"/>
                </a:solidFill>
                <a:latin typeface="Arial"/>
              </a:rPr>
              <a:t>Bram van Vel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6920" y="225000"/>
            <a:ext cx="46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9966ff"/>
                </a:solidFill>
                <a:latin typeface="Arial"/>
              </a:rPr>
              <a:t>“</a:t>
            </a:r>
            <a:r>
              <a:rPr b="0" i="1" lang="nl-BE" sz="1600" spc="-1" strike="noStrike">
                <a:solidFill>
                  <a:srgbClr val="9966ff"/>
                </a:solidFill>
                <a:latin typeface="Arial"/>
              </a:rPr>
              <a:t>Rithme alleen kan al muziek zijn”.  </a:t>
            </a:r>
            <a:r>
              <a:rPr b="0" i="1" lang="nl-BE" sz="1300" spc="-1" strike="noStrike">
                <a:solidFill>
                  <a:srgbClr val="0000ff"/>
                </a:solidFill>
                <a:latin typeface="Arial"/>
              </a:rPr>
              <a:t>T. Billro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400"/>
                            </p:stCondLst>
                            <p:childTnLst>
                              <p:par>
                                <p:cTn id="17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00360" y="2857680"/>
            <a:ext cx="4248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IN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43280" y="2600280"/>
            <a:ext cx="5797440" cy="151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13266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13266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7438320" y="645804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ff"/>
                </a:solidFill>
                <a:latin typeface="Andy"/>
              </a:rPr>
              <a:t>Pps Jo Del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04720" y="6427800"/>
            <a:ext cx="55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ff"/>
                </a:solidFill>
                <a:latin typeface="Andy"/>
              </a:rPr>
              <a:t>Meer citaten op http://members.lycos.nl/muscit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81a18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4840" y="849240"/>
            <a:ext cx="6443640" cy="486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5853240"/>
            <a:ext cx="78483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Zachte muziek wordt honderd mijl ver gehoord</a:t>
            </a:r>
            <a:r>
              <a:rPr b="0" i="1" lang="nl-BE" sz="1600" spc="-1" strike="noStrike">
                <a:solidFill>
                  <a:srgbClr val="008000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008000"/>
                </a:solidFill>
                <a:latin typeface="Arial"/>
              </a:rPr>
              <a:t>Chinees gezeg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101520"/>
            <a:ext cx="61912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Van muziek houden is zich een kwart van zijn geluk reserveren”.</a:t>
            </a:r>
            <a:r>
              <a:rPr b="0" i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008000"/>
                </a:solidFill>
                <a:latin typeface="Arial"/>
              </a:rPr>
              <a:t>Jules Ren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9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5873760"/>
            <a:ext cx="7848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Zonder muziek is het leven een tocht door de woestijn</a:t>
            </a:r>
            <a:r>
              <a:rPr b="0" i="1" lang="nl-BE" sz="1600" spc="-1" strike="noStrike">
                <a:solidFill>
                  <a:srgbClr val="ffff99"/>
                </a:solidFill>
                <a:latin typeface="Arial"/>
              </a:rPr>
              <a:t>”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Pat Conro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01440" y="118440"/>
            <a:ext cx="538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Waar de kracht van het woord eindigt, begint de muziek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88"/>
              </a:spcBef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Richard Wag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6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985680"/>
            <a:ext cx="6838920" cy="453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119160"/>
            <a:ext cx="784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Pianospelen: Dans van de menselijke vingers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Ludwig Wittgenste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532480"/>
            <a:ext cx="8569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Een piano moet een vriend zijn, een soort vertrouwenspersoon </a:t>
            </a:r>
            <a:br>
              <a:rPr sz="1600"/>
            </a:b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die onze heftigheid temper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Felix Lecler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3360"/>
            <a:ext cx="3960720" cy="604836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3680" y="444600"/>
            <a:ext cx="367668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608360" y="225360"/>
            <a:ext cx="424836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Goede muziek heeft niet enkel effect omdat het nieuw is, integendeel.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Hoe meer we ermee bekend zijn, hoe meer de muziek ons raak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lfredo's Dance"/>
              </a:rPr>
              <a:t>Johan Wolfgang Van Goe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3960720" cy="604836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3680" y="444600"/>
            <a:ext cx="367668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608360" y="620640"/>
            <a:ext cx="42483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De schoonheid van de muziek is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zoals die van het licht;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zij is snel, beweeglijk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en onbereikba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lfredo's Dance"/>
              </a:rPr>
              <a:t>Jean-Michel Ja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0560" y="700200"/>
            <a:ext cx="7562880" cy="542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0560" y="679320"/>
            <a:ext cx="7562880" cy="54295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6127920"/>
            <a:ext cx="54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BE" sz="1600" spc="-1" strike="noStrike">
                <a:solidFill>
                  <a:srgbClr val="800000"/>
                </a:solidFill>
                <a:latin typeface="Arial"/>
              </a:rPr>
              <a:t>Muziek begint altijd met stilte</a:t>
            </a: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”.   </a:t>
            </a:r>
            <a:r>
              <a:rPr b="0" i="1" lang="nl-BE" sz="1300" spc="-1" strike="noStrike">
                <a:solidFill>
                  <a:srgbClr val="800000"/>
                </a:solidFill>
                <a:latin typeface="Arial"/>
              </a:rPr>
              <a:t>Mstislav Rostropovi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44280"/>
            <a:ext cx="63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Muziek brengt harmonie in de inwendige mens”. 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Lewis Car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9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90560" y="657360"/>
            <a:ext cx="7562880" cy="536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1640" y="14436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Waar woorden te kort schieten spreekt de muziek”.    </a:t>
            </a: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H. C. Anders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560" y="6027120"/>
            <a:ext cx="7698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Muziek en poëzie zijn de twee vleugels waarop het hart wordt gedragen”. </a:t>
            </a:r>
            <a:br>
              <a:rPr sz="1800"/>
            </a:br>
            <a:br>
              <a:rPr sz="1400"/>
            </a:b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Jo Del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4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7490160" cy="5185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080" y="217440"/>
            <a:ext cx="90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800000"/>
                </a:solidFill>
                <a:latin typeface="Arial"/>
              </a:rPr>
              <a:t>Muziek: ritmische creatie van schoonheid in klanken”.  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Jo Del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6073920"/>
            <a:ext cx="8244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800000"/>
                </a:solidFill>
                <a:latin typeface="Arial"/>
              </a:rPr>
              <a:t>Muziek geeft een ziel aan ons hart en vleugels aan de gedach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Pl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3:21:39Z</dcterms:created>
  <dc:creator>Joseph</dc:creator>
  <dc:description/>
  <dc:language>en-US</dc:language>
  <cp:lastModifiedBy>Smets</cp:lastModifiedBy>
  <dcterms:modified xsi:type="dcterms:W3CDTF">2010-02-10T18:12:33Z</dcterms:modified>
  <cp:revision>214</cp:revision>
  <dc:subject>Gezegden</dc:subject>
  <dc:title>Levens bedenki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astgelegd door">
    <vt:bool>1</vt:bool>
  </property>
</Properties>
</file>