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Track18.wav" ContentType="audio/x-wav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0A1-B871-431F-9E97-DCD8BF85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E5F-E52C-40AE-9A41-633F37E1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554-268E-44B2-AA7E-6C41EB6B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305-5766-46A9-B6A3-8CBBE44C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94C-2388-408B-B95C-EFBBD325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C1A-60E5-4E35-9E89-EDF83F7F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C88-116D-4021-9F23-B459C1CF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2E7-D0E2-49D1-950C-F9D3B3C2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C94-E9B3-404E-B55C-4F57454C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109-3374-4A02-AB6B-C981A3BD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54A-2FB5-4CE9-89AD-63BBC22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9EA-77F5-48CB-9136-FC654B45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02CB-669A-467D-A8FA-4403E70B0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18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92360" y="4724280"/>
            <a:ext cx="4751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trip door Duitsland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split dir="out" orient="vert"/>
    <p:sndAc>
      <p:stSnd>
        <p:snd r:embed="rId2" name="Track18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816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ro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nbertelis</cp:lastModifiedBy>
  <dcterms:modified xsi:type="dcterms:W3CDTF">2011-07-15T16:50:14Z</dcterms:modified>
  <cp:revision>69</cp:revision>
  <dc:subject/>
  <dc:title>een trip door duits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