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Track18.wav" ContentType="audio/x-wav"/>
  <Override PartName="/ppt/media/image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97D-5F8D-41D9-A39C-49C29752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0C1-3C2A-46DD-87BE-C6A545B6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521F-838B-4A41-8145-2FED430A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9B0-6502-4E8D-8692-60FE3290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265-DEF7-48BD-A0C3-006700FF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549-95C2-4144-8372-7ACF1576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CAB-D441-4132-88FB-9119E0B5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22F-A905-424E-8335-3B75EB5E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BDE-5471-41C5-A696-936BCE3F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A4D-BD72-4F9B-8FF0-3F4DA623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C6F-1093-42CC-A5BC-50A0C7E8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C0E-B424-47F2-9C30-FFBA10D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143E-867B-4987-BA2F-DEF53229E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18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92360" y="4724280"/>
            <a:ext cx="47512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trip door Duitsland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7000">
    <p:split dir="out" orient="vert"/>
    <p:sndAc>
      <p:stSnd>
        <p:snd r:embed="rId2" name="Track18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9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816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ro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nbertelis</cp:lastModifiedBy>
  <dcterms:modified xsi:type="dcterms:W3CDTF">2011-07-15T16:50:14Z</dcterms:modified>
  <cp:revision>69</cp:revision>
  <dc:subject/>
  <dc:title>een trip door duits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