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Bolivia%20aymara.wav" ContentType="audio/x-wav"/>
  <Override PartName="/ppt/media/image16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3779-ACE1-499B-9776-96642AFB6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62DE-C63E-4D64-AB5B-2A1653FB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A9B0-3362-4637-B3CC-881000643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63A8-FBC3-4D3A-B695-BB2ABAC1A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D79D-B937-46F3-8D17-0F4F0D12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99E3-38D9-485A-97DE-512255EE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2696-C5C6-4D3C-A11A-99369174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81CE-C536-4B24-8C4F-80A1EFAA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3C37-4E31-4B52-A85A-60C67FD4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E31D-5267-4264-B4B4-B464C2CC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4DE0-FE34-494F-82BC-CDB91B04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865D-E920-49D8-9DB7-1EC3C6C9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672A-F35F-4FA2-90A6-83218BA4E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olivia%20aymar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vigi.beedoo.org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048Paolo036-Peru-Bolivia-Carretera_de_la_Muer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</p:pic>
      <p:sp>
        <p:nvSpPr>
          <p:cNvPr id="42" name="Text Box 4"/>
          <p:cNvSpPr/>
          <p:nvPr/>
        </p:nvSpPr>
        <p:spPr>
          <a:xfrm>
            <a:off x="3183480" y="3573360"/>
            <a:ext cx="4578840" cy="253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00"/>
                </a:solidFill>
                <a:latin typeface="Matura MT Script Capitals"/>
              </a:rPr>
              <a:t>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00"/>
                </a:solidFill>
                <a:latin typeface="Matura MT Script Capitals"/>
              </a:rPr>
              <a:t>DODENWE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Matura MT Script Capitals"/>
              </a:rPr>
              <a:t>in Bolivi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kstvak 3"/>
          <p:cNvSpPr/>
          <p:nvPr/>
        </p:nvSpPr>
        <p:spPr>
          <a:xfrm>
            <a:off x="0" y="6488280"/>
            <a:ext cx="914400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996600"/>
                </a:solidFill>
                <a:latin typeface="Arial"/>
              </a:rPr>
              <a:t>Vertaald uit het Italiaans en het Spaans – Freddy Storm 04/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wedge/>
    <p:sndAc>
      <p:stSnd>
        <p:snd r:embed="rId2" name="Bolivia%20ayma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2.46068E-006 L -0.31892 -0.43617 E">
                                      <p:cBhvr>
                                        <p:cTn id="10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amazing_road_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Carretera_de_la_muerte-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03_g_0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kstvak 2"/>
          <p:cNvSpPr/>
          <p:nvPr/>
        </p:nvSpPr>
        <p:spPr>
          <a:xfrm>
            <a:off x="0" y="6488280"/>
            <a:ext cx="914400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996600"/>
                </a:solidFill>
                <a:latin typeface="Arial"/>
              </a:rPr>
              <a:t>Wie maakt de doorgang vrij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edg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anon_del_pa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kstvak 2"/>
          <p:cNvSpPr/>
          <p:nvPr/>
        </p:nvSpPr>
        <p:spPr>
          <a:xfrm>
            <a:off x="0" y="6488280"/>
            <a:ext cx="914400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996600"/>
                </a:solidFill>
                <a:latin typeface="Arial"/>
              </a:rPr>
              <a:t>Onverlichte tunnel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edg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4354bolivia2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arretera_de_la_muerte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kstvak 3"/>
          <p:cNvSpPr/>
          <p:nvPr/>
        </p:nvSpPr>
        <p:spPr>
          <a:xfrm>
            <a:off x="0" y="6488280"/>
            <a:ext cx="914400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996600"/>
                </a:solidFill>
                <a:latin typeface="Arial"/>
              </a:rPr>
              <a:t>          </a:t>
            </a:r>
            <a:r>
              <a:rPr b="1" i="1" lang="nl-BE" sz="1800" spc="-1" strike="noStrike">
                <a:solidFill>
                  <a:srgbClr val="996600"/>
                </a:solidFill>
                <a:latin typeface="Arial"/>
              </a:rPr>
              <a:t>Hier en daar stootblokken                                   Maar lang niet ov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edg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2351003834_6988b690d4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kstvak 2"/>
          <p:cNvSpPr/>
          <p:nvPr/>
        </p:nvSpPr>
        <p:spPr>
          <a:xfrm>
            <a:off x="0" y="6488280"/>
            <a:ext cx="914400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996600"/>
                </a:solidFill>
                <a:latin typeface="Arial"/>
              </a:rPr>
              <a:t>Op enkele centimeters gaapt de afgrond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edg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407207507_0ff4c0c222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3344676210_2e18693a86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3502314962_5a4b5fe338_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kstvak 2"/>
          <p:cNvSpPr/>
          <p:nvPr/>
        </p:nvSpPr>
        <p:spPr>
          <a:xfrm>
            <a:off x="0" y="6211800"/>
            <a:ext cx="914400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996600"/>
                </a:solidFill>
                <a:latin typeface="Arial"/>
              </a:rPr>
              <a:t>Op deze weg stierven dit jaar 43 mensen. Wees voorzichtig. Ontsteek uw lichten nu en laat ze de ganse reis bran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3502338982_088b9d3fc9_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kstvak 2"/>
          <p:cNvSpPr/>
          <p:nvPr/>
        </p:nvSpPr>
        <p:spPr>
          <a:xfrm>
            <a:off x="0" y="6488280"/>
            <a:ext cx="914400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996600"/>
                </a:solidFill>
                <a:latin typeface="Arial"/>
              </a:rPr>
              <a:t>Langs de weg staan veel kruise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edg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paisajecarretera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207720" y="260280"/>
            <a:ext cx="52009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ze weg loop door het Andesgebergte op 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ogte van 4.700 m. Over een afstand van 64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alt hij naar een hoogte van 1.500 m van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rgen naar de tropische valleien van de Yung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j wordt beschouwd als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DE GEVAARLIJKS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WEG TER WERELD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k jaar verliezen ongeve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 mensen langs die weg het lev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ar het is ook een van de schilderachtigste weg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gs hoge pieken, over in mist gehulde bergpass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gs watervallen en ravijnen. Nauwelijks bre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 een landweg, zonder vangrails, door onverlich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nnels ... Toch wordt de weg dagelijks gebruikt d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nderden voertuigen die vracht en men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voeren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van de tropische valleien naar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hoofdstad LA P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n extra gevaar vormen de naar beneden komen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steenten. In de gevaarlijkste zone, bij de waterval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 San Juan, geldt een regel wanneer twee voertui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kaar moeten kruisen: het dalende voertuig houd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linkerkant van de weg, aan de rand van de afgro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o kan de chauffeur beter de afstand schatten d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ijn wielen scheiden van het ravij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GOEDE REI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DeathRoad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kstvak 2"/>
          <p:cNvSpPr/>
          <p:nvPr/>
        </p:nvSpPr>
        <p:spPr>
          <a:xfrm>
            <a:off x="0" y="6488280"/>
            <a:ext cx="914400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996600"/>
                </a:solidFill>
                <a:latin typeface="Arial"/>
              </a:rPr>
              <a:t>Een van de vele pechvogel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edg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peru0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kstvak 2"/>
          <p:cNvSpPr/>
          <p:nvPr/>
        </p:nvSpPr>
        <p:spPr>
          <a:xfrm>
            <a:off x="0" y="6488280"/>
            <a:ext cx="914400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996600"/>
                </a:solidFill>
                <a:latin typeface="Arial"/>
              </a:rPr>
              <a:t>Claxonneer alvorens de tunnel binnen te rij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edg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3502336482_f620c0ea75_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kstvak 2"/>
          <p:cNvSpPr/>
          <p:nvPr/>
        </p:nvSpPr>
        <p:spPr>
          <a:xfrm>
            <a:off x="0" y="6488280"/>
            <a:ext cx="914400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996600"/>
                </a:solidFill>
                <a:latin typeface="Arial"/>
              </a:rPr>
              <a:t>Wegdek in barslechte staat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edg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amazing_road_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3738343228_d98f4b45a9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kstvak 2"/>
          <p:cNvSpPr/>
          <p:nvPr/>
        </p:nvSpPr>
        <p:spPr>
          <a:xfrm>
            <a:off x="0" y="6488280"/>
            <a:ext cx="914400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996600"/>
                </a:solidFill>
                <a:latin typeface="Arial"/>
              </a:rPr>
              <a:t>Neus aan neu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edg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3847329033_afe1aac9c9_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kstvak 2"/>
          <p:cNvSpPr/>
          <p:nvPr/>
        </p:nvSpPr>
        <p:spPr>
          <a:xfrm>
            <a:off x="0" y="6488280"/>
            <a:ext cx="914400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996600"/>
                </a:solidFill>
                <a:latin typeface="Arial"/>
              </a:rPr>
              <a:t>Vallend gesteente vormt een extra gevaa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edg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amazing_road_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PA1231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kstvak 2"/>
          <p:cNvSpPr/>
          <p:nvPr/>
        </p:nvSpPr>
        <p:spPr>
          <a:xfrm>
            <a:off x="0" y="6488280"/>
            <a:ext cx="914400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996600"/>
                </a:solidFill>
                <a:latin typeface="Arial"/>
              </a:rPr>
              <a:t>Een sensatie voor wielertoeriste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edg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dsc035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2391480" y="4508640"/>
            <a:ext cx="38214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6600"/>
                </a:solidFill>
                <a:latin typeface="Matura MT Script Capitals"/>
              </a:rPr>
              <a:t>E I N D 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6303600" y="623664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vigi.beedoo.or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wedg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64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2.77778E-007 -3.24699E-006 L 0.34028 -0.58996 E">
                                      <p:cBhvr>
                                        <p:cTn id="160" dur="3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487febef000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kstvak 2"/>
          <p:cNvSpPr/>
          <p:nvPr/>
        </p:nvSpPr>
        <p:spPr>
          <a:xfrm>
            <a:off x="0" y="6488280"/>
            <a:ext cx="914400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996600"/>
                </a:solidFill>
                <a:latin typeface="Arial"/>
              </a:rPr>
              <a:t>Nergens vangrail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edg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Yungas_-_Carretera_de_la_Muerte_-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stelvio_pas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kstvak 2"/>
          <p:cNvSpPr/>
          <p:nvPr/>
        </p:nvSpPr>
        <p:spPr>
          <a:xfrm>
            <a:off x="0" y="6488280"/>
            <a:ext cx="914400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996600"/>
                </a:solidFill>
                <a:latin typeface="Arial"/>
              </a:rPr>
              <a:t>Geen gebrek aan haarspeldbochte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66514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sa%20(18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kstvak 2"/>
          <p:cNvSpPr/>
          <p:nvPr/>
        </p:nvSpPr>
        <p:spPr>
          <a:xfrm>
            <a:off x="0" y="6488280"/>
            <a:ext cx="914400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996600"/>
                </a:solidFill>
                <a:latin typeface="Arial"/>
              </a:rPr>
              <a:t>Nauwelijks plaats om elkaar te passere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amazing_road_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62732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kstvak 2"/>
          <p:cNvSpPr/>
          <p:nvPr/>
        </p:nvSpPr>
        <p:spPr>
          <a:xfrm>
            <a:off x="0" y="6488280"/>
            <a:ext cx="914400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996600"/>
                </a:solidFill>
                <a:latin typeface="Arial"/>
              </a:rPr>
              <a:t>Wel doorheen een prachtige natuu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edg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2:40:57Z</dcterms:created>
  <dc:creator>vigi</dc:creator>
  <dc:description/>
  <dc:language>en-US</dc:language>
  <cp:lastModifiedBy>fredje</cp:lastModifiedBy>
  <dcterms:modified xsi:type="dcterms:W3CDTF">2011-04-07T11:48:54Z</dcterms:modified>
  <cp:revision>36</cp:revision>
  <dc:subject/>
  <dc:title>Diapositiva 1</dc:title>
</cp:coreProperties>
</file>