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37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Donau%20Walzer.Joh.Strauss.wav" ContentType="audio/x-wav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8BF-5A1B-434A-887C-8855B5A8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6527-95EC-404E-90A7-9F995141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C5EC-CF5B-4530-AAF3-F031BDCF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95E-AA51-4388-810E-629E51AD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6112-7712-4A40-BA62-5BA14764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321-01F6-4C88-BB70-1336BA41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726-5EA1-4EE1-97BB-556DEEE7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2A4-2DD6-43B5-822F-5C10E359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B97-8DD5-4E44-AC90-1562CB03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26C3-2677-4050-A917-059D1589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CAC-0F1B-4C8A-83D8-544CD193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F06A-4E00-42AD-8DE2-F6A366B8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300A-D098-488E-9D10-C0771FA70ED5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Donau%20Walzer.Joh.Strauss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mailto:werner.drechsler@chello.at?subject=Kaiserstadt" TargetMode="External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48520" y="4572000"/>
            <a:ext cx="1234800" cy="411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62520" y="1981080"/>
            <a:ext cx="1066680" cy="822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19920" y="762120"/>
            <a:ext cx="641160" cy="32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191120" y="304920"/>
            <a:ext cx="76176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624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304920"/>
            <a:ext cx="8458200" cy="632448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096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4.JHdt. Gründung  der  Gatterburg -  spätere  Kattermühle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 1717  Maria  Theresia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780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830  Franz Joseph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916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887  Kaiser  Karl 1.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9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43600" y="2209680"/>
            <a:ext cx="1371600" cy="87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3600" y="320040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943600" y="4114800"/>
            <a:ext cx="6858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943600" y="502920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609480" y="2971800"/>
            <a:ext cx="24336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72200" y="4572000"/>
            <a:ext cx="762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to.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791320" y="487692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51228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5:21:02Z</dcterms:created>
  <dc:creator>../</dc:creator>
  <dc:description/>
  <dc:language>en-US</dc:language>
  <cp:lastModifiedBy>ANI</cp:lastModifiedBy>
  <dcterms:modified xsi:type="dcterms:W3CDTF">2008-01-24T16:35:15Z</dcterms:modified>
  <cp:revision>11</cp:revision>
  <dc:subject/>
  <dc:title>PowerPoint-Präsentation</dc:title>
</cp:coreProperties>
</file>