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37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Donau%20Walzer.Joh.Strauss.wav" ContentType="audio/x-wav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213-2C3B-495E-8F94-2BC77988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316-EC81-421C-A02D-AF2FCF2B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F043-D675-443B-8E82-0CD94E41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38D-825A-4EEE-AEC3-55D068C3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0FC-ABE4-4D34-9AE9-64F96018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6FC-00BB-43B7-97E0-EC5E6A9D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9120-4004-4EED-A2BE-9DF5F471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E06-A808-4BE5-A992-235B1EC4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855F-CFFD-4106-9F6F-6EF26987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394-8F62-409D-B6E9-9FE3377C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BBC-695D-4078-9822-B434F634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57A2-183D-4860-B0B2-3C576F44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42F7-6C9D-4AE1-8C48-72B4781B5A97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Donau%20Walzer.Joh.Strauss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mailto:werner.drechsler@chello.at?subject=Kaiserstadt" TargetMode="External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48520" y="4572000"/>
            <a:ext cx="1234800" cy="411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62520" y="1981080"/>
            <a:ext cx="1066680" cy="822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19920" y="762120"/>
            <a:ext cx="641160" cy="32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191120" y="304920"/>
            <a:ext cx="76176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624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304920"/>
            <a:ext cx="8458200" cy="632448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096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4.JHdt. Gründung  der  Gatterburg -  spätere  Kattermühle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 1717  Maria  Theresia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780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830  Franz Joseph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916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887  Kaiser  Karl 1.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9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43600" y="2209680"/>
            <a:ext cx="1371600" cy="87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3600" y="320040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943600" y="4114800"/>
            <a:ext cx="6858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943600" y="502920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609480" y="2971800"/>
            <a:ext cx="24336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72200" y="4572000"/>
            <a:ext cx="762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to.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791320" y="487692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51228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5:21:02Z</dcterms:created>
  <dc:creator>../</dc:creator>
  <dc:description/>
  <dc:language>en-US</dc:language>
  <cp:lastModifiedBy>ANI</cp:lastModifiedBy>
  <dcterms:modified xsi:type="dcterms:W3CDTF">2008-01-24T16:35:15Z</dcterms:modified>
  <cp:revision>11</cp:revision>
  <dc:subject/>
  <dc:title>PowerPoint-Präsentation</dc:title>
</cp:coreProperties>
</file>