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Treurige%20muziek%20Auswitch.wav" ContentType="audio/x-wav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FE0F-8CB5-4033-8CAB-27642CB31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9D0B-9FF7-4998-8B90-054DD565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2EA0-88C9-4EE1-8266-F1F0D4A8B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505E-1A35-426E-A713-5280F0B42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6F2D-42C1-49BE-8641-54DBA45C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6790-A0B3-443D-9789-34499B30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0018-A025-4E03-96F3-63FB6954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8269-BFCC-4A89-A764-9065C6A0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587C-89AD-49E2-8B03-29BE61DD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0237-B072-4AF5-9F4D-2C343DBC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5BCF-5B83-4C31-920F-86FC4173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63FC-2B05-4286-866A-3B01B846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7576-678B-402B-9641-1A7CC86E3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reurige%20muziek%20Auswitch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randomBar dir="vert"/>
    <p:sndAc>
      <p:stSnd>
        <p:snd r:embed="rId2" name="Treurige%20muziek%20Auswitch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ampsmap" descr=""/>
          <p:cNvPicPr/>
          <p:nvPr/>
        </p:nvPicPr>
        <p:blipFill>
          <a:blip r:embed="rId1"/>
          <a:stretch/>
        </p:blipFill>
        <p:spPr>
          <a:xfrm>
            <a:off x="12600" y="460440"/>
            <a:ext cx="9144000" cy="59371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victim%20map-800" descr=""/>
          <p:cNvPicPr/>
          <p:nvPr/>
        </p:nvPicPr>
        <p:blipFill>
          <a:blip r:embed="rId1"/>
          <a:stretch/>
        </p:blipFill>
        <p:spPr>
          <a:xfrm>
            <a:off x="901800" y="-76320"/>
            <a:ext cx="7175520" cy="70135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Dia3"/>
          <p:cNvPicPr/>
          <p:nvPr/>
        </p:nvPicPr>
        <p:blipFill>
          <a:blip r:embed="rId2"/>
          <a:stretch/>
        </p:blipFill>
        <p:spPr>
          <a:xfrm>
            <a:off x="120600" y="0"/>
            <a:ext cx="9023400" cy="6767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Dia2"/>
          <p:cNvPicPr/>
          <p:nvPr/>
        </p:nvPicPr>
        <p:blipFill>
          <a:blip r:embed="rId2"/>
          <a:stretch/>
        </p:blipFill>
        <p:spPr>
          <a:xfrm>
            <a:off x="0" y="92160"/>
            <a:ext cx="9021600" cy="67658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Pres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6T17:51:47Z</dcterms:created>
  <dc:creator/>
  <dc:description/>
  <dc:language>en-US</dc:language>
  <cp:lastModifiedBy>roda</cp:lastModifiedBy>
  <dcterms:modified xsi:type="dcterms:W3CDTF">2010-01-23T21:03:32Z</dcterms:modified>
  <cp:revision>11</cp:revision>
  <dc:subject/>
  <dc:title>Dia 1</dc:title>
</cp:coreProperties>
</file>