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Treurige%20muziek%20Auswitch.wav" ContentType="audio/x-wav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00B3-EBDC-42C3-93B9-2B0D9FBB7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3BA9-A879-4DD1-AC4C-290669B9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1371-4DD9-4BCC-8362-81A881865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4BF1-3956-4981-9D66-B60ED4BFB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1265-1727-4A18-8FAF-ED00D64F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8008-D284-4EDB-8CCC-BB0681F6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0425-26BE-4742-94D4-FA5C07C5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04C1-9DF4-42D5-A0E5-E814766D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A645-D1C5-49DC-B9BD-464CA987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ECE1-8558-4454-A0FE-6AC406D8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44DB-704D-4552-B408-F73E78D3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B785-16FC-40EF-82D4-2C1640FF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5679-FAAF-4395-B947-51CDCDACD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reurige%20muziek%20Auswitch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randomBar dir="vert"/>
    <p:sndAc>
      <p:stSnd>
        <p:snd r:embed="rId2" name="Treurige%20muziek%20Auswitch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ampsmap" descr=""/>
          <p:cNvPicPr/>
          <p:nvPr/>
        </p:nvPicPr>
        <p:blipFill>
          <a:blip r:embed="rId1"/>
          <a:stretch/>
        </p:blipFill>
        <p:spPr>
          <a:xfrm>
            <a:off x="12600" y="460440"/>
            <a:ext cx="9144000" cy="59371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victim%20map-800" descr=""/>
          <p:cNvPicPr/>
          <p:nvPr/>
        </p:nvPicPr>
        <p:blipFill>
          <a:blip r:embed="rId1"/>
          <a:stretch/>
        </p:blipFill>
        <p:spPr>
          <a:xfrm>
            <a:off x="901800" y="-76320"/>
            <a:ext cx="7175520" cy="70135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Dia3"/>
          <p:cNvPicPr/>
          <p:nvPr/>
        </p:nvPicPr>
        <p:blipFill>
          <a:blip r:embed="rId2"/>
          <a:stretch/>
        </p:blipFill>
        <p:spPr>
          <a:xfrm>
            <a:off x="120600" y="0"/>
            <a:ext cx="9023400" cy="6767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Dia2"/>
          <p:cNvPicPr/>
          <p:nvPr/>
        </p:nvPicPr>
        <p:blipFill>
          <a:blip r:embed="rId2"/>
          <a:stretch/>
        </p:blipFill>
        <p:spPr>
          <a:xfrm>
            <a:off x="0" y="92160"/>
            <a:ext cx="9021600" cy="67658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Pres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6T17:51:47Z</dcterms:created>
  <dc:creator/>
  <dc:description/>
  <dc:language>en-US</dc:language>
  <cp:lastModifiedBy>roda</cp:lastModifiedBy>
  <dcterms:modified xsi:type="dcterms:W3CDTF">2010-01-23T21:03:32Z</dcterms:modified>
  <cp:revision>11</cp:revision>
  <dc:subject/>
  <dc:title>Dia 1</dc:title>
</cp:coreProperties>
</file>