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lisonKrauss_InThePalmOfYourHand.wav" ContentType="audio/x-wav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07B-EE11-4BCD-A219-58DD936A2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9B21-F702-4461-A18A-614F717A9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872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37C-226A-4E88-AE50-46A493C3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0CDE-A50E-45ED-9830-1ECA908D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DB2-853B-461C-9071-3D1912EA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54A-D996-4198-8BCD-C62A7E0A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F52-14FC-497E-944D-63A81329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6EC-E604-4350-80AE-B39246BE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9DD-E0C0-4D2A-9FBA-7BCF913D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94A-6979-4745-8933-5B582890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4B8-2105-4A5A-B565-84C65D74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9A9-7786-435F-AE0A-30808915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DB1-7148-4D02-8268-7D998EA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962-3AFE-49D5-8767-1B18AFEB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D028-005C-4032-B438-E23E9085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lisonKrauss_InThePalmOfYourHa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acred Roses  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114800" y="9144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4000" spc="-1" strike="noStrike">
                <a:solidFill>
                  <a:srgbClr val="ffffff"/>
                </a:solidFill>
                <a:latin typeface="Georgia"/>
              </a:rPr>
              <a:t>Enkele mooie  gedach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/>
    <p:sndAc>
      <p:stSnd>
        <p:snd r:embed="rId2" name="AlisonKrauss_InThePalmOfYourHa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39600" y="-2221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-39600" y="85716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-39600" y="11858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-39600" y="21207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Golden Valley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0" name="Text Box 8"/>
          <p:cNvSpPr/>
          <p:nvPr/>
        </p:nvSpPr>
        <p:spPr>
          <a:xfrm>
            <a:off x="1447920" y="6172200"/>
            <a:ext cx="6172200" cy="33732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elfs in de diepste dalen komt de zon stra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87480" y="-74520"/>
            <a:ext cx="4654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87480" y="1004760"/>
            <a:ext cx="794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-87480" y="1333440"/>
            <a:ext cx="4654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-87480" y="2268360"/>
            <a:ext cx="465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Golden Wave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16" name="Text Box 8"/>
          <p:cNvSpPr/>
          <p:nvPr/>
        </p:nvSpPr>
        <p:spPr>
          <a:xfrm>
            <a:off x="990720" y="5334120"/>
            <a:ext cx="33526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is steeds een onveranderlijke eb en vlo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-90360" y="-4395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-90360" y="639720"/>
            <a:ext cx="77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-90360" y="9684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-90360" y="1903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-79200" y="-1125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-79200" y="-4608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-79200" y="282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-79200" y="1217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Horizon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6" name="Text Box 15"/>
          <p:cNvSpPr/>
          <p:nvPr/>
        </p:nvSpPr>
        <p:spPr>
          <a:xfrm>
            <a:off x="4952880" y="502920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niet verlangen naar een horizon die men nooit            zal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Golden gate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2" name="Text Box 8"/>
          <p:cNvSpPr/>
          <p:nvPr/>
        </p:nvSpPr>
        <p:spPr>
          <a:xfrm>
            <a:off x="4191120" y="5478480"/>
            <a:ext cx="39621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Overbrug diepe waters, het is de enige manier om vrede te bereik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Goldene Pony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8" name="Text Box 8"/>
          <p:cNvSpPr/>
          <p:nvPr/>
        </p:nvSpPr>
        <p:spPr>
          <a:xfrm>
            <a:off x="838080" y="685800"/>
            <a:ext cx="44197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ar dieren in alle rust verblijven kan de vrede van de natuur je verrijk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Documents and Settings\Jean-Marc Cornez\Mes documents\My pictures\vd1MkaRP8pMJ.jpg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0" name="Text Box 3"/>
          <p:cNvSpPr/>
          <p:nvPr/>
        </p:nvSpPr>
        <p:spPr>
          <a:xfrm>
            <a:off x="4800600" y="52578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Tedere gevoelens zijn als een echte verwar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C:\Documents and Settings\Jean-Marc Cornez\Mes documents\My pictures\resizedpaardenkarinbosfg0.jpg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2" name="Text Box 3"/>
          <p:cNvSpPr/>
          <p:nvPr/>
        </p:nvSpPr>
        <p:spPr>
          <a:xfrm>
            <a:off x="4038480" y="990720"/>
            <a:ext cx="39625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bestemming van de rit van het leven gaat gepaard met mag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241200" y="336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41200" y="1415880"/>
            <a:ext cx="62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41200" y="17445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41200" y="2679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trees and path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9" name="Text Box 9"/>
          <p:cNvSpPr/>
          <p:nvPr/>
        </p:nvSpPr>
        <p:spPr>
          <a:xfrm>
            <a:off x="5105520" y="5257800"/>
            <a:ext cx="29718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Wandel onder de bomen, ze zijn de bron van innerlijke kra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Canal du midi, Southern France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5" name="Text Box 8"/>
          <p:cNvSpPr/>
          <p:nvPr/>
        </p:nvSpPr>
        <p:spPr>
          <a:xfrm>
            <a:off x="1143000" y="5029200"/>
            <a:ext cx="304812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even maakt kronkels, de kunst is op het juiste vaarwater te blij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-96840" y="-5317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-96840" y="5475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-96840" y="8762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-96840" y="18111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-98280" y="-907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-98280" y="17136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-98280" y="500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-98280" y="14349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ompanions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65" name="Text Box 16"/>
          <p:cNvSpPr/>
          <p:nvPr/>
        </p:nvSpPr>
        <p:spPr>
          <a:xfrm>
            <a:off x="4191120" y="5486400"/>
            <a:ext cx="4038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Loop niet te snel, de eindstreep van het geluk is niet altijd zichtba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-9360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-93600" y="66204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-9360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-9360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On Golden Pond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81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sp>
        <p:nvSpPr>
          <p:cNvPr id="55" name="Text Box 8"/>
          <p:cNvSpPr/>
          <p:nvPr/>
        </p:nvSpPr>
        <p:spPr>
          <a:xfrm>
            <a:off x="4800600" y="5562720"/>
            <a:ext cx="3505320" cy="580680"/>
          </a:xfrm>
          <a:prstGeom prst="rect">
            <a:avLst/>
          </a:prstGeom>
          <a:solidFill>
            <a:srgbClr val="2116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mooiste dingen in het leven         bloeien soms la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-96840" y="-406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96840" y="673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-96840" y="1001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-96840" y="193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an autumn day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3962520" y="5326200"/>
            <a:ext cx="4343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stroom van liefde die men ontvangt brengt ons naar de bestemm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35080" y="176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35080" y="109692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235080" y="1425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35080" y="23605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Misty Moonlight - Jeff Lew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75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3429000" y="5410080"/>
            <a:ext cx="48769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verandering geeft nieuwe kansen,          men moet ze enkel op tijd weten te grijp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http://www.pixdaus.com/pics/1256093613IngExAg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388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3" name="Text Box 8"/>
          <p:cNvSpPr/>
          <p:nvPr/>
        </p:nvSpPr>
        <p:spPr>
          <a:xfrm>
            <a:off x="685800" y="5562720"/>
            <a:ext cx="4191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Blijf standvastig in je gedachten indien ze liefde als inhoud heb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-103320" y="-3715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-103320" y="70812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-103320" y="10368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-103320" y="19717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http://www.pixdaus.com/pics/1256039986YmlbkUv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89" name="Text Box 8"/>
          <p:cNvSpPr/>
          <p:nvPr/>
        </p:nvSpPr>
        <p:spPr>
          <a:xfrm>
            <a:off x="5029200" y="5486400"/>
            <a:ext cx="31240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Niemand kan verder zien dan de horiz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46240" y="28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46240" y="110808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46240" y="14367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246240" y="23716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blossom trees and path"/>
          <p:cNvPicPr/>
          <p:nvPr/>
        </p:nvPicPr>
        <p:blipFill>
          <a:blip r:embed="rId1"/>
          <a:stretch/>
        </p:blipFill>
        <p:spPr>
          <a:xfrm>
            <a:off x="457200" y="304920"/>
            <a:ext cx="8305920" cy="6229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95" name="Text Box 8"/>
          <p:cNvSpPr/>
          <p:nvPr/>
        </p:nvSpPr>
        <p:spPr>
          <a:xfrm>
            <a:off x="5029200" y="5486400"/>
            <a:ext cx="304812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Genegenheid is een weg die steeds begaanbaar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182520" y="-109692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82520" y="-1764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82520" y="3110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82520" y="124632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104760" y="-28400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-104760" y="-1760400"/>
            <a:ext cx="744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-104760" y="-14320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-104760" y="-496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1" descr="http://www.pixdaus.com/pics/1244468754a4MetvK.jpg"/>
          <p:cNvPicPr/>
          <p:nvPr/>
        </p:nvPicPr>
        <p:blipFill>
          <a:blip r:embed="rId1"/>
          <a:stretch/>
        </p:blipFill>
        <p:spPr>
          <a:xfrm>
            <a:off x="0" y="-914400"/>
            <a:ext cx="9144000" cy="9982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5800" y="5334120"/>
            <a:ext cx="380988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De dageraad van elke nieuwe dag is als een morgenstond                met goud in de m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-79200" y="-6224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79200" y="4572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-79200" y="7858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-79200" y="17208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www.pixdaus.com/pics/1236075458xEnzg36.jpg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13" name="Text Box 8"/>
          <p:cNvSpPr/>
          <p:nvPr/>
        </p:nvSpPr>
        <p:spPr>
          <a:xfrm>
            <a:off x="4191120" y="5562720"/>
            <a:ext cx="41148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lke stap vooruit is als een vogelvlucht naar een nieuw gelu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16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-101520" y="-46972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-101520" y="-3618000"/>
            <a:ext cx="80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-101520" y="-32893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-101520" y="-2354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235080" y="279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235080" y="1359000"/>
            <a:ext cx="62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235080" y="16876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235080" y="26226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530280" y="-8222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7"/>
          <p:cNvSpPr/>
          <p:nvPr/>
        </p:nvSpPr>
        <p:spPr>
          <a:xfrm>
            <a:off x="530280" y="25704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530280" y="585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530280" y="15210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1011240" y="-4176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1011240" y="662040"/>
            <a:ext cx="38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1011240" y="9907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5"/>
          <p:cNvSpPr/>
          <p:nvPr/>
        </p:nvSpPr>
        <p:spPr>
          <a:xfrm>
            <a:off x="1011240" y="19256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32" descr="Roses"/>
          <p:cNvPicPr/>
          <p:nvPr/>
        </p:nvPicPr>
        <p:blipFill>
          <a:blip r:embed="rId1"/>
          <a:stretch/>
        </p:blipFill>
        <p:spPr>
          <a:xfrm>
            <a:off x="380880" y="304920"/>
            <a:ext cx="4413240" cy="61722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235" name="Text Box 36"/>
          <p:cNvSpPr/>
          <p:nvPr/>
        </p:nvSpPr>
        <p:spPr>
          <a:xfrm>
            <a:off x="5029200" y="281952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6000" spc="-1" strike="noStrike">
                <a:solidFill>
                  <a:srgbClr val="ffffff"/>
                </a:solidFill>
                <a:latin typeface="Georgia"/>
              </a:rPr>
              <a:t>Ein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-95400" y="-6634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-95400" y="41580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95400" y="744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5400" y="1679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Golden Rays I----- Claudius L"/>
          <p:cNvPicPr/>
          <p:nvPr/>
        </p:nvPicPr>
        <p:blipFill>
          <a:blip r:embed="rId1"/>
          <a:stretch/>
        </p:blipFill>
        <p:spPr>
          <a:xfrm>
            <a:off x="-304920" y="-304920"/>
            <a:ext cx="9448920" cy="7400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914400" y="5410080"/>
            <a:ext cx="28954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Een zonnestraal om          het hart warm te hou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Golden Peaks of Rundle Mountain, Banff National Park, Alber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5181480" y="5410080"/>
            <a:ext cx="3200400" cy="82404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Men hoeft niet de hoogste top te bereiken om te genieten van een uitzich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-34920" y="-1494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-34920" y="930240"/>
            <a:ext cx="71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-34920" y="125892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-34920" y="219384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84240" y="-84600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-84240" y="2332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-84240" y="56196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-84240" y="1496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1" descr="Kouang Si Waterfalls, Laos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367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81" name="Text Box 15"/>
          <p:cNvSpPr/>
          <p:nvPr/>
        </p:nvSpPr>
        <p:spPr>
          <a:xfrm>
            <a:off x="5029200" y="5562720"/>
            <a:ext cx="32004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Alleen in helder water kan men veilig zwem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Jean-Marc Cornez\Mes documents\My pictures\1227732195lEdBTGe.jpg"/>
          <p:cNvPicPr/>
          <p:nvPr/>
        </p:nvPicPr>
        <p:blipFill>
          <a:blip r:embed="rId1"/>
          <a:stretch/>
        </p:blipFill>
        <p:spPr>
          <a:xfrm>
            <a:off x="0" y="-452520"/>
            <a:ext cx="9144000" cy="904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724280" y="5630760"/>
            <a:ext cx="34290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Volg de weg van je hart en             het geluk komt je zo tegemo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-96840" y="-38268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96840" y="696960"/>
            <a:ext cx="80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-96840" y="102564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96840" y="196056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hrough the golden haze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152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1" name="Text Box 8"/>
          <p:cNvSpPr/>
          <p:nvPr/>
        </p:nvSpPr>
        <p:spPr>
          <a:xfrm>
            <a:off x="762120" y="5486400"/>
            <a:ext cx="304776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Zachtheid en tederheid is de wieg van gevoele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noFill/>
          <a:ln w="279360">
            <a:solidFill>
              <a:srgbClr val="211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92160" y="-131436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-92160" y="-235080"/>
            <a:ext cx="80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-92160" y="9360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-92160" y="102888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Golden Sunlight - Mirkwood"/>
          <p:cNvPicPr/>
          <p:nvPr/>
        </p:nvPicPr>
        <p:blipFill>
          <a:blip r:embed="rId1"/>
          <a:stretch/>
        </p:blipFill>
        <p:spPr>
          <a:xfrm>
            <a:off x="304920" y="285840"/>
            <a:ext cx="853416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4267080" y="5334120"/>
            <a:ext cx="388620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Het licht dat ieders bestemming is maakt de weg klaar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1120" y="-1320840"/>
            <a:ext cx="465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1120" y="-241200"/>
            <a:ext cx="485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81120" y="87480"/>
            <a:ext cx="4651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17520" anchor="t">
            <a:spAutoFit/>
          </a:bodyPr>
          <a:p>
            <a:pPr algn="ctr">
              <a:buClr>
                <a:srgbClr val="5a95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1120" y="1022400"/>
            <a:ext cx="465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Golden path&#9;Photographer:&#9;Tai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4800600" y="5562720"/>
            <a:ext cx="3581280" cy="580680"/>
          </a:xfrm>
          <a:prstGeom prst="rect">
            <a:avLst/>
          </a:prstGeom>
          <a:solidFill>
            <a:srgbClr val="2d1e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ffffff"/>
                </a:solidFill>
                <a:latin typeface="Georgia"/>
              </a:rPr>
              <a:t>In de herfst van het leven staat er nog veel moois te belev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9:10:06Z</dcterms:created>
  <dc:creator>LR</dc:creator>
  <dc:description/>
  <dc:language>en-US</dc:language>
  <cp:lastModifiedBy>Firmin Heynssens</cp:lastModifiedBy>
  <dcterms:modified xsi:type="dcterms:W3CDTF">2009-12-03T15:57:02Z</dcterms:modified>
  <cp:revision>18</cp:revision>
  <dc:subject/>
  <dc:title>Enkele mooie gedachten</dc:title>
</cp:coreProperties>
</file>