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3.jpeg" ContentType="image/jpeg"/>
  <Override PartName="/ppt/media/image27.gif" ContentType="image/gif"/>
  <Override PartName="/ppt/media/image28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5.jpeg" ContentType="image/jpeg"/>
  <Override PartName="/ppt/media/New%20Seekers%20-%20Turn%20Turn%20Turn.wav" ContentType="audio/x-wav"/>
  <Override PartName="/ppt/media/image33.jpeg" ContentType="image/jpeg"/>
  <Override PartName="/ppt/media/image23.jpeg" ContentType="image/jpeg"/>
  <Override PartName="/ppt/media/image12.jpeg" ContentType="image/jpeg"/>
  <Override PartName="/ppt/media/image41.gif" ContentType="image/gif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4.jpeg" ContentType="image/jpeg"/>
  <Override PartName="/ppt/media/image32.jpeg" ContentType="image/jpeg"/>
  <Override PartName="/ppt/media/image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40.gif" ContentType="image/gif"/>
  <Override PartName="/ppt/media/image43.jpeg" ContentType="image/jpeg"/>
  <Override PartName="/ppt/media/image29.jpeg" ContentType="image/jpeg"/>
  <Override PartName="/ppt/media/image10.jpeg" ContentType="image/jpeg"/>
  <Override PartName="/ppt/media/image45.gif" ContentType="image/gif"/>
  <Override PartName="/ppt/media/image3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A948-1AD2-4AE0-80AC-513505128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CE13-6B32-4BDD-91A2-D7FA686E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0AE1-C3C5-4716-B1B8-A9D6A9FE5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33AC-A252-44CA-BF0F-BB59ECEC7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7F33-F040-4D91-8691-353520A6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0DA2-F701-47FA-8688-703FF251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699C-017F-4E39-8FC2-0AFD9A4C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6C39-5570-4AA9-818C-464DAA41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11FF-AD6F-4D4C-87E3-9950BB00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C02A-5B29-43BB-AD56-C6578CE2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6B9F-E625-4B6E-8DC1-B3195570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9E51-353D-44BA-A627-2BDD0DA9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29F9-95B0-4730-9539-0C362FC65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New%20Seekers%20-%20Turn%20Turn%20Turn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image" Target="../media/image41.gif"/><Relationship Id="rId3" Type="http://schemas.openxmlformats.org/officeDocument/2006/relationships/image" Target="../media/image41.gif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560" y="5660640"/>
            <a:ext cx="7239240" cy="2286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ff3300"/>
                </a:solidFill>
                <a:latin typeface="Verdana"/>
                <a:ea typeface="Times New Roman"/>
              </a:rPr>
              <a:t>“</a:t>
            </a:r>
            <a:r>
              <a:rPr b="1" i="1" lang="en" sz="2400" spc="-1" strike="noStrike">
                <a:solidFill>
                  <a:srgbClr val="ff3300"/>
                </a:solidFill>
                <a:latin typeface="Verdana"/>
                <a:ea typeface="Times New Roman"/>
              </a:rPr>
              <a:t>Alles heeft zijn tijd”:</a:t>
            </a:r>
            <a:r>
              <a:rPr b="1" i="1" lang="en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 Vertaling uit de Bijbel: </a:t>
            </a:r>
            <a:r>
              <a:rPr b="1" i="1" lang="en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Prediker 3, 1-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1125360"/>
            <a:ext cx="374508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8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nl-BE" sz="2800" spc="-1" strike="noStrike">
                <a:solidFill>
                  <a:srgbClr val="ffff00"/>
                </a:solidFill>
                <a:latin typeface="Times New Roman"/>
              </a:rPr>
              <a:t>Turn, turn, turn…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ffff00"/>
                </a:solidFill>
                <a:latin typeface="Times New Roman"/>
              </a:rPr>
              <a:t>gezongen door: The New See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random/>
    <p:sndAc>
      <p:stSnd>
        <p:snd r:embed="rId2" name="New%20Seekers%20-%20Turn%20Turn%20Turn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2895480" cy="251460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 time to build up, </a:t>
            </a:r>
            <a:br>
              <a:rPr sz="2400"/>
            </a:br>
            <a:r>
              <a:rPr b="1" i="1" lang="en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 time to break 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4038480" cy="302904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114800" y="152280"/>
            <a:ext cx="4876920" cy="329436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5724360" y="407664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en tijd om op te bouwen </a:t>
            </a:r>
            <a:br>
              <a:rPr sz="3600"/>
            </a:br>
            <a:r>
              <a:rPr b="1" i="1" lang="en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 een tijd om af te brek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4780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 time to dance, a time to mou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4451400" cy="5562360"/>
          </a:xfrm>
          <a:prstGeom prst="rect">
            <a:avLst/>
          </a:prstGeom>
          <a:ln w="66600">
            <a:solidFill>
              <a:srgbClr val="008000"/>
            </a:solidFill>
            <a:miter/>
          </a:ln>
        </p:spPr>
      </p:pic>
      <p:pic>
        <p:nvPicPr>
          <p:cNvPr id="77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4859280" y="333360"/>
            <a:ext cx="3924360" cy="3687840"/>
          </a:xfrm>
          <a:prstGeom prst="rect">
            <a:avLst/>
          </a:prstGeom>
          <a:ln w="66600">
            <a:solidFill>
              <a:srgbClr val="008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5076720" y="4437000"/>
            <a:ext cx="406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en tijd om te dansen en een tijd om te klag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129528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a time to cast away stones.</a:t>
            </a:r>
            <a:r>
              <a:rPr b="0" lang="nl-N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1600" y="5805360"/>
            <a:ext cx="60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en tijd om stenen te werpen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0066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835280" y="189000"/>
            <a:ext cx="5719680" cy="579096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980640"/>
            <a:ext cx="88394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 time to gather stones 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6093000"/>
            <a:ext cx="849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…</a:t>
            </a:r>
            <a:r>
              <a:rPr b="1" i="1" lang="en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 een tijd om stenen bijeen te zamel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7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708360" y="393336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To everything, turn, turn, turn.</a:t>
            </a:r>
            <a:br>
              <a:rPr sz="2000"/>
            </a:br>
            <a:r>
              <a:rPr b="1" i="1" lang="en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There is a season, turn, turn, tur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80000" y="5300640"/>
            <a:ext cx="28195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s heeft zijn uur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76360" y="304920"/>
            <a:ext cx="571500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And a time for every purpose under heaven</a:t>
            </a:r>
            <a:r>
              <a:rPr b="1" i="1" lang="en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24360" y="5084640"/>
            <a:ext cx="4495680" cy="11912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ieder ding onder de hemel zijn tij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1295280"/>
            <a:ext cx="3581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 time of love, </a:t>
            </a:r>
            <a:br>
              <a:rPr sz="2400"/>
            </a:br>
            <a:r>
              <a:rPr b="1" i="1" lang="en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 time of h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3276720"/>
            <a:ext cx="4921200" cy="33987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191120" y="152280"/>
            <a:ext cx="4724280" cy="2934000"/>
          </a:xfrm>
          <a:prstGeom prst="rect">
            <a:avLst/>
          </a:prstGeom>
          <a:ln w="82440">
            <a:solidFill>
              <a:srgbClr val="000000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5410080" y="3789360"/>
            <a:ext cx="373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Een tijd om lief te hebben </a:t>
            </a:r>
            <a:br>
              <a:rPr sz="3600"/>
            </a:br>
            <a:r>
              <a:rPr b="1" i="1" lang="en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en een tijd om te hat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-82440"/>
            <a:ext cx="9144000" cy="6940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826920" y="5877000"/>
            <a:ext cx="882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en tijd voor oorlog en een tijd van vre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703920" y="3581280"/>
            <a:ext cx="2440080" cy="2676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486400" y="1371600"/>
            <a:ext cx="2152800" cy="2362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809880" y="0"/>
            <a:ext cx="1944720" cy="2133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838080" y="0"/>
            <a:ext cx="1527120" cy="16765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076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 time of war, a time of pe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380988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nd a time you may embr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495680" y="3429000"/>
            <a:ext cx="4496040" cy="30002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495680" y="152280"/>
            <a:ext cx="4521240" cy="29955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395280" y="5157720"/>
            <a:ext cx="34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en</a:t>
            </a:r>
            <a:r>
              <a:rPr b="1" i="1" lang="en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jd van omhelzen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943600" y="0"/>
            <a:ext cx="3200400" cy="2400480"/>
          </a:xfrm>
          <a:prstGeom prst="rect">
            <a:avLst/>
          </a:prstGeom>
          <a:ln w="38160">
            <a:solidFill>
              <a:srgbClr val="333333"/>
            </a:solidFill>
            <a:miter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636444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 time to refrain from embrac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6021360"/>
            <a:ext cx="9756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…</a:t>
            </a:r>
            <a:r>
              <a:rPr b="1" i="1" lang="en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n een tijd om je van omhelzen te onthoud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7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51280" y="228240"/>
            <a:ext cx="491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To everything, turn, turn, turn.</a:t>
            </a:r>
            <a:br>
              <a:rPr sz="2400"/>
            </a:br>
            <a:r>
              <a:rPr b="1" i="1" lang="en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There is a season, turn, turn, tu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5589720"/>
            <a:ext cx="4319640" cy="642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lles heeft zijn uur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56880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 everything, turn, turn, turn.</a:t>
            </a:r>
            <a:br>
              <a:rPr sz="2400"/>
            </a:br>
            <a:r>
              <a:rPr b="1" i="1" lang="e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e is a season, turn, turn, tu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67280" y="6021360"/>
            <a:ext cx="4680000" cy="642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les heeft zijn uur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6920" y="3141360"/>
            <a:ext cx="6697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nd a time for every purpose under heaven.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24000" y="5157720"/>
            <a:ext cx="4496040" cy="11912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…</a:t>
            </a:r>
            <a:r>
              <a:rPr b="1" i="1" lang="en-US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en ieder ding onder de hemel zijn tij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1523880"/>
            <a:ext cx="335304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 time to gain, </a:t>
            </a:r>
            <a:br>
              <a:rPr sz="2000"/>
            </a:br>
            <a:r>
              <a:rPr b="1" i="1" lang="en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 time to lo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2280" y="3581280"/>
            <a:ext cx="3854520" cy="28544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211640" y="4581360"/>
            <a:ext cx="4788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en tijd om te zoeken en een tijd om verloren te laten ga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038480" y="228600"/>
            <a:ext cx="4953240" cy="324792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</p:spTree>
  </p:cSld>
  <p:transition spd="med" advTm="6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008000"/>
            </a:gs>
            <a:gs pos="100000">
              <a:srgbClr val="ff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3886200" cy="30016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117" name=""/>
          <p:cNvSpPr/>
          <p:nvPr/>
        </p:nvSpPr>
        <p:spPr>
          <a:xfrm rot="5400000">
            <a:off x="571320" y="-571320"/>
            <a:ext cx="3429000" cy="4572000"/>
          </a:xfrm>
          <a:prstGeom prst="rtTriangl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4572000" y="-360"/>
            <a:ext cx="4572000" cy="3429000"/>
          </a:xfrm>
          <a:prstGeom prst="rtTriangl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5143320" y="2856960"/>
            <a:ext cx="3429000" cy="4572000"/>
          </a:xfrm>
          <a:prstGeom prst="rtTriangl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429000"/>
            <a:ext cx="4572000" cy="3429000"/>
          </a:xfrm>
          <a:prstGeom prst="rtTriangl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5667480"/>
            <a:ext cx="68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en tijd om te scheuren en een tijd om dicht te naai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68000" y="1988640"/>
            <a:ext cx="2038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time to rend, </a:t>
            </a:r>
            <a:br>
              <a:rPr sz="2000"/>
            </a:br>
            <a:r>
              <a:rPr b="1" i="1" lang="e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time to s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-360"/>
            <a:ext cx="3886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ime to love, </a:t>
            </a:r>
            <a:br>
              <a:rPr sz="2000"/>
            </a:br>
            <a:r>
              <a:rPr b="1" i="1" lang="en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ime to hate.</a:t>
            </a:r>
            <a:r>
              <a:rPr b="0" lang="e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12859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763640" y="5661000"/>
            <a:ext cx="51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en tijd om lief te hebben en een tijd om te hat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eaeae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47960" y="152280"/>
            <a:ext cx="4343400" cy="11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 time for peace, </a:t>
            </a:r>
            <a:br>
              <a:rPr sz="2000"/>
            </a:br>
            <a:r>
              <a:rPr b="1" i="1" lang="en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I swear it's not too late.</a:t>
            </a:r>
            <a:r>
              <a:rPr b="0" lang="nl-N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001000" y="9144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696080" y="487692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876920" y="19810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152280" y="228600"/>
            <a:ext cx="4318200" cy="6477120"/>
          </a:xfrm>
          <a:prstGeom prst="rect">
            <a:avLst/>
          </a:prstGeom>
          <a:ln w="38160">
            <a:solidFill>
              <a:srgbClr val="800000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</p:pic>
      <p:sp>
        <p:nvSpPr>
          <p:cNvPr id="132" name=""/>
          <p:cNvSpPr/>
          <p:nvPr/>
        </p:nvSpPr>
        <p:spPr>
          <a:xfrm>
            <a:off x="4800600" y="3500280"/>
            <a:ext cx="4343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en tijd voor vrede…, </a:t>
            </a:r>
            <a:br>
              <a:rPr sz="3600"/>
            </a:b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k zweer dat het niet te laat i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everything, turn, turn, turn.</a:t>
            </a:r>
            <a:br>
              <a:rPr sz="2000"/>
            </a:br>
            <a:r>
              <a:rPr b="1" i="1" lang="en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a season, turn, turn, tur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4581360"/>
            <a:ext cx="8064720" cy="1922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6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lles heeft zijn uur… en zijn tijd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d a time for every purpose under heaven.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2349360"/>
            <a:ext cx="8604360" cy="642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…</a:t>
            </a:r>
            <a:r>
              <a:rPr b="1" i="1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 ieder ding onder de hemel zijn tijd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8534520" y="62485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203640" y="5229360"/>
            <a:ext cx="5256000" cy="642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600" spc="-1" strike="noStrike">
                <a:solidFill>
                  <a:srgbClr val="000000"/>
                </a:solidFill>
                <a:latin typeface="Comic Sans MS"/>
              </a:rPr>
              <a:t>Groetjes Yvon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8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00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05120" y="914400"/>
            <a:ext cx="7086600" cy="532296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And a time for every purpose under heaven</a:t>
            </a:r>
            <a:r>
              <a:rPr b="1" i="1" lang="en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52280" y="2438280"/>
            <a:ext cx="2853000" cy="426744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4356000" y="4869000"/>
            <a:ext cx="44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…</a:t>
            </a:r>
            <a:r>
              <a:rPr b="1" i="1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 ieder ding onder de hemel zijn tij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752480"/>
            <a:ext cx="350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 time to be born, a time to d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3657600"/>
            <a:ext cx="4394160" cy="2908440"/>
          </a:xfrm>
          <a:prstGeom prst="rect">
            <a:avLst/>
          </a:prstGeom>
          <a:ln w="76320">
            <a:solidFill>
              <a:srgbClr val="ff99cc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038480" y="380880"/>
            <a:ext cx="4948200" cy="3044880"/>
          </a:xfrm>
          <a:prstGeom prst="rect">
            <a:avLst/>
          </a:prstGeom>
          <a:ln w="76320">
            <a:solidFill>
              <a:srgbClr val="3366ff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5796000" y="3933720"/>
            <a:ext cx="289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 is een tijd om te baren</a:t>
            </a:r>
            <a:br>
              <a:rPr sz="3600"/>
            </a:br>
            <a:r>
              <a:rPr b="1" i="1" lang="e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en tijd om te sterv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3429000" cy="3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A time to plant, a time to rea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733920" y="228600"/>
            <a:ext cx="5214960" cy="5006880"/>
          </a:xfrm>
          <a:prstGeom prst="rect">
            <a:avLst/>
          </a:prstGeom>
          <a:ln w="82440">
            <a:solidFill>
              <a:srgbClr val="9933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2484360" y="5445000"/>
            <a:ext cx="649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en tijd om te planten en een tijd om te oogst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1844640"/>
            <a:ext cx="4114800" cy="37195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1523520"/>
            <a:ext cx="3200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 time to kill, a time to he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544500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Een tijd om te doden en een tijd om te hel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80880" y="3048120"/>
            <a:ext cx="3408480" cy="356688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114800" y="228600"/>
            <a:ext cx="4832280" cy="337032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  <p:transition spd="med" advTm="3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867120" y="228600"/>
            <a:ext cx="5049720" cy="5072040"/>
          </a:xfrm>
          <a:prstGeom prst="rect">
            <a:avLst/>
          </a:prstGeom>
          <a:ln w="111240">
            <a:solidFill>
              <a:srgbClr val="ffffff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3924360" y="551664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en tijd om te lachen en een tijd om te wen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1628640"/>
            <a:ext cx="3487680" cy="50864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281952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ime to laugh, a time to wee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13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o everything, turn, turn, turn.</a:t>
            </a:r>
            <a:br>
              <a:rPr sz="2400"/>
            </a:br>
            <a:r>
              <a:rPr b="1" i="1" lang="en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re is a season, turn, turn, tu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67280" y="5734080"/>
            <a:ext cx="461952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les heeft zijn uur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91920"/>
            <a:ext cx="72072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nd a time for every purpose </a:t>
            </a:r>
            <a:br>
              <a:rPr sz="2400"/>
            </a:br>
            <a:r>
              <a:rPr b="1" i="1" lang="en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under heaven.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16000" y="5877000"/>
            <a:ext cx="7777080" cy="642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…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 ieder ding onder de hemel zijn tij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7T22:29:07Z</dcterms:created>
  <dc:creator>Jean-Pierre</dc:creator>
  <dc:description/>
  <dc:language>en-US</dc:language>
  <cp:lastModifiedBy>Ivonne</cp:lastModifiedBy>
  <dcterms:modified xsi:type="dcterms:W3CDTF">2008-11-23T09:30:14Z</dcterms:modified>
  <cp:revision>11</cp:revision>
  <dc:subject>Turn, turn, turn</dc:subject>
  <dc:title>“Alles heeft zijn tijd”: Vertaling uit de Bijbel:Prediker 3, 1-15</dc:title>
</cp:coreProperties>
</file>