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569.wav" ContentType="audio/x-wav"/>
  <Override PartName="/ppt/media/image8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3D66D0-D29E-4314-9878-64D49B7E59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EE9-C369-4AE1-81B9-CE996906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62F-96EA-4FC6-94E5-06213E0E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51B-B879-418B-9100-7C94AB27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C6C-957E-4ADD-B681-1B1B70E5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637-7042-4FD5-82E8-B96973D3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6AF-C511-481A-B3B0-9630027D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B36-6F2D-4F33-B2D0-CF6080CC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BAA-D5C9-471B-A00C-BE156A24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5E5-08D8-46B8-81B2-EA33B323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1DF-493B-4E19-A717-D6F3F2CA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DE2-6A94-44D6-BC89-043BFBCD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B40-C1FF-4BA3-8774-D23ABFF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51A654-070A-4C80-940C-319EC3046E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569.wav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1988640"/>
            <a:ext cx="7208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000" spc="-1" strike="noStrike">
                <a:solidFill>
                  <a:srgbClr val="000000"/>
                </a:solidFill>
                <a:latin typeface="Monotype Corsiva"/>
              </a:rPr>
              <a:t>De acht mooiste spreuken van de </a:t>
            </a:r>
            <a:br>
              <a:rPr sz="4000"/>
            </a:br>
            <a:br>
              <a:rPr sz="4000"/>
            </a:br>
            <a:r>
              <a:rPr b="1" lang="nl-BE" sz="6000" spc="-1" strike="noStrike">
                <a:solidFill>
                  <a:srgbClr val="000000"/>
                </a:solidFill>
                <a:latin typeface="Monotype Corsiva"/>
              </a:rPr>
              <a:t>“Bond zonder naam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ipe dir="r"/>
    <p:sndAc>
      <p:stSnd>
        <p:snd r:embed="rId2" name="56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708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5400" spc="-1" strike="noStrike">
                <a:solidFill>
                  <a:srgbClr val="000000"/>
                </a:solidFill>
                <a:latin typeface="Monotype Corsiva"/>
              </a:rPr>
              <a:t>Prettige dag no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638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klik om te sto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42920" y="563400"/>
            <a:ext cx="6912000" cy="5457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84200" y="2370240"/>
            <a:ext cx="527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Monotype Corsiva"/>
              </a:rPr>
              <a:t>Geef ze een pluim en mensen</a:t>
            </a:r>
            <a:r>
              <a:rPr b="1" lang="nl-BE" sz="3600" spc="-1" strike="noStrike">
                <a:solidFill>
                  <a:srgbClr val="ff5050"/>
                </a:solidFill>
                <a:latin typeface="Monotype Corsiva"/>
              </a:rPr>
              <a:t> </a:t>
            </a:r>
            <a:r>
              <a:rPr b="1" lang="nl-BE" sz="4400" spc="-1" strike="noStrike">
                <a:solidFill>
                  <a:srgbClr val="ffffff"/>
                </a:solidFill>
                <a:latin typeface="Monotype Corsiva"/>
              </a:rPr>
              <a:t>krijgen vleuge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840720" cy="561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2680" y="3357720"/>
            <a:ext cx="7115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BE" sz="5400" spc="-1" strike="noStrike">
                <a:solidFill>
                  <a:srgbClr val="ffffff"/>
                </a:solidFill>
                <a:latin typeface="Monotype Corsiva"/>
              </a:rPr>
              <a:t>Noten mag je kraken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BE" sz="5400" spc="-1" strike="noStrike">
                <a:solidFill>
                  <a:srgbClr val="ffffff"/>
                </a:solidFill>
                <a:latin typeface="Monotype Corsiva"/>
              </a:rPr>
              <a:t>mensen nie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6912000" cy="547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32000" y="3284640"/>
            <a:ext cx="628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Geef eens een compli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op een onverwacht mom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769080" cy="5718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85240" y="3294000"/>
            <a:ext cx="757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Elke kleine attentie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groo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6985080" cy="575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81760" y="1133640"/>
            <a:ext cx="720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Wie zichzelf kent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zwijgt over andere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840720" cy="561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560" y="1628640"/>
            <a:ext cx="750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De glimlach die je geef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krijg je altijd teru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684072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70840" y="2998800"/>
            <a:ext cx="689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Wie een vuist maakt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kan geen hand ge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6985080" cy="583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43760" y="3008160"/>
            <a:ext cx="668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6000" spc="-1" strike="noStrike">
                <a:solidFill>
                  <a:srgbClr val="ffffff"/>
                </a:solidFill>
                <a:latin typeface="Monotype Corsiva"/>
              </a:rPr>
              <a:t>Sterk duo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6000" spc="-1" strike="noStrike">
                <a:solidFill>
                  <a:srgbClr val="ffffff"/>
                </a:solidFill>
                <a:latin typeface="Monotype Corsiva"/>
              </a:rPr>
              <a:t>beloven en do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3:55:58Z</dcterms:created>
  <dc:creator/>
  <dc:description/>
  <dc:language>en-US</dc:language>
  <cp:lastModifiedBy>ptollet</cp:lastModifiedBy>
  <dcterms:modified xsi:type="dcterms:W3CDTF">2009-06-30T14:34:47Z</dcterms:modified>
  <cp:revision>18</cp:revision>
  <dc:subject/>
  <dc:title>De acht mooiste “Bond zonder naam”</dc:title>
</cp:coreProperties>
</file>