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569.wav" ContentType="audio/x-wav"/>
  <Override PartName="/ppt/media/image8.jpeg" ContentType="image/jpeg"/>
  <Override PartName="/ppt/media/image2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CE7333-79C1-4050-8EBD-37B713977B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48E-4918-4CE8-B3F7-00445D82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FD0-D2B9-46E0-A001-0058D609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AC0-CDC8-41E6-8B75-51BE6047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90D-4722-443A-BF5F-0AFFAF05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26C-969A-48C3-A2E3-3F23C376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1FD-9711-4655-B918-7D9F557C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34B-B06C-43C9-BE8A-FF1BD1BD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2CD-64BB-480B-B03F-B4E4816E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7B4-25AC-4069-A612-B0A49E3C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F2A-080F-42AB-B886-3DFA5ED3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F119-E27F-49C7-B22D-508BD972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C43-039B-4C21-A815-94420B75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782F1D-B8EA-4968-9437-624778A1DC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569.wav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1988640"/>
            <a:ext cx="72086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000" spc="-1" strike="noStrike">
                <a:solidFill>
                  <a:srgbClr val="000000"/>
                </a:solidFill>
                <a:latin typeface="Monotype Corsiva"/>
              </a:rPr>
              <a:t>De acht mooiste spreuken van de </a:t>
            </a:r>
            <a:br>
              <a:rPr sz="4000"/>
            </a:br>
            <a:br>
              <a:rPr sz="4000"/>
            </a:br>
            <a:r>
              <a:rPr b="1" lang="nl-BE" sz="6000" spc="-1" strike="noStrike">
                <a:solidFill>
                  <a:srgbClr val="000000"/>
                </a:solidFill>
                <a:latin typeface="Monotype Corsiva"/>
              </a:rPr>
              <a:t>“Bond zonder naam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wipe dir="r"/>
    <p:sndAc>
      <p:stSnd>
        <p:snd r:embed="rId2" name="56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708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5400" spc="-1" strike="noStrike">
                <a:solidFill>
                  <a:srgbClr val="000000"/>
                </a:solidFill>
                <a:latin typeface="Monotype Corsiva"/>
              </a:rPr>
              <a:t>Prettige dag no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638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klik om te sto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42920" y="563400"/>
            <a:ext cx="6912000" cy="5457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84200" y="2370240"/>
            <a:ext cx="5275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Monotype Corsiva"/>
              </a:rPr>
              <a:t>Geef ze een pluim en mensen</a:t>
            </a:r>
            <a:r>
              <a:rPr b="1" lang="nl-BE" sz="3600" spc="-1" strike="noStrike">
                <a:solidFill>
                  <a:srgbClr val="ff5050"/>
                </a:solidFill>
                <a:latin typeface="Monotype Corsiva"/>
              </a:rPr>
              <a:t> </a:t>
            </a:r>
            <a:r>
              <a:rPr b="1" lang="nl-BE" sz="4400" spc="-1" strike="noStrike">
                <a:solidFill>
                  <a:srgbClr val="ffffff"/>
                </a:solidFill>
                <a:latin typeface="Monotype Corsiva"/>
              </a:rPr>
              <a:t>krijgen vleuge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840720" cy="561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2680" y="3357720"/>
            <a:ext cx="7115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BE" sz="5400" spc="-1" strike="noStrike">
                <a:solidFill>
                  <a:srgbClr val="ffffff"/>
                </a:solidFill>
                <a:latin typeface="Monotype Corsiva"/>
              </a:rPr>
              <a:t>Noten mag je kraken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BE" sz="5400" spc="-1" strike="noStrike">
                <a:solidFill>
                  <a:srgbClr val="ffffff"/>
                </a:solidFill>
                <a:latin typeface="Monotype Corsiva"/>
              </a:rPr>
              <a:t>mensen nie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6912000" cy="547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32000" y="3284640"/>
            <a:ext cx="628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Geef eens een compli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op een onverwacht mom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769080" cy="5718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85240" y="3294000"/>
            <a:ext cx="757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Elke kleine attentie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groo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6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6985080" cy="575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81760" y="1133640"/>
            <a:ext cx="720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Wie zichzelf kent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5400" spc="-1" strike="noStrike">
                <a:solidFill>
                  <a:srgbClr val="ffffff"/>
                </a:solidFill>
                <a:latin typeface="Monotype Corsiva"/>
              </a:rPr>
              <a:t>zwijgt over andere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840720" cy="5616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560" y="1628640"/>
            <a:ext cx="750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De glimlach die je geef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krijg je altijd teru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6840720" cy="575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70840" y="2998800"/>
            <a:ext cx="689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Wie een vuist maakt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4800" spc="-1" strike="noStrike">
                <a:solidFill>
                  <a:srgbClr val="ffffff"/>
                </a:solidFill>
                <a:latin typeface="Monotype Corsiva"/>
              </a:rPr>
              <a:t>kan geen hand geve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6985080" cy="583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43760" y="3008160"/>
            <a:ext cx="668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6000" spc="-1" strike="noStrike">
                <a:solidFill>
                  <a:srgbClr val="ffffff"/>
                </a:solidFill>
                <a:latin typeface="Monotype Corsiva"/>
              </a:rPr>
              <a:t>Sterk duo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BE" sz="6000" spc="-1" strike="noStrike">
                <a:solidFill>
                  <a:srgbClr val="ffffff"/>
                </a:solidFill>
                <a:latin typeface="Monotype Corsiva"/>
              </a:rPr>
              <a:t>beloven en do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9000"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3:55:58Z</dcterms:created>
  <dc:creator/>
  <dc:description/>
  <dc:language>en-US</dc:language>
  <cp:lastModifiedBy>ptollet</cp:lastModifiedBy>
  <dcterms:modified xsi:type="dcterms:W3CDTF">2009-06-30T14:34:47Z</dcterms:modified>
  <cp:revision>18</cp:revision>
  <dc:subject/>
  <dc:title>De acht mooiste “Bond zonder naam”</dc:title>
</cp:coreProperties>
</file>