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time_to_say_goodbye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FCE-EA78-4849-8BA3-7799E99A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9255-80BC-4DB7-B643-E8159F42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5AE-EBCE-4BD3-8F6A-67E22370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243-AE70-46A2-846F-A14B9B3C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D22-02E9-438D-9C5B-58F6CBD1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F0E-F416-4919-8743-BE2B7BC1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8C2-BD5A-41B4-8430-727DFE3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F44-676C-469F-B8C3-9456348A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CF7-58E3-4EBC-8A6A-FF24CB61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8FC-AAF4-4092-9447-F696E6B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6FB5-CAC1-4AB1-8601-E7739351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A6D-CF95-4603-AEAB-A8449525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0AD-C87B-4EFC-945A-D7B56E374243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me_to_say_goodby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5229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800000"/>
                </a:solidFill>
                <a:latin typeface="Monotype Corsiva"/>
                <a:ea typeface="Aharoni"/>
              </a:rPr>
              <a:t>Zang : Sarah Brightman  &amp;  Andrea Bocelli.                                                            Time to say goodb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800000"/>
                </a:solidFill>
                <a:latin typeface="Monotype Corsiva"/>
              </a:rPr>
              <a:t>Herinneringe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781360"/>
            <a:ext cx="784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3C5E-609E-42A6-9FEF-F7B0841AE986}" type="datetime2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dinsdag 28 juli 2026</a:t>
            </a:fld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429000"/>
            <a:ext cx="547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CE3E-8EF7-4EF8-8477-3D4B59E6B58E}" type="datetime10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13:51</a:t>
            </a:fld>
            <a:r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 u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wheel spokes="8"/>
    <p:sndAc>
      <p:stSnd>
        <p:snd r:embed="rId2" name="time_to_say_goodby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8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kerkhof ,                                                                                 waarop meer kruisen dan bloemen sta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229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iteindelijk zullen we ons de woorden ,                                                                van onze vijanden niet herinneren,                                                                                                            maar wel het zwijgen van onze vrien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randomBa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58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mens moet niet zorgen dat hij in de hemel komt,                                                                  maar dat de hemel in hem ko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229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eenzaamheid is een stille storm                                                                     die al onze dode takken afbree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724280"/>
            <a:ext cx="8064720" cy="1944720"/>
          </a:xfrm>
          <a:custGeom>
            <a:avLst/>
            <a:gdLst>
              <a:gd name="textAreaLeft" fmla="*/ 1841040 w 8064720"/>
              <a:gd name="textAreaRight" fmla="*/ 6223680 w 806472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229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Herinneringen zijn als littekens,                                                              ze verzachten langzaam,                                                                                 maar verdwijnen noo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013360"/>
            <a:ext cx="5904000" cy="1368360"/>
          </a:xfrm>
          <a:prstGeom prst="horizontalScroll">
            <a:avLst>
              <a:gd name="adj" fmla="val 12500"/>
            </a:avLst>
          </a:prstGeom>
          <a:solidFill>
            <a:srgbClr val="ffff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530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Veel is schoner in de maneschijn der herinnering,                                                           dan in het zonlicht der werkelijk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45000"/>
            <a:ext cx="6912000" cy="792360"/>
          </a:xfrm>
          <a:prstGeom prst="plus">
            <a:avLst>
              <a:gd name="adj" fmla="val 25000"/>
            </a:avLst>
          </a:prstGeom>
          <a:solidFill>
            <a:srgbClr val="6666ff">
              <a:alpha val="26000"/>
            </a:srgbClr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44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:                                                                                                                           Het enige paradijs waaruit men ons nooit kan verdrij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205000"/>
            <a:ext cx="5400720" cy="1224000"/>
          </a:xfrm>
          <a:custGeom>
            <a:avLst/>
            <a:gdLst>
              <a:gd name="textAreaLeft" fmla="*/ 1187640 w 5400720"/>
              <a:gd name="textAreaRight" fmla="*/ 4213080 w 5400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99">
              <a:alpha val="14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straat met deuren,                                                                               en achter iedere deur die opengaat ,                                                                              zijn er weer 10 deu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360"/>
                            </p:stCondLst>
                            <p:childTnLst>
                              <p:par>
                                <p:cTn id="2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3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Monotype Corsiva"/>
              </a:rPr>
              <a:t>Als je door de nacht gaat zonder één ster,                                                          doodmoe en alleen,                                                                                                        denk er dan aan dat boven de wolken ,                                                     iemand naar je glimla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981000"/>
            <a:ext cx="84247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800000"/>
                </a:solidFill>
                <a:latin typeface="Monotype Corsiva"/>
              </a:rPr>
              <a:t>Vele groetjes en nog een prettige da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        </a:t>
            </a: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Maria </a:t>
            </a:r>
            <a:r>
              <a:rPr b="0" lang="nl-BE" sz="2400" spc="-1" strike="noStrike">
                <a:solidFill>
                  <a:srgbClr val="800000"/>
                </a:solidFill>
                <a:latin typeface="Monotype Corsiva"/>
              </a:rPr>
              <a:t>(van de F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87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lk  afscheid  betekent de geboorte van herinn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44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Wij herinneren ons geen dagen,                                                                                     maar momen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589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 kunt Uw ogen sluiten voor feiten ,                                                                        maar niet voor herinner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Als de klokken der herinnering luiden,                                                                         wordt het Zondag in het h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4941720"/>
            <a:ext cx="5399280" cy="1727280"/>
          </a:xfrm>
          <a:custGeom>
            <a:avLst/>
            <a:gdLst>
              <a:gd name="textAreaLeft" fmla="*/ 1232640 w 5399280"/>
              <a:gd name="textAreaRight" fmla="*/ 4166640 w 5399280"/>
              <a:gd name="textAreaTop" fmla="*/ 394200 h 1727280"/>
              <a:gd name="textAreaBottom" fmla="*/ 13330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5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373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Wat moeilijk te dragen was,                                                                                                                      is heerlijk om zich te herinn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5229360"/>
            <a:ext cx="5905440" cy="1081080"/>
          </a:xfrm>
          <a:prstGeom prst="hexagon">
            <a:avLst>
              <a:gd name="adj" fmla="val 136563"/>
              <a:gd name="vf" fmla="val 115470"/>
            </a:avLst>
          </a:prstGeom>
          <a:solidFill>
            <a:srgbClr val="333399">
              <a:alpha val="30000"/>
            </a:srgbClr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en zijn dagboekbladzijden,                                                                              die we altijd bij ons dra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4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589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van de vele vormen van eenzaamheid                                                                                   is een herinnering hebben en er niet kunnen over pr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5516640"/>
            <a:ext cx="6985080" cy="1081080"/>
          </a:xfrm>
          <a:prstGeom prst="flowChartDecision">
            <a:avLst/>
          </a:prstGeom>
          <a:solidFill>
            <a:srgbClr val="669900">
              <a:alpha val="37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805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is een vorm van ontmo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5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>Niets aan veranderen a.u.b.( Maria)</dc:description>
  <dc:language>en-US</dc:language>
  <cp:lastModifiedBy/>
  <dcterms:modified xsi:type="dcterms:W3CDTF">2009-07-10T10:11:03Z</dcterms:modified>
  <cp:revision>8</cp:revision>
  <dc:subject>Herinneringen</dc:subject>
  <dc:title>Time to say goodbay</dc:title>
</cp:coreProperties>
</file>