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3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3.jpeg" ContentType="image/jpeg"/>
  <Override PartName="/ppt/media/image25.jpeg" ContentType="image/jpeg"/>
  <Override PartName="/ppt/media/Ennio%20Morricone%20-%20The%20Man%20With%20The%20Harmonica%20(2)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29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E74D-924E-48BF-8C0B-E1AA8E50E91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798-5F66-42B8-8AD2-DD4D11D4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937-6446-4FB3-93F0-411FF1B8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363-9185-47FA-9860-C11D3FD0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7AE6-A615-4608-AC8F-727969BD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CDE2-4ECD-4AC6-AF48-81C1C939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282-313F-4EA1-9B18-63FF953B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3342-B2D2-45CC-87F8-D5E12B32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44E-D9AA-46CE-B36B-F4983890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BDE-3A6F-4E3A-BC40-AC47F5F3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0FB-7C08-413E-ABFB-89420A5E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58A-DDDF-45D8-90E3-23A6AAF8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480-5EE5-478A-9204-7ECFB079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AA65-61AB-4C75-BA54-8CEE887C9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nnio%20Morricone%20-%20The%20Man%20With%20The%20Harmonica%20(2).wav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56000" y="6237360"/>
            <a:ext cx="4176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OONHEID IS EEN KLEINIG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ircle/>
    <p:sndAc>
      <p:stSnd>
        <p:snd r:embed="rId2" name="Ennio%20Morricone%20-%20The%20Man%20With%20The%20Harmonica%20(2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30.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5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1280" y="58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zonden willen van alles, zieken slechts een 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30.7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385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38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6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38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6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385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6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981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Etiketten plak je op flessen, niet op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-324000" y="2565360"/>
            <a:ext cx="5185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De waar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komt noo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uit de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van een gew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25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5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6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55640" y="5734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ang de sleutel van je hart niet te h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4360" y="5445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enzaamheid, de jas die niemand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04000" y="620640"/>
            <a:ext cx="1728720" cy="42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ook in 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kan 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te 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g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8" dur="1" fill="hold"/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258920" y="836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Arial"/>
              </a:rPr>
              <a:t>Als alles draait om geld, ben je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60930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Geef mensen geld en ze maken ruz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8" dur="1" fill="hold"/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09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Century Gothic"/>
              </a:rPr>
              <a:t>   </a:t>
            </a:r>
            <a:r>
              <a:rPr b="1" lang="en-GB" sz="3200" spc="-1" strike="noStrike">
                <a:solidFill>
                  <a:srgbClr val="ffcc66"/>
                </a:solidFill>
                <a:latin typeface="Century Gothic"/>
              </a:rPr>
              <a:t>Geef ze een droom en ze werken s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4360" y="3213000"/>
            <a:ext cx="2950920" cy="31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e beste ar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r. 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r. Rus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r. Vro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771640" y="765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Elke kleine attentie is g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11280" y="404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9966"/>
                </a:solidFill>
                <a:latin typeface="Arial"/>
              </a:rPr>
              <a:t>Doe wat je kunt, met wat je hebt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130"/>
                                  </p:iterate>
                                  <p:childTnLst>
                                    <p:animClr clrSpc="rgb">
                                      <p:cBhvr>
                                        <p:cTn id="25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99"/>
                                      </p:to>
                                    </p:animClr>
                                    <p:animClr clrSpc="rgb">
                                      <p:cBhvr>
                                        <p:cTn id="25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99"/>
                                      </p:to>
                                    </p:animClr>
                                    <p:set>
                                      <p:cBhvr>
                                        <p:cTn id="25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964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ls de droom sterft in de mens, sterft de 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260280"/>
            <a:ext cx="237636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zet de Tv 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het 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56610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kinderen zijn dikwijls onze leerme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920" y="2997360"/>
            <a:ext cx="172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Het leven is te kort om het te m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076720" y="4149720"/>
            <a:ext cx="3745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47500"/>
                </a:solidFill>
                <a:latin typeface="Arial"/>
              </a:rPr>
              <a:t>Verander de lijn onder aan je gezich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47500"/>
                </a:solidFill>
                <a:latin typeface="Arial"/>
              </a:rPr>
              <a:t>Lach..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028000" y="5300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1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5445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e gezicht is de spiegel van je 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54936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Groetjes.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1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100"/>
                            </p:stCondLst>
                            <p:childTnLst>
                              <p:par>
                                <p:cTn id="33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9" dur="5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4046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umor is een goede schokbreker, als je botst in het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549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Arial"/>
              </a:rPr>
              <a:t>Ontroerd zijn is adem halen met het 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5516640"/>
            <a:ext cx="8424720" cy="581400"/>
          </a:xfrm>
          <a:prstGeom prst="rect">
            <a:avLst/>
          </a:pr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Al doen wat je kan, is al wat je ka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87280" y="6400800"/>
            <a:ext cx="66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en droom is wat mensen drij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573408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Century Gothic"/>
              </a:rPr>
              <a:t>één goede kant is beter dan een groot v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2205000"/>
            <a:ext cx="756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ij wijs of het is je laatste r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5589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ccff"/>
                </a:solidFill>
                <a:latin typeface="Arial"/>
              </a:rPr>
              <a:t>Maak van elk moment een mon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9:14:48Z</dcterms:created>
  <dc:creator>Smets Stefaan, Els Lahau</dc:creator>
  <dc:description/>
  <dc:language>en-US</dc:language>
  <cp:lastModifiedBy>Smets</cp:lastModifiedBy>
  <dcterms:modified xsi:type="dcterms:W3CDTF">2008-08-27T20:12:34Z</dcterms:modified>
  <cp:revision>4</cp:revision>
  <dc:subject/>
  <dc:title>bedenkingen</dc:title>
</cp:coreProperties>
</file>