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Nana%20mouskori%20-%20La%20paloma.wav" ContentType="audio/x-wav"/>
  <Override PartName="/ppt/media/image21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A409-EFD4-43D1-A242-8E764A40E1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DE6B-0ECA-4EEA-A2E0-56C35B374B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Viant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DCA-317D-4F4C-8E8F-48A4E1E7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15B-0BF6-4EEB-BFD3-83CD5C86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67E-A595-410E-87EE-7F295233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583-97DB-4443-A006-7E55153C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2AC-5A55-4208-A6BB-17517391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EC4-787C-4C52-A9F4-CD7A25F7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452-652A-4437-9DC1-06AD165B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BF8-A0DE-4135-8292-CEDF88E8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71C-616F-45A2-B35F-764E23A6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468-86A9-4AB2-ADEB-A00D0BB2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8F8-3BF0-4A7D-8900-D46AE924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D7A-37FF-48A9-9F2F-99B60DD5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F363-0CE7-459A-969C-F13F5112AD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Nana%20mouskori%20-%20La%20palom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80078350xrUBSJ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 rot="21223800">
            <a:off x="36000" y="233280"/>
            <a:ext cx="433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Nana Mouskouri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357200" y="928800"/>
            <a:ext cx="7786800" cy="20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641" dir="11998987" blurRad="0" rotWithShape="0">
                    <a:srgbClr val="000000">
                      <a:alpha val="40000"/>
                    </a:srgbClr>
                  </a:outerShdw>
                </a:effectLst>
                <a:latin typeface="Monotype Corsiva"/>
              </a:rPr>
              <a:t>La  Paloma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2641" dir="11998987" blurRad="0" rotWithShape="0">
                  <a:srgbClr val="000000">
                    <a:alpha val="4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3429000" y="4332960"/>
            <a:ext cx="539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Het is nooit te laat om te worden  wie je had willen zij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75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77108819AtBIpz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1143000" y="-23904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PGothic"/>
              </a:rPr>
              <a:t>Alles is energi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PGothic"/>
              </a:rPr>
              <a:t>                                     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Zelfs wij mensen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80070931IJmtf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0" y="9000"/>
            <a:ext cx="857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df3ea"/>
                </a:solidFill>
                <a:latin typeface="Monotype Corsiva"/>
                <a:ea typeface="MS Mincho"/>
              </a:rPr>
              <a:t>Als je liefde hebt, dan geeft het niets wat je anders niet hebt, en heb je geen liefde dan geeft het niet veel wat je anders nog heb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f3ea"/>
                </a:solidFill>
                <a:latin typeface="Monotype Corsiva"/>
                <a:ea typeface="MS Mincho"/>
              </a:rPr>
              <a:t>Sir James M. Bar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43323240SPUEaF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1798560" y="612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62699"/>
                </a:solidFill>
                <a:latin typeface="Monotype Corsiva"/>
                <a:ea typeface="MS Mincho"/>
              </a:rPr>
              <a:t> </a:t>
            </a:r>
            <a:r>
              <a:rPr b="0" i="1" lang="nl-NL" sz="3200" spc="-1" strike="noStrike">
                <a:solidFill>
                  <a:srgbClr val="262699"/>
                </a:solidFill>
                <a:latin typeface="Monotype Corsiva"/>
                <a:ea typeface="MS PGothic"/>
              </a:rPr>
              <a:t>Je fouten onthouden is alleen waardev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62699"/>
                </a:solidFill>
                <a:latin typeface="Monotype Corsiva"/>
                <a:ea typeface="MS PGothic"/>
              </a:rPr>
              <a:t>als je besluit ze niet te herhalen. </a:t>
            </a:r>
            <a:r>
              <a:rPr b="0" i="1" lang="nl-NL" sz="3200" spc="-1" strike="noStrike">
                <a:solidFill>
                  <a:srgbClr val="262699"/>
                </a:solidFill>
                <a:latin typeface="Monotype Corsiva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03874102ppVozo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142920" y="114120"/>
            <a:ext cx="86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9973"/>
                </a:solidFill>
                <a:latin typeface="Monotype Corsiva"/>
                <a:ea typeface="MS Mincho"/>
              </a:rPr>
              <a:t> </a:t>
            </a:r>
            <a:r>
              <a:rPr b="0" i="1" lang="nl-NL" sz="3200" spc="-1" strike="noStrike">
                <a:solidFill>
                  <a:srgbClr val="009973"/>
                </a:solidFill>
                <a:latin typeface="Monotype Corsiva"/>
                <a:ea typeface="MS PGothic"/>
              </a:rPr>
              <a:t>Wie anderen kent is wijs; wie zichzelf kent is verlicht.</a:t>
            </a:r>
            <a:r>
              <a:rPr b="0" i="1" lang="en-US" sz="3200" spc="-1" strike="noStrike">
                <a:solidFill>
                  <a:srgbClr val="009973"/>
                </a:solidFill>
                <a:latin typeface="Monotype Corsiva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0" y="-2268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ff"/>
                </a:solidFill>
                <a:latin typeface="Monotype Corsiva"/>
                <a:ea typeface="MS Mincho"/>
              </a:rPr>
              <a:t>Iedereen is het er over eens dat liefde prachtig en nodig is; maar niemand is het er over eens wat het precies i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Monotype Corsiva"/>
                <a:ea typeface="MS Mincho"/>
              </a:rPr>
              <a:t>Diane Ack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alifornia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42920" y="-23904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Monotype Corsiva"/>
                <a:ea typeface="MS Mincho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We leven allemaal onder dezelfde hemel, maar we hebben niet allemaal dezelfde horiz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2"/>
          <p:cNvSpPr/>
          <p:nvPr/>
        </p:nvSpPr>
        <p:spPr>
          <a:xfrm>
            <a:off x="0" y="-239040"/>
            <a:ext cx="62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00"/>
                </a:solidFill>
                <a:latin typeface="Monotype Corsiva"/>
                <a:ea typeface="MS Mincho"/>
              </a:rPr>
              <a:t> </a:t>
            </a:r>
            <a:r>
              <a:rPr b="0" lang="nl-BE" sz="3200" spc="-1" strike="noStrike">
                <a:solidFill>
                  <a:srgbClr val="808000"/>
                </a:solidFill>
                <a:latin typeface="Monotype Corsiva"/>
                <a:ea typeface="MS PGothic"/>
              </a:rPr>
              <a:t>Een dier heeft geen woorden nodig. Het is toch niet van plan om te lie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alifornia20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3"/>
          <p:cNvSpPr/>
          <p:nvPr/>
        </p:nvSpPr>
        <p:spPr>
          <a:xfrm>
            <a:off x="0" y="5261760"/>
            <a:ext cx="92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ffff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00ffff"/>
                </a:solidFill>
                <a:latin typeface="Monotype Corsiva"/>
                <a:ea typeface="MS PGothic"/>
              </a:rPr>
              <a:t>Wie niet in staat is een fout te maken is tot niets in staa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ffff"/>
                </a:solidFill>
                <a:latin typeface="Monotype Corsiva"/>
                <a:ea typeface="MS PGothic"/>
              </a:rPr>
              <a:t> </a:t>
            </a:r>
            <a:r>
              <a:rPr b="0" lang="nl-NL" sz="3200" spc="-1" strike="noStrike">
                <a:solidFill>
                  <a:srgbClr val="00ffff"/>
                </a:solidFill>
                <a:latin typeface="Monotype Corsiva"/>
                <a:ea typeface="MS PGothic"/>
              </a:rPr>
              <a:t>Lincoln</a:t>
            </a:r>
            <a:r>
              <a:rPr b="0" lang="en-US" sz="3200" spc="-1" strike="noStrike">
                <a:solidFill>
                  <a:srgbClr val="00ffff"/>
                </a:solidFill>
                <a:latin typeface="Monotype Corsiva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285840" y="-23976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00"/>
                </a:solidFill>
                <a:latin typeface="Monotype Corsiva"/>
                <a:ea typeface="MS Mincho"/>
              </a:rPr>
              <a:t>Je denkt dat je van je vrouw houdt omdat ze mooi is; maar in feite is ze mooi omdat je van haar houd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2714760" y="974520"/>
            <a:ext cx="503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Liefde is het enige dat vermeerdert als je het samen de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10984281XWVnfq_ph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785880" y="-510120"/>
            <a:ext cx="74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99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262699"/>
                </a:solidFill>
                <a:latin typeface="Monotype Corsiva"/>
                <a:ea typeface="SimSun"/>
              </a:rPr>
              <a:t>Vaak hoor je het beter met je oren dic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99"/>
                </a:solidFill>
                <a:latin typeface="Monotype Corsiva"/>
                <a:ea typeface="SimSun"/>
              </a:rPr>
              <a:t>Vaak zeg je het beter met je mond dic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99"/>
                </a:solidFill>
                <a:latin typeface="Monotype Corsiva"/>
                <a:ea typeface="SimSun"/>
              </a:rPr>
              <a:t>Vaak zie je het beter met je ogen dic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riroda057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0" y="454968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99"/>
                </a:solidFill>
                <a:latin typeface="Monotype Corsiva"/>
                <a:ea typeface="MS PGothic"/>
              </a:rPr>
              <a:t>Verlies jezelf niet uit het oog door je met anderen te gaan vergelij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99"/>
                </a:solidFill>
                <a:latin typeface="Monotype Corsiva"/>
                <a:ea typeface="MS PGothic"/>
              </a:rPr>
              <a:t>We zijn juist speciaal omdat we allemaal uniek zijn.</a:t>
            </a:r>
            <a:r>
              <a:rPr b="0" lang="en-US" sz="3200" spc="-1" strike="noStrike">
                <a:solidFill>
                  <a:srgbClr val="ffff99"/>
                </a:solidFill>
                <a:latin typeface="Monotype Corsiva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1"/>
          <p:cNvSpPr/>
          <p:nvPr/>
        </p:nvSpPr>
        <p:spPr>
          <a:xfrm>
            <a:off x="-276480" y="4933440"/>
            <a:ext cx="104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16c0"/>
                </a:solidFill>
                <a:latin typeface="Monotype Corsiva"/>
                <a:ea typeface="MS Mincho"/>
              </a:rPr>
              <a:t>Ik wil  Gods gedachten weten. De rest is onbelangrij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16c0"/>
                </a:solidFill>
                <a:latin typeface="Monotype Corsiva"/>
                <a:ea typeface="MS Mincho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1785960" y="933120"/>
            <a:ext cx="621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16c0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2a16c0"/>
                </a:solidFill>
                <a:latin typeface="Monotype Corsiva"/>
                <a:ea typeface="MS PGothic"/>
              </a:rPr>
              <a:t>Als je troebel water met rust laat  wordt het vanzelf  he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2716745BRBkdt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2"/>
          <p:cNvSpPr/>
          <p:nvPr/>
        </p:nvSpPr>
        <p:spPr>
          <a:xfrm>
            <a:off x="857160" y="6040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2228b"/>
                </a:solidFill>
                <a:latin typeface="Monotype Corsiva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42920" y="1617480"/>
            <a:ext cx="62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73"/>
                </a:solidFill>
                <a:latin typeface="Monotype Corsiva"/>
                <a:ea typeface="MS PGothic"/>
              </a:rPr>
              <a:t>Gelijk hebb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73"/>
                </a:solidFill>
                <a:latin typeface="Monotype Corsiva"/>
                <a:ea typeface="MS PGothic"/>
              </a:rPr>
              <a:t>hangt niet af van een luide 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711e"/>
            </a:gs>
            <a:gs pos="100000">
              <a:srgbClr val="5134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27109925YkSRLs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42920" y="290160"/>
            <a:ext cx="811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Monotype Corsiva"/>
                <a:ea typeface="MS Mincho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Wie de muziek van de ziel hoor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beheerst de melodie van het le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 rot="21229800">
            <a:off x="410400" y="538920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00"/>
                </a:solidFill>
                <a:latin typeface="Bradley Hand ITC"/>
              </a:rPr>
              <a:t>Een fijne dag toe gewen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71680" y="40431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Als een echte vriend je vergezelt, is geen weg je te la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10983843hTLiWc_ph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1824120" y="3975840"/>
            <a:ext cx="731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Monotype Corsiva"/>
                <a:ea typeface="MS Mincho"/>
              </a:rPr>
              <a:t> </a:t>
            </a:r>
            <a:r>
              <a:rPr b="0" i="1" lang="nl-NL" sz="3200" spc="-1" strike="noStrike">
                <a:solidFill>
                  <a:srgbClr val="ffff00"/>
                </a:solidFill>
                <a:latin typeface="Monotype Corsiva"/>
                <a:ea typeface="MS PGothic"/>
              </a:rPr>
              <a:t>Onthoud nooit wat  je gegeven hebt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Monotype Corsiva"/>
                <a:ea typeface="MS PGothic"/>
              </a:rPr>
              <a:t>maar vergeet nooit wat  je ontvangen heb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285840" y="-9396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73"/>
                </a:solidFill>
                <a:latin typeface="Monotype Corsiva"/>
                <a:ea typeface="MS Mincho"/>
              </a:rPr>
              <a:t>Net als met de mazelen, is liefde he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73"/>
                </a:solidFill>
                <a:latin typeface="Monotype Corsiva"/>
                <a:ea typeface="MS Mincho"/>
              </a:rPr>
              <a:t>meest gevaarlijk als het laat in je leven kom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9973"/>
                </a:solidFill>
                <a:latin typeface="Monotype Corsiva"/>
                <a:ea typeface="MS Mincho"/>
              </a:rPr>
              <a:t>Lord By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642960" y="4763880"/>
            <a:ext cx="80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SimSun"/>
              </a:rPr>
              <a:t>Een glimlach is als een lamp aan het vens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SimSu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SimSun"/>
              </a:rPr>
              <a:t>van het gezicht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SimSun"/>
              </a:rPr>
              <a:t>die bewijst dat het hart thuis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571760" y="117360"/>
            <a:ext cx="60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Monotype Corsiva"/>
                <a:ea typeface="MS Mincho"/>
              </a:rPr>
              <a:t> </a:t>
            </a:r>
            <a:r>
              <a:rPr b="0" i="1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Zorg ervoor dat de stem van je  hart luider is dan die van je eigen e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39146466PAJIhy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4"/>
          <p:cNvSpPr/>
          <p:nvPr/>
        </p:nvSpPr>
        <p:spPr>
          <a:xfrm>
            <a:off x="-819360" y="218880"/>
            <a:ext cx="984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PGothic"/>
              </a:rPr>
              <a:t>Een mens trachten te begrijpen is vaak zo moeil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PGothic"/>
              </a:rPr>
              <a:t> </a:t>
            </a: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PGothic"/>
              </a:rPr>
              <a:t>dat men hem gemakshalve maar veroorde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26892030DVdzlu_ph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1714680" y="-2664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Goede gedachten komen altijd uit je har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één woord teveel is een gedachte te wein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69694318nGNLMA_ph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-496800" y="3960"/>
            <a:ext cx="768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4d"/>
                </a:solidFill>
                <a:latin typeface="Monotype Corsiva"/>
                <a:ea typeface="MS Mincho"/>
              </a:rPr>
              <a:t> </a:t>
            </a:r>
            <a:r>
              <a:rPr b="0" lang="nl-BE" sz="3200" spc="-1" strike="noStrike">
                <a:solidFill>
                  <a:srgbClr val="00664d"/>
                </a:solidFill>
                <a:latin typeface="Monotype Corsiva"/>
                <a:ea typeface="MS PGothic"/>
              </a:rPr>
              <a:t>Ons leven kan in een flits verander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664d"/>
                </a:solidFill>
                <a:latin typeface="Monotype Corsiva"/>
                <a:ea typeface="MS PGothic"/>
              </a:rPr>
              <a:t>door mensen die we niet eens kennen.</a:t>
            </a:r>
            <a:r>
              <a:rPr b="0" i="1" lang="en-US" sz="3200" spc="-1" strike="noStrike">
                <a:solidFill>
                  <a:srgbClr val="00664d"/>
                </a:solidFill>
                <a:latin typeface="Monotype Corsiva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06:52Z</dcterms:created>
  <dc:creator/>
  <dc:description/>
  <dc:language>en-US</dc:language>
  <cp:lastModifiedBy/>
  <dcterms:modified xsi:type="dcterms:W3CDTF">2009-08-16T20:15:28Z</dcterms:modified>
  <cp:revision>14</cp:revision>
  <dc:subject/>
  <dc:title>Dia 1</dc:title>
</cp:coreProperties>
</file>