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fleetwood%20mac%20albatross.wav" ContentType="audio/x-wav"/>
  <Override PartName="/ppt/media/image17.png" ContentType="image/png"/>
  <Override PartName="/ppt/media/image14.jpeg" ContentType="image/jpeg"/>
  <Override PartName="/ppt/media/image13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E914-6474-457B-A967-21CF63768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50C1-5CF1-4C9C-BBA7-C0659DEC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420C-6368-4AF1-8EC4-2480FF89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6C2E-E347-44F5-8038-3F00122BA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1DAB-6AA4-42F0-9D98-80B318C9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F4C9-1A1A-460B-B064-51AF1E92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79D7-B1C0-4F54-A0FE-DF07B40C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E376-18DE-4615-AB90-BF6EFBBE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C94A-38AC-4047-B17C-17ECD6CB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0F8A-67C7-4C24-840B-793177D6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0E5B-4B8A-4113-AB90-BD1C8B7E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CC79-E793-45D3-B2C0-61226C86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D3EE-B24C-4CA7-B6B8-2B559F64A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fleetwood%20mac%20albatros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066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00"/>
                </a:solidFill>
                <a:latin typeface="Flat Brush"/>
              </a:rPr>
              <a:t>Powerpoint Hans Marisch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342900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169F-4764-4BF0-8E6A-4CB28F4B79F5}" type="datetime2">
              <a:rPr b="1" lang="nl-BE" sz="2400" spc="-1" strike="noStrike">
                <a:solidFill>
                  <a:srgbClr val="ffff00"/>
                </a:solidFill>
                <a:latin typeface="DenverSerial-Black"/>
              </a:rPr>
              <a:t>dinsdag 28 juli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4382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00"/>
                </a:solidFill>
                <a:latin typeface="Black Chancery"/>
              </a:rPr>
              <a:t>Mooie uitspra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334120"/>
            <a:ext cx="5246640" cy="41112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  <p:sndAc>
      <p:stSnd>
        <p:snd r:embed="rId3" name="fleetwood%20mac%20albatros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38088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Deutsch Gothic"/>
              </a:rPr>
              <a:t>Elke minuut dat je je druk maakt om je verled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Deutsch Gothic"/>
              </a:rPr>
              <a:t>gaat af van je toekom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715000" y="312408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152280"/>
            <a:ext cx="7010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Deutsch Gothic"/>
              </a:rPr>
              <a:t>Tussen het volhouden do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Deutsch Gothic"/>
              </a:rPr>
              <a:t>mag je best even uitrus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0" y="4191120"/>
            <a:ext cx="40384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Deutsch Gothic"/>
              </a:rPr>
              <a:t>Geluk is als een kwajo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Deutsch Gothic"/>
              </a:rPr>
              <a:t>Het klopt aan uw de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Deutsch Gothic"/>
              </a:rPr>
              <a:t>en loopt dan hard w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4920" y="609480"/>
            <a:ext cx="32004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Deutsch Gothic"/>
              </a:rPr>
              <a:t>Laat de teleurstel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Deutsch Gothic"/>
              </a:rPr>
              <a:t>van vandaag no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Deutsch Gothic"/>
              </a:rPr>
              <a:t>de dr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Deutsch Gothic"/>
              </a:rPr>
              <a:t>van mor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Deutsch Gothic"/>
              </a:rPr>
              <a:t>overschaduw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90720" y="1905120"/>
            <a:ext cx="3886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Deutsch Gothic"/>
              </a:rPr>
              <a:t>Wie over iedere st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Deutsch Gothic"/>
              </a:rPr>
              <a:t>lang nadenk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Deutsch Gothic"/>
              </a:rPr>
              <a:t>staat zijn leven 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Deutsch Gothic"/>
              </a:rPr>
              <a:t>op een b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606600" cy="593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429000" y="4038480"/>
            <a:ext cx="606600" cy="594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533520" y="5486400"/>
            <a:ext cx="3554280" cy="320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762120" y="533520"/>
            <a:ext cx="2857320" cy="296640"/>
          </a:xfrm>
          <a:prstGeom prst="rect">
            <a:avLst/>
          </a:prstGeom>
          <a:ln w="0">
            <a:noFill/>
          </a:ln>
        </p:spPr>
      </p:pic>
    </p:spTree>
  </p:cSld>
  <p:transition advTm="8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28600" y="6094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Deutsch Gothic"/>
              </a:rPr>
              <a:t>De muziek is de moedertaal van ons h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28600" y="152280"/>
            <a:ext cx="8686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Deutsch Gothic"/>
              </a:rPr>
              <a:t>Rijkdom is als zeewate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Deutsch Gothic"/>
              </a:rPr>
              <a:t>hoe meer men er van drink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Deutsch Gothic"/>
              </a:rPr>
              <a:t>hoe dorstiger men word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57200" y="15238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Deutsch Gothic"/>
              </a:rPr>
              <a:t>Het scherpste wapen dat ik ken is het gouden puntje van mijn p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80880" y="47242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Deutsch Gothic"/>
              </a:rPr>
              <a:t>Muziek Fleetwood Mac : Albat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838080" y="-304920"/>
            <a:ext cx="10287000" cy="7543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380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Deutsch Gothic"/>
              </a:rPr>
              <a:t>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8600" y="609480"/>
            <a:ext cx="8534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Deutsch Gothic"/>
              </a:rPr>
              <a:t>Een vriend is als een prikkeldraad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Deutsch Gothic"/>
              </a:rPr>
              <a:t>als je eraan gehecht bent, raak je er moeilijk van a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57913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Deutsch Gothic"/>
              </a:rPr>
              <a:t>Een druppel tederheid is meer dan geld en mac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162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657600" y="190512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Deutsch Gothic"/>
              </a:rPr>
              <a:t>Mijn wolken treurend in het duister, vergeten dat zij het zelf zijn die de zon verborgen hou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8600" y="5791320"/>
            <a:ext cx="8610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00"/>
                </a:solidFill>
                <a:latin typeface="Deutsch Gothic"/>
              </a:rPr>
              <a:t>De eerste stap tot het realiseren van een droo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00"/>
                </a:solidFill>
                <a:latin typeface="Deutsch Gothic"/>
              </a:rPr>
              <a:t>is het in je geest tot prioriteit mak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0880" y="457200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Deutsch Gothic"/>
              </a:rPr>
              <a:t>Wees moedig genoeg om te groe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Deutsch Gothic"/>
              </a:rPr>
              <a:t>naar de bloem die je bestemming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72000" y="533520"/>
            <a:ext cx="4114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Deutsch Gothic"/>
              </a:rPr>
              <a:t>In de stil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Deutsch Gothic"/>
              </a:rPr>
              <a:t>kan je har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Deutsch Gothic"/>
              </a:rPr>
              <a:t>net als een bloe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Deutsch Gothic"/>
              </a:rPr>
              <a:t>opengaan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3962520"/>
            <a:ext cx="35049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Deutsch Gothic"/>
              </a:rPr>
              <a:t>En kun j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Deutsch Gothic"/>
              </a:rPr>
              <a:t>als je heel goed luister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Deutsch Gothic"/>
              </a:rPr>
              <a:t>de roep van het leven weer verst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5943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Deutsch Gothic"/>
              </a:rPr>
              <a:t>Het leven kan alleen achterwaarts begrepen worden, maar het moet voorwaarts geleefd wo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0880" y="5791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Deutsch Gothic"/>
              </a:rPr>
              <a:t>Maak van je leven een huis, waarin je hart kan wonen met de deur, die open staat voor als je vrienden kom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1T14:47:15Z</dcterms:created>
  <dc:creator>Debels N.</dc:creator>
  <dc:description/>
  <dc:language>en-US</dc:language>
  <cp:lastModifiedBy>Hans Marischal</cp:lastModifiedBy>
  <dcterms:modified xsi:type="dcterms:W3CDTF">2006-07-30T10:44:22Z</dcterms:modified>
  <cp:revision>3</cp:revision>
  <dc:subject/>
  <dc:title>PowerPoint-presentatie</dc:title>
</cp:coreProperties>
</file>