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eers%20(van%20pps)(1.02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3EF-2A66-4BF9-B931-F855B0F0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4333-F542-4B45-9F53-D276962E7D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0951-8803-4BF2-BED8-877BE39509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0A8B-49AC-41EC-AAE5-FA848282C2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9827-42ED-4AA1-B01A-8738DB5D3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BCF-FEA8-4EB3-A230-08A038112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A095-FF03-4DA0-8EFB-3E66309F5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31D8-BF22-45F9-B2E9-8DC3063635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4A9E-5E5D-4170-9D60-CD4115B194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2C3-FC31-4121-9526-1EA0CA1D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6B1-47A8-46B8-9A40-4AFB4D06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1BA-5DBD-4DC0-B3AA-3A7E1191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F17-D36F-4AB7-B3D2-8742A9EB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123C-1F3E-496A-8FBB-43CB12FA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88A1-C29E-400E-998A-A3FC7F2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86BF-5FEE-48E9-8E5B-72544046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CA42-EBB1-457F-B2E3-1E3F796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79FE-D77F-4EAF-821F-460D9920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BD5A-5E54-4148-853C-480DB57B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E650-0AE5-40B7-92DE-CC3B37B8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7AD-AA64-480C-BD09-8AEE92C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2DDF-5511-4003-BE83-EC84238A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4A3-86A1-49B8-A847-8DE51BC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FA40-B9DF-4EF0-B47A-F46C8F4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FB3F-7721-4091-BB2E-813FCA3A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08FF-348B-48D6-BB43-E1E03E90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D2A-ADCA-454E-BD1A-55A952DF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2BD-D8A0-477C-BD65-E563BF6F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D86-B16C-4539-ABD8-FD23FEB9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872-4974-4EA4-91E8-306B0E82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0CA-85CC-4872-9BEA-2F8AA4C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3E2-09B8-4154-B2E1-865433A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6E5-0852-4907-82CD-4AEA821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34B7-4BF6-4114-B8DB-AF704AA5570E}" type="slidenum">
              <a:rPr b="0" lang="nl-B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151-3511-4FE9-B1B2-A9E085871BBD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rs%20(van%20pps)(1.02)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Pasen is weer daa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pasen 2"/>
          <p:cNvPicPr/>
          <p:nvPr/>
        </p:nvPicPr>
        <p:blipFill>
          <a:blip r:embed="rId1"/>
          <a:stretch/>
        </p:blipFill>
        <p:spPr>
          <a:xfrm>
            <a:off x="2484360" y="1557360"/>
            <a:ext cx="411480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  <p:sndAc>
      <p:stSnd>
        <p:snd r:embed="rId2" name="Cheers%20(van%20pps)(1.0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Daarom moet ik je wat vertellen,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Picture 4" descr="pasen5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kom eens wat dichte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4" descr="pasen6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cc"/>
                </a:solidFill>
                <a:latin typeface="Tahoma"/>
              </a:rPr>
              <a:t>Ik wens je vele lekkere eitjes,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4" descr="pasen3"/>
          <p:cNvPicPr/>
          <p:nvPr/>
        </p:nvPicPr>
        <p:blipFill>
          <a:blip r:embed="rId1"/>
          <a:stretch/>
        </p:blipFill>
        <p:spPr>
          <a:xfrm>
            <a:off x="3073320" y="1600200"/>
            <a:ext cx="2995560" cy="449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en een groot feest met velen,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4" descr="pasen112"/>
          <p:cNvPicPr/>
          <p:nvPr/>
        </p:nvPicPr>
        <p:blipFill>
          <a:blip r:embed="rId1"/>
          <a:stretch/>
        </p:blipFill>
        <p:spPr>
          <a:xfrm>
            <a:off x="755640" y="2492280"/>
            <a:ext cx="7535880" cy="3137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waar je goed veel kan lachen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4" descr="pasen 4"/>
          <p:cNvPicPr/>
          <p:nvPr/>
        </p:nvPicPr>
        <p:blipFill>
          <a:blip r:embed="rId1"/>
          <a:stretch/>
        </p:blipFill>
        <p:spPr>
          <a:xfrm>
            <a:off x="1332000" y="2060640"/>
            <a:ext cx="6126120" cy="4116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cc"/>
                </a:solidFill>
                <a:latin typeface="Tahoma"/>
              </a:rPr>
              <a:t>en daarna kan dromen over hoe goed het w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4" descr="pasen"/>
          <p:cNvPicPr/>
          <p:nvPr/>
        </p:nvPicPr>
        <p:blipFill>
          <a:blip r:embed="rId1"/>
          <a:stretch/>
        </p:blipFill>
        <p:spPr>
          <a:xfrm>
            <a:off x="2700360" y="1484280"/>
            <a:ext cx="3214800" cy="4924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fijne-paasdagen"/>
          <p:cNvPicPr/>
          <p:nvPr/>
        </p:nvPicPr>
        <p:blipFill>
          <a:blip r:embed="rId1"/>
          <a:stretch/>
        </p:blipFill>
        <p:spPr>
          <a:xfrm>
            <a:off x="468360" y="765000"/>
            <a:ext cx="8064360" cy="535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00:40Z</dcterms:created>
  <dc:creator>Francis Roelans</dc:creator>
  <dc:description/>
  <dc:language>en-US</dc:language>
  <cp:lastModifiedBy>Francis Roelans</cp:lastModifiedBy>
  <dcterms:modified xsi:type="dcterms:W3CDTF">2011-04-18T11:03:52Z</dcterms:modified>
  <cp:revision>1</cp:revision>
  <dc:subject/>
  <dc:title>Pasen is weer daar…</dc:title>
</cp:coreProperties>
</file>