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eers%20(van%20pps)(1.02)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FB7E-BC33-4262-B432-9FEC3E4E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DE9D-2136-43C8-93CC-BE113909B3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7A4D-1CD0-4D73-B1CE-D9F3F4FE00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5515-A603-47A1-8A95-7C3F319D60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ECE0-353E-46EB-948A-B59D8F249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EEC-93CE-49D2-B7D3-A2F056BD09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8183-5B87-4F04-91DE-28C31860C0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44C4-33D4-4B8C-965C-57DFEED71F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06F5-15AC-4CCD-9B7F-2ABD0B073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D6D-CAB9-44B2-9360-00EE4A74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36A-3A3F-4B5E-8C7A-4AB5ECE4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F21-5321-401B-932C-87E46091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6BF-65DD-4CA0-B9E8-46DCA11D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FF9D-73B5-4B2E-97E4-AFBE9195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F615-E443-43D9-B4A1-DECA1720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CDF1-CA7B-40CC-BE5D-18437627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86BC-9824-4175-9EF0-EE3071C6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9391-A03A-4814-99F5-AC12F56B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78A-B36A-4915-9BBB-22CAC34E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0310-2DBF-4405-9F7F-4C5CB6CD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335D-B927-4BFB-AC63-7AD1FC51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E512-285C-4875-A404-2C50C500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4AEE-2204-4B75-A759-C62AC71C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BD23-E2C4-47E6-9ABB-669D59B1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5939-149B-4207-9792-27B16B37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CEA0-FEF5-4F7F-85FF-F83EC8FA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D73-F530-46D5-9096-8F80276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203-A9BA-4EBF-9978-B4B98D3D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4A2D-AAA2-40F9-B3F6-01C0AA2B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75C-0288-4AB5-8A95-BAA77C2D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EDE-6F3A-4D01-951B-027875FC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CBB-E12E-443D-BC55-194E7AC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311-B976-48FD-9652-0DC9021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2DDC-9117-4ED1-8F0F-5A779AF035EC}" type="slidenum">
              <a:rPr b="0" lang="nl-B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F508-D638-425F-B257-F20972D4A863}" type="slidenum">
              <a:rPr b="0" lang="nl-B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rs%20(van%20pps)(1.02)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Pasen is weer daa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4" descr="pasen 2"/>
          <p:cNvPicPr/>
          <p:nvPr/>
        </p:nvPicPr>
        <p:blipFill>
          <a:blip r:embed="rId1"/>
          <a:stretch/>
        </p:blipFill>
        <p:spPr>
          <a:xfrm>
            <a:off x="2484360" y="1557360"/>
            <a:ext cx="411480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  <p:sndAc>
      <p:stSnd>
        <p:snd r:embed="rId2" name="Cheers%20(van%20pps)(1.0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Daarom moet ik je wat vertellen,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Picture 4" descr="pasen5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kom eens wat dichte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Picture 4" descr="pasen6"/>
          <p:cNvPicPr/>
          <p:nvPr/>
        </p:nvPicPr>
        <p:blipFill>
          <a:blip r:embed="rId1"/>
          <a:stretch/>
        </p:blipFill>
        <p:spPr>
          <a:xfrm>
            <a:off x="1571760" y="16002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ffffcc"/>
                </a:solidFill>
                <a:latin typeface="Tahoma"/>
              </a:rPr>
              <a:t>Ik wens je vele lekkere eitjes,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Picture 4" descr="pasen3"/>
          <p:cNvPicPr/>
          <p:nvPr/>
        </p:nvPicPr>
        <p:blipFill>
          <a:blip r:embed="rId1"/>
          <a:stretch/>
        </p:blipFill>
        <p:spPr>
          <a:xfrm>
            <a:off x="3073320" y="1600200"/>
            <a:ext cx="2995560" cy="4498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en een groot feest met velen,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1" name="Picture 4" descr="pasen112"/>
          <p:cNvPicPr/>
          <p:nvPr/>
        </p:nvPicPr>
        <p:blipFill>
          <a:blip r:embed="rId1"/>
          <a:stretch/>
        </p:blipFill>
        <p:spPr>
          <a:xfrm>
            <a:off x="755640" y="2492280"/>
            <a:ext cx="7535880" cy="3137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ffffcc"/>
                </a:solidFill>
                <a:latin typeface="Tahoma"/>
              </a:rPr>
              <a:t>waar je goed veel kan lachen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3" name="Picture 4" descr="pasen 4"/>
          <p:cNvPicPr/>
          <p:nvPr/>
        </p:nvPicPr>
        <p:blipFill>
          <a:blip r:embed="rId1"/>
          <a:stretch/>
        </p:blipFill>
        <p:spPr>
          <a:xfrm>
            <a:off x="1332000" y="2060640"/>
            <a:ext cx="6126120" cy="41162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cc"/>
                </a:solidFill>
                <a:latin typeface="Tahoma"/>
              </a:rPr>
              <a:t>en daarna kan dromen over hoe goed het was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5" name="Picture 4" descr="pasen"/>
          <p:cNvPicPr/>
          <p:nvPr/>
        </p:nvPicPr>
        <p:blipFill>
          <a:blip r:embed="rId1"/>
          <a:stretch/>
        </p:blipFill>
        <p:spPr>
          <a:xfrm>
            <a:off x="2700360" y="1484280"/>
            <a:ext cx="3214800" cy="4924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zoom dir="ou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fijne-paasdagen"/>
          <p:cNvPicPr/>
          <p:nvPr/>
        </p:nvPicPr>
        <p:blipFill>
          <a:blip r:embed="rId1"/>
          <a:stretch/>
        </p:blipFill>
        <p:spPr>
          <a:xfrm>
            <a:off x="468360" y="765000"/>
            <a:ext cx="8064360" cy="535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00:40Z</dcterms:created>
  <dc:creator>Francis Roelans</dc:creator>
  <dc:description/>
  <dc:language>en-US</dc:language>
  <cp:lastModifiedBy>Francis Roelans</cp:lastModifiedBy>
  <dcterms:modified xsi:type="dcterms:W3CDTF">2011-04-18T11:03:52Z</dcterms:modified>
  <cp:revision>1</cp:revision>
  <dc:subject/>
  <dc:title>Pasen is weer daar…</dc:title>
</cp:coreProperties>
</file>