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8CA9-9070-4804-9D29-B790FCAEDA4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A1D8-B006-473A-9751-945E5FF6018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0316-76DD-44F9-A86B-86445ABF254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FFFE-E8A1-47E5-9768-25B5B82A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633-BFB7-418F-B9B7-01A5C395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667CC-8187-40AC-9D45-B87F3CD9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C1F99-D6BC-4837-9AD4-03B19CB0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D24E9-A813-43AC-8414-C6E0C506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8ED11-5070-4469-B5F9-7DB3C452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3AFCC-BD65-4024-91F6-2082516D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CF92B-5037-459B-A4E7-77C8632D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559EB-BFB3-49DC-808C-871B4032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23C00-7372-43E8-8D3B-E3815ABC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D2592-65F2-46AC-BE35-144A7808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05EE1-E14A-4377-BE28-FC5F331C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450-DA3C-4459-97E6-FC3C4A8D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FA4F5-279B-450F-9EA5-3C7815A8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01A88-7B57-4986-80BF-27A79478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7DAC7-62C4-4B0A-8DCF-B494F8A1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8CEA2-953C-44F2-997A-885D3D1A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F0062-B52F-44FB-8545-AC345555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7DB71-6C89-4376-AD4F-C1FF4B78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17C0A-4794-4D98-A66E-15C5573C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689FA-3B7C-4217-A9B5-2E540BF8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E9D5E-7AAB-4469-994E-2A9C6DF8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86915-F71F-486F-9536-AE89F45A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0009-5FAA-4778-938E-83D806AF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39169-9B18-413B-8E8E-4FD139B1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9717D-B4F8-409C-B484-EA84EB08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3B424-7D84-47FB-B297-758B6F80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55F8B-CAFA-4A06-B5B6-34AB91E8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F6C85-D8D0-4589-98D6-B3EC795D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94C30-1546-42CD-9A58-FD6A758D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7D065-2BCE-425B-A933-ED019F73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C8053-5640-4380-B017-01264A59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2F361-DD81-421C-B60D-6E52FC8F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F66FD-4872-46D6-841B-61C6750A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EB92-E34C-4385-869C-BAC33116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0EF24-E2BC-4DCF-980E-C91DE296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4D56F-B9A9-49A7-80F4-BFE14C94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73D6B-337F-4FEB-BDCE-DE409C4A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E8822-E085-4E9D-A59D-DB4D2632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E4260-08CB-443E-9B6A-20494A33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52935-3DC9-43D2-9CBB-640CFA59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4D06F-A6EA-4058-B44E-7A43F5DA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9524D-0D23-48F5-84C5-45E75983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6B0BB-43FB-4648-A48C-E65B9060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E6B21-A7E1-4F00-91E3-570EF15C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C70E-B325-4747-B81E-0DDD4DF7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9114D-1A22-4AC2-981E-5543C81A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CE8B7-D436-46CF-8680-C132135F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DCA9C-ED3C-4D0C-A529-6A51637C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7CFD5-72B8-4382-9AFF-E971B315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6BD54-0588-4DC5-9946-345DAC1F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7AEF-FFD5-4768-B175-F9A05FF9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B4E9-66C6-4731-8585-5FB94DDD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9E35-5330-411A-BC44-18DF9562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9CA8-B5FD-40B3-8BBF-2DB3239F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FDE0-60A0-4FEC-BB6F-8E13B238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FBC5-0726-4171-BDB2-17FF9656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8D9B-9BF3-4B17-AEE6-2E2FC010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3C94-F693-437D-B03B-1FE54970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FCED-A927-494D-81EE-522D9268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E2E0-5BBF-4CC0-A1E3-4418921A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F84B-6B96-492A-BDA8-BDD3C4BC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01BEB-7F49-45B5-8D01-0AF4887B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414AD-3246-4BB4-9D87-0E511687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8195E-E368-4506-9A96-34051F38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D37C6-56E9-454E-BE83-EB73513F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F2E6E-4EBD-48E7-AAB1-6D1CAD45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030C-9D2B-42CB-A666-C1ADE34E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7F56B-1E50-4263-A832-22C64BD5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702DB-D0D5-4DBF-8416-DE6F2DBD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4C190-E819-4FF4-B28A-E3C5DE93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23411-C2EF-44A0-9CE4-1450B9D6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FD508-EF9E-48E6-AE8F-F4FF224F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5FE03-DD88-4FAD-A9B4-EFF7DF53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D2598-C2B7-433C-ABF7-FBCB70B8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07335-9298-45EF-B4D5-58BD99E1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8CCD1-7008-4C3E-B194-C6E1F393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117FB-C534-4655-9854-A9B3EC8F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FF3-F6B2-45EC-AC7B-86FAC501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9F54D-B5C4-4CC0-A396-46985F5F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FDC6E-E58C-4888-81D0-E5D4DB0D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87804-D318-4BCE-BF98-8F9BF778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15551-F8B6-4048-A27D-D3958A7A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C9ADD-326C-4EA4-A6D8-912FE09C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7B2C1-588A-4E35-BB0F-24FF74D4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9A3A4-2013-4CB4-B318-59130CE1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6303F-070E-4D9E-84A3-E59A29A9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78061-797A-4B80-8EA5-AAE8BABB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138FF-6ECD-4585-9834-65259F02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440-74F9-4842-B31F-86D8A8B5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857AC-EB89-4F1E-8456-276DCF02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8923A-9DC5-4262-B616-2D0CDA62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1A466-9D2C-446F-98BB-183474E3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9211D-1FB1-4445-94F1-845B303C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17C10-0308-4BD2-BF1A-DD5C1638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4B5AC-66B6-47CD-9BD7-34F2CDC8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0E6DA-E48F-48E1-8B6F-6890E94D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F0012-EEDA-48FB-B64C-9984D8D7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9E1D0-3585-4883-BFAC-E11D63ED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F20BC-E720-4C16-A646-0206B1FB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C4B-B4F3-4E5A-BE0C-202D545E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22553-A385-407C-BCA4-74EDE93E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3B0B1-CD7D-4890-8A7D-CDE32F93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45205-FBC5-46D4-8AC0-359A9F6A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353E7-C3EC-4150-81F2-27071CA0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77629-6368-44F2-B73E-70144074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C67D4-9FD3-43DC-96F9-80781A34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CF1B3-21DF-483B-899B-F7034468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75B48-F605-4545-9EA0-D363675D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E6CB5-B9F8-4EEE-B922-BEDFEC96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22D21-DAC8-4B6A-A86B-66D784B3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927-7B6B-4F8A-93FF-49C0F621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E660F-AB3C-44D2-9EBD-6FB43EF5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A8CD5-099A-464B-8094-109E271F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DB153-E571-4572-B7AF-AE58A5C9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60B06-AFC2-42BC-8511-322248FE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ED4EB-3CB5-4902-97EF-EC5DFCBC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70730-72FA-4463-9DFD-AF897004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B9EED-C60E-47F4-BD48-7A3DBDCF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82412-0492-4AF8-B603-4688E162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B4634-7DAC-4889-BBD5-230BD9DA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B5CB3-26CD-457D-BF8D-F669B26C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96EC-48D5-483B-ABFB-666E17B3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5BFEF-461F-426A-8824-8AED9D09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F8A42-891B-4581-932C-27B93832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76857-4517-4B57-A0E3-E445B6BF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AA0A1-2BC4-4B88-80DB-A8C4897D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137AB-F04A-495E-8223-B1AB55DC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2BB1D-5640-4CDD-A29A-C14CF113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9E015-FA96-4A00-BE87-147C0EF4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BFC98-C11F-4449-A15B-CA6BD105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7C92C-A8D5-4B3C-B2FE-C2A3D540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67C41-6EB1-4368-A232-A423D4C8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F8F3-6DCC-49E0-B6D4-6F156673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541C5-5968-4343-897E-9B656F6D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6CB98-1815-48F1-B77F-F8E1D629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14B73-BF39-4467-A624-23320545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99497-B027-4CE7-8920-5A7433EA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04855-29F9-488F-BBFD-AA12D296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B2A4F-1A7F-4DF0-B454-A10E29B7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EEFC4-E0D7-4F7E-9ADA-659D841A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36C39-099C-4A6E-BA0B-1CB5F5B7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D237E-2758-4461-92D6-CDD11DA5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A8212-ABF9-4305-937C-0C8CBC64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4D78-BE3F-4885-9E68-12D6FD09F59F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09D2-3463-4F47-89F3-18BA72F3519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8A5E-DD68-425D-BC55-21DD1F9E6A5C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5163-0F9C-4DBB-8131-A6C0E9BE3B7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FEEE-D4C4-4F34-A6D6-E00AC65109ED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20BE-7EFF-45AE-B257-922A93F8361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68FD-8D55-4CF0-B6D1-51F911F549F8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5888-8557-4577-9EEC-C44A9998E0B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65E8-E3A9-4E2D-A4DD-BAD066BD7EF6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49F1-F03F-48D7-AA85-A27866B7F29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AAB8-74FF-4DD9-93B5-DB5900FBF771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552E-7CBF-4F6C-8979-72A9C60CDF4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9E04-1400-429D-8F3E-91C5EDE35D57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2C36-94AF-4E34-8362-FC4CFCBD19A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A69C-10DD-44CF-ABA1-C9E2466C435E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D4AB-E01B-476C-96EE-A741AE4EBC6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2533-BE54-43D6-9ED4-CF4ADCE2D2FC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7050-6787-4164-BB60-FD03307AD5F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2178-3609-4B4E-97E5-A1275809C83F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D4BE-846F-417A-A412-43DA73BFC6F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F111-0FEA-4FC4-A258-F7EF14FBE413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35CD-F4E7-434A-87FC-7EDBEE1B43D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3E80-7F93-446F-B9C5-2FDF5A58E9C4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F9E7-699A-4EFB-9D6F-24EE84B1244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E. Cortazar - Eternal love affair.wav" descr=""/>
          <p:cNvPicPr/>
          <p:nvPr/>
        </p:nvPicPr>
        <p:blipFill>
          <a:blip r:embed="rId2"/>
          <a:stretch/>
        </p:blipFill>
        <p:spPr>
          <a:xfrm>
            <a:off x="-1523880" y="66135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500" name="TextBox 4"/>
          <p:cNvSpPr/>
          <p:nvPr/>
        </p:nvSpPr>
        <p:spPr>
          <a:xfrm>
            <a:off x="826920" y="333360"/>
            <a:ext cx="762336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SG" sz="4000" spc="-1" strike="noStrike">
                <a:solidFill>
                  <a:srgbClr val="000000"/>
                </a:solidFill>
                <a:latin typeface="Lucida Calligraphy"/>
                <a:ea typeface="굴림"/>
              </a:rPr>
              <a:t>Filosofie voor de ouwe d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8"/>
          <p:cNvSpPr/>
          <p:nvPr/>
        </p:nvSpPr>
        <p:spPr>
          <a:xfrm>
            <a:off x="500040" y="2428920"/>
            <a:ext cx="82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1800" spc="-1" strike="noStrike">
                <a:solidFill>
                  <a:srgbClr val="3333cc"/>
                </a:solidFill>
                <a:latin typeface="Comic Sans MS"/>
                <a:ea typeface="KaiTi"/>
              </a:rPr>
              <a:t>ALS JE DIT NIET TOT HET EINDE LEEST, </a:t>
            </a:r>
            <a:br>
              <a:rPr sz="1800"/>
            </a:br>
            <a:r>
              <a:rPr b="1" lang="en-SG" sz="1800" spc="-1" strike="noStrike">
                <a:solidFill>
                  <a:srgbClr val="3333cc"/>
                </a:solidFill>
                <a:latin typeface="Comic Sans MS"/>
                <a:ea typeface="KaiTi"/>
              </a:rPr>
              <a:t>BEN JE EEN STUKJE VAN JE LEVEN KWIJT. </a:t>
            </a:r>
            <a:br>
              <a:rPr sz="1800"/>
            </a:br>
            <a:r>
              <a:rPr b="1" lang="en-SG" sz="1800" spc="-1" strike="noStrike">
                <a:solidFill>
                  <a:srgbClr val="3333cc"/>
                </a:solidFill>
                <a:latin typeface="Comic Sans MS"/>
                <a:ea typeface="KaiTi"/>
              </a:rPr>
              <a:t>MAAR ALS HE HET WEL HEBT GEDA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1800" spc="-1" strike="noStrike">
                <a:solidFill>
                  <a:srgbClr val="3333cc"/>
                </a:solidFill>
                <a:latin typeface="Comic Sans MS"/>
                <a:ea typeface="KaiTi"/>
              </a:rPr>
              <a:t>DOE DAN ZOALS IK NU DOE : </a:t>
            </a:r>
            <a:br>
              <a:rPr sz="1800"/>
            </a:br>
            <a:r>
              <a:rPr b="1" lang="en-SG" sz="1800" spc="-1" strike="noStrike">
                <a:solidFill>
                  <a:srgbClr val="3333cc"/>
                </a:solidFill>
                <a:latin typeface="Comic Sans MS"/>
                <a:ea typeface="KaiTi"/>
              </a:rPr>
              <a:t>STUUR HET DOOR!</a:t>
            </a:r>
            <a:r>
              <a:rPr b="1" lang="en-SG" sz="1800" spc="-1" strike="noStrike">
                <a:solidFill>
                  <a:srgbClr val="3333cc"/>
                </a:solidFill>
                <a:latin typeface="Aharoni"/>
                <a:ea typeface="KaiT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"/>
          <p:cNvSpPr/>
          <p:nvPr/>
        </p:nvSpPr>
        <p:spPr>
          <a:xfrm>
            <a:off x="285840" y="5572080"/>
            <a:ext cx="480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lligraphy"/>
                <a:ea typeface="굴림"/>
              </a:rPr>
              <a:t>Muziek : Ernesto Cortazar “Eternal Love Affair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"/>
          <p:cNvSpPr/>
          <p:nvPr/>
        </p:nvSpPr>
        <p:spPr>
          <a:xfrm>
            <a:off x="6786720" y="5572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lligraphy"/>
                <a:ea typeface="굴림"/>
              </a:rPr>
              <a:t>He Yan Jan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8"/>
          <p:cNvSpPr/>
          <p:nvPr/>
        </p:nvSpPr>
        <p:spPr>
          <a:xfrm>
            <a:off x="4859280" y="465300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굴림"/>
              </a:rPr>
              <a:t>Klik om door te ga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kstvak 7"/>
          <p:cNvSpPr/>
          <p:nvPr/>
        </p:nvSpPr>
        <p:spPr>
          <a:xfrm>
            <a:off x="6948360" y="6021360"/>
            <a:ext cx="17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00"/>
                </a:solidFill>
                <a:latin typeface="Highlight LET"/>
              </a:rPr>
              <a:t>petjep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" descr="1229346607EL6PhEf.jpg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2"/>
          <p:cNvSpPr/>
          <p:nvPr/>
        </p:nvSpPr>
        <p:spPr>
          <a:xfrm>
            <a:off x="2951280" y="2852640"/>
            <a:ext cx="619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Je hebt er zo’n vaart achter gezet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dat je pardoes de 70 BEREIKT.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Vanaf dan is het een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dag-per –dag geschiedenis.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En zo ben je bij vandaag belandt: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kstvak 4"/>
          <p:cNvSpPr/>
          <p:nvPr/>
        </p:nvSpPr>
        <p:spPr>
          <a:xfrm>
            <a:off x="5796000" y="4437000"/>
            <a:ext cx="363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fld id="{506D8E53-0D6C-49C7-883D-6FEB9243C1B1}" type="datetime2">
              <a:rPr b="0" lang="nl-BE" sz="2000" spc="-1" strike="noStrike">
                <a:solidFill>
                  <a:srgbClr val="ffffff"/>
                </a:solidFill>
                <a:latin typeface="Comic Sans MS"/>
              </a:rPr>
              <a:t>woensdag 29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1" descr="1227610123F8iJpll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2"/>
          <p:cNvSpPr/>
          <p:nvPr/>
        </p:nvSpPr>
        <p:spPr>
          <a:xfrm>
            <a:off x="3203640" y="3500280"/>
            <a:ext cx="5141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En zo, dag nà dag,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komt je bij de TACHTIGERS.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Nu  is elke dag één volledige cyclus: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je haalt de middag...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je suft verder tot het vieruurtje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en even later is het weerom bedtijd!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En  nog is het niet gedaan: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met wat geluk haal je de 90,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en dan begin je plots achteruit te tellen: ‘Ik ben nog maar pas 91..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" descr="234278052_1dc82b1741_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"/>
          <p:cNvSpPr/>
          <p:nvPr/>
        </p:nvSpPr>
        <p:spPr>
          <a:xfrm>
            <a:off x="324000" y="5141880"/>
            <a:ext cx="66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Dan gebeurt er iets merkwaardigs.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Als je voorbij de 100 raakt,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kom je weer in je kinderjaren.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‘Ik word nu 100-en-half’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1" descr="1227184338nQAeCSE.jpg"/>
          <p:cNvPicPr/>
          <p:nvPr/>
        </p:nvPicPr>
        <p:blipFill>
          <a:blip r:embed="rId1"/>
          <a:stretch/>
        </p:blipFill>
        <p:spPr>
          <a:xfrm>
            <a:off x="0" y="0"/>
            <a:ext cx="9236160" cy="697392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2"/>
          <p:cNvSpPr/>
          <p:nvPr/>
        </p:nvSpPr>
        <p:spPr>
          <a:xfrm>
            <a:off x="990360" y="45720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3200" spc="-1" strike="noStrike">
                <a:solidFill>
                  <a:srgbClr val="ff0000"/>
                </a:solidFill>
                <a:latin typeface="Comic Sans MS"/>
                <a:ea typeface="굴림"/>
              </a:rPr>
              <a:t>HOE BLIJF JE J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0" y="4900680"/>
            <a:ext cx="56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1. Gooi alle onbelangrijke getallen overboord. </a:t>
            </a: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 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Zoals : leeftijd, gewicht en lengte. Dat de dokters zich daarover maar zorgen maken. Daarvoor betaal je hen, to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4572000" y="61498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2. Behou alleen de vrolijke vrienden. 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De zeurkousen halen je onder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3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" descr="1226887380BaCLPxr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2"/>
          <p:cNvSpPr/>
          <p:nvPr/>
        </p:nvSpPr>
        <p:spPr>
          <a:xfrm>
            <a:off x="88920" y="2228760"/>
            <a:ext cx="4914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3. Blijf leergier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Leer bij over de computer, over tuinieren... over eender wat!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Maar laat je hersens niet roesten. Ledigheid is het  oorkussen van de duivel! En de naam van deze duivel is:</a:t>
            </a:r>
            <a:br>
              <a:rPr sz="2000"/>
            </a:br>
            <a:r>
              <a:rPr b="0" lang="en-SG" sz="2000" spc="-1" strike="noStrike">
                <a:solidFill>
                  <a:srgbClr val="ff0000"/>
                </a:solidFill>
                <a:latin typeface="Comic Sans MS"/>
                <a:ea typeface="굴림"/>
              </a:rPr>
              <a:t>Aloïs </a:t>
            </a:r>
            <a:r>
              <a:rPr b="0" lang="en-SG" sz="2400" spc="-1" strike="noStrike">
                <a:solidFill>
                  <a:srgbClr val="ff0000"/>
                </a:solidFill>
                <a:latin typeface="Comic Sans MS"/>
                <a:ea typeface="굴림"/>
              </a:rPr>
              <a:t>Alzheimer.</a:t>
            </a: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075200" y="6093000"/>
            <a:ext cx="44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4. Geniet van eenvoudige din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1224886662YM5aZ1t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2"/>
          <p:cNvSpPr/>
          <p:nvPr/>
        </p:nvSpPr>
        <p:spPr>
          <a:xfrm>
            <a:off x="0" y="981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5. Lach veel, lang en lu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Lach tot je naar adem moet snakk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067280" y="430380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6. Tranen horen erbij. 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Onderga, verdraag, treur ... en ga dan verder. De enige persoon die ons het ganse leven vergezelt, dat zijn wijzelf. Leef en geniet van je leven: </a:t>
            </a:r>
            <a:r>
              <a:rPr b="1" lang="en-SG" sz="2000" spc="-1" strike="noStrike">
                <a:solidFill>
                  <a:srgbClr val="ff0000"/>
                </a:solidFill>
                <a:latin typeface="Comic Sans MS"/>
                <a:ea typeface="굴림"/>
              </a:rPr>
              <a:t>NU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, terwijl je nog leeft 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4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1" descr="1222770132tLu1ynu.jpg"/>
          <p:cNvPicPr/>
          <p:nvPr/>
        </p:nvPicPr>
        <p:blipFill>
          <a:blip r:embed="rId1"/>
          <a:stretch/>
        </p:blipFill>
        <p:spPr>
          <a:xfrm>
            <a:off x="-114480" y="0"/>
            <a:ext cx="925848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2"/>
          <p:cNvSpPr/>
          <p:nvPr/>
        </p:nvSpPr>
        <p:spPr>
          <a:xfrm>
            <a:off x="324000" y="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7. Omring je met vriendschap, genegenheid, liefde...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Of het nu familie is, huisdieren, herinneringen,  muziek,  planten,  hobbies, wat dan ook. </a:t>
            </a:r>
            <a:br>
              <a:rPr sz="2000"/>
            </a:b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Je huis is je koninkrij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4284720" y="472428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8. Draag zorg voor je gezondheid. 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Is deze goed, hou ze in stand.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Als ze wankel is, verstevig ze.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En als dàt niet meer kan :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laat je dan helpen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6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" descr="1216961250P8LEBF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2"/>
          <p:cNvSpPr/>
          <p:nvPr/>
        </p:nvSpPr>
        <p:spPr>
          <a:xfrm>
            <a:off x="0" y="2133720"/>
            <a:ext cx="59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9. Vlucht schuldgevoelens.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Maak een uitstapje naar het winkelcentrum,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naar een andere provincie,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desnoods naar het buitensland...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maar het schuldgevoel moet je schuw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851280" y="5533920"/>
            <a:ext cx="49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10. Zeg aan de mensen dat je ze graag ziet, 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zo vaak mogelijk en bij eeom het even welke gelegenhei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1" descr="124317674851vmgk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2"/>
          <p:cNvSpPr/>
          <p:nvPr/>
        </p:nvSpPr>
        <p:spPr>
          <a:xfrm>
            <a:off x="2843280" y="4797360"/>
            <a:ext cx="5616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200" spc="-1" strike="noStrike">
                <a:solidFill>
                  <a:srgbClr val="ffff00"/>
                </a:solidFill>
                <a:latin typeface="Comic Sans MS"/>
                <a:ea typeface="굴림"/>
              </a:rPr>
              <a:t>EN HOU STEEDS IN GEDACHTEN :</a:t>
            </a:r>
            <a:br>
              <a:rPr sz="2200"/>
            </a:br>
            <a:r>
              <a:rPr b="0" lang="en-SG" sz="2200" spc="-1" strike="noStrike">
                <a:solidFill>
                  <a:srgbClr val="ffffff"/>
                </a:solidFill>
                <a:latin typeface="Comic Sans MS"/>
                <a:ea typeface="굴림"/>
              </a:rPr>
              <a:t>De waarde van het leven wordt niet bepaald door het aantal keren dat we ademhalen, maar door het aantal adembenemende moment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1" descr="277206117_0ed9e2e3a4_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2"/>
          <p:cNvSpPr/>
          <p:nvPr/>
        </p:nvSpPr>
        <p:spPr>
          <a:xfrm>
            <a:off x="0" y="189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400" spc="-1" strike="noStrike">
                <a:solidFill>
                  <a:srgbClr val="ffffff"/>
                </a:solidFill>
                <a:latin typeface="Comic Sans MS"/>
                <a:ea typeface="굴림"/>
              </a:rPr>
              <a:t>En als je dit nu niet onmiddellijk naar tenminste 8 personen stuurt, </a:t>
            </a:r>
            <a:br>
              <a:rPr sz="2400"/>
            </a:br>
            <a:r>
              <a:rPr b="1" lang="en-SG" sz="2400" spc="-1" strike="noStrike">
                <a:solidFill>
                  <a:srgbClr val="ffffff"/>
                </a:solidFill>
                <a:latin typeface="Comic Sans MS"/>
                <a:ea typeface="굴림"/>
              </a:rPr>
              <a:t>dan zal dat niemand een zorg wezen!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kstvak 4"/>
          <p:cNvSpPr/>
          <p:nvPr/>
        </p:nvSpPr>
        <p:spPr>
          <a:xfrm>
            <a:off x="3419640" y="4941720"/>
            <a:ext cx="5184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Maar toch ...</a:t>
            </a:r>
            <a:br>
              <a:rPr sz="2000"/>
            </a:b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deel deze filosofie maar met iemand: </a:t>
            </a:r>
            <a:br>
              <a:rPr sz="2000"/>
            </a:b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we hebben er allen nood aan </a:t>
            </a:r>
            <a:br>
              <a:rPr sz="2000"/>
            </a:b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het leven ten volle te leven...</a:t>
            </a:r>
            <a:br>
              <a:rPr sz="2000"/>
            </a:br>
            <a:r>
              <a:rPr b="1" lang="en-SG" sz="2400" spc="-1" strike="noStrike">
                <a:solidFill>
                  <a:srgbClr val="ff0000"/>
                </a:solidFill>
                <a:latin typeface="Comic Sans MS"/>
                <a:ea typeface="굴림"/>
              </a:rPr>
              <a:t>samen</a:t>
            </a: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, dag per da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1219560300AZAhqa2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20448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2"/>
          <p:cNvSpPr/>
          <p:nvPr/>
        </p:nvSpPr>
        <p:spPr>
          <a:xfrm>
            <a:off x="380880" y="1365120"/>
            <a:ext cx="6278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Ooit over nagedacht: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de enige periode in ons leven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dat we graag ouder willen zijn,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is in onze kinderjare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Onder de leeftijd van 10,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ben je zo bezig met ouder worden,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dat je zelfs de delen van het jaar meetelt.</a:t>
            </a:r>
            <a:r>
              <a:rPr b="0" lang="en-SG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1" descr="1222770132tLu1ynu.jpg"/>
          <p:cNvPicPr/>
          <p:nvPr/>
        </p:nvPicPr>
        <p:blipFill>
          <a:blip r:embed="rId1"/>
          <a:stretch/>
        </p:blipFill>
        <p:spPr>
          <a:xfrm>
            <a:off x="0" y="0"/>
            <a:ext cx="925848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Box 2"/>
          <p:cNvSpPr/>
          <p:nvPr/>
        </p:nvSpPr>
        <p:spPr>
          <a:xfrm>
            <a:off x="2209680" y="12193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굴림"/>
              </a:rPr>
              <a:t>Tot ziens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kstvak 3"/>
          <p:cNvSpPr/>
          <p:nvPr/>
        </p:nvSpPr>
        <p:spPr>
          <a:xfrm>
            <a:off x="684360" y="630864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00"/>
                </a:solidFill>
                <a:latin typeface="Brush Script MT"/>
              </a:rPr>
              <a:t>Free from English into Dutch by Petjepol 11531007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1" descr="12388504841AsVnF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2"/>
          <p:cNvSpPr/>
          <p:nvPr/>
        </p:nvSpPr>
        <p:spPr>
          <a:xfrm>
            <a:off x="250920" y="2276640"/>
            <a:ext cx="518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‘</a:t>
            </a: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Hoe oud ben je?’ </a:t>
            </a:r>
            <a:r>
              <a:rPr b="0" lang="en-SG" sz="2000" spc="-1" strike="noStrike">
                <a:solidFill>
                  <a:srgbClr val="ffff00"/>
                </a:solidFill>
                <a:latin typeface="Wingdings 3"/>
                <a:ea typeface="Wingdings 3"/>
              </a:rPr>
              <a:t></a:t>
            </a: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‘Ik ben al vier-en-half!’</a:t>
            </a: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 </a:t>
            </a:r>
            <a:br>
              <a:rPr sz="2000"/>
            </a:b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Je zal er nooit aan denken om te zeggen: ‘zesendertig-en-half’.</a:t>
            </a:r>
            <a:br>
              <a:rPr sz="2000"/>
            </a:b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Je bent vier-en-half, bijna vijf!!</a:t>
            </a:r>
            <a:br>
              <a:rPr sz="2000"/>
            </a:b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Zo zit dat!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1" descr="12215066044C6LzcG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2"/>
          <p:cNvSpPr/>
          <p:nvPr/>
        </p:nvSpPr>
        <p:spPr>
          <a:xfrm>
            <a:off x="3492360" y="4076640"/>
            <a:ext cx="56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Kom je in je tienerjaren,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dan ben je echt niet meer te houden.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Je springt direkt naar het volgende jaartal...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of zelfs meteen een paar vooru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0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" descr="12161273845F6rM7Q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2"/>
          <p:cNvSpPr/>
          <p:nvPr/>
        </p:nvSpPr>
        <p:spPr>
          <a:xfrm>
            <a:off x="1116000" y="3141720"/>
            <a:ext cx="5334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‘</a:t>
            </a: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Hoe oud ben je?’ </a:t>
            </a:r>
            <a:r>
              <a:rPr b="0" lang="en-SG" sz="1800" spc="-1" strike="noStrike">
                <a:solidFill>
                  <a:srgbClr val="ffff00"/>
                </a:solidFill>
                <a:latin typeface="Wingdings 3"/>
                <a:ea typeface="Wingdings 3"/>
              </a:rPr>
              <a:t></a:t>
            </a: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 ‘Ik word zestien!’ </a:t>
            </a:r>
            <a:br>
              <a:rPr sz="1800"/>
            </a:b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Je mag dan wel nog maar pas 13 zijn, </a:t>
            </a:r>
            <a:br>
              <a:rPr sz="1800"/>
            </a:b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maar ‘komaanzeg’ : </a:t>
            </a:r>
            <a:br>
              <a:rPr sz="1800"/>
            </a:b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je wordt 16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En dan:  de gróótste  dag van je leven: </a:t>
            </a:r>
            <a:br>
              <a:rPr sz="1800"/>
            </a:b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Je wordt 21. </a:t>
            </a:r>
            <a:br>
              <a:rPr sz="1800"/>
            </a:b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 Alleen maar het uitspreken ervan </a:t>
            </a:r>
            <a:br>
              <a:rPr sz="1800"/>
            </a:b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is al een fee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2166480" y="5732640"/>
            <a:ext cx="34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1800" spc="-1" strike="noStrike">
                <a:solidFill>
                  <a:srgbClr val="ff0000"/>
                </a:solidFill>
                <a:latin typeface="Comic Sans MS"/>
                <a:ea typeface="굴림"/>
              </a:rPr>
              <a:t>JE BENT </a:t>
            </a:r>
            <a:r>
              <a:rPr b="1" lang="en-SG" sz="4000" spc="-1" strike="noStrike">
                <a:solidFill>
                  <a:srgbClr val="ff0000"/>
                </a:solidFill>
                <a:latin typeface="Comic Sans MS"/>
                <a:ea typeface="굴림"/>
              </a:rPr>
              <a:t>21</a:t>
            </a:r>
            <a:r>
              <a:rPr b="1" lang="en-SG" sz="1800" spc="-1" strike="noStrike">
                <a:solidFill>
                  <a:srgbClr val="ff0000"/>
                </a:solidFill>
                <a:latin typeface="Comic Sans MS"/>
                <a:ea typeface="굴림"/>
              </a:rPr>
              <a:t> ... EINDELIJK 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1" descr="1240929544rrI9lz1.jpg"/>
          <p:cNvPicPr/>
          <p:nvPr/>
        </p:nvPicPr>
        <p:blipFill>
          <a:blip r:embed="rId1"/>
          <a:stretch/>
        </p:blipFill>
        <p:spPr>
          <a:xfrm>
            <a:off x="0" y="0"/>
            <a:ext cx="9236160" cy="690228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2"/>
          <p:cNvSpPr/>
          <p:nvPr/>
        </p:nvSpPr>
        <p:spPr>
          <a:xfrm>
            <a:off x="0" y="1125360"/>
            <a:ext cx="5486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Maar dan word je plots 3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Ooooh, wat gebeurt er met me?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Je bent er even niet goed van!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Het voelt zo drastisch...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dit is niet echt prettig meer...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Wat scheelt er? Wat is er verander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Explosie 2 3"/>
          <p:cNvSpPr/>
          <p:nvPr/>
        </p:nvSpPr>
        <p:spPr>
          <a:xfrm rot="802200">
            <a:off x="5347800" y="4924080"/>
            <a:ext cx="1624320" cy="108108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" descr="1232643038Iej4F6P.jpg"/>
          <p:cNvPicPr/>
          <p:nvPr/>
        </p:nvPicPr>
        <p:blipFill>
          <a:blip r:embed="rId1"/>
          <a:stretch/>
        </p:blipFill>
        <p:spPr>
          <a:xfrm>
            <a:off x="0" y="0"/>
            <a:ext cx="9236160" cy="70102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2"/>
          <p:cNvSpPr/>
          <p:nvPr/>
        </p:nvSpPr>
        <p:spPr>
          <a:xfrm>
            <a:off x="0" y="3687840"/>
            <a:ext cx="6264360" cy="31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JE WORDT 21,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dan NEEM je DE KAAP van de 30,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nu OP NAAR de 40.... </a:t>
            </a:r>
            <a:br>
              <a:rPr sz="2000"/>
            </a:b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Héla, hola!!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Even afremmen,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je zit precies op een glijbaan...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En voor je het weet ben je HALF WEG:  </a:t>
            </a:r>
            <a:r>
              <a:rPr b="0" lang="en-SG" sz="4000" spc="-1" strike="noStrike">
                <a:solidFill>
                  <a:srgbClr val="ff0000"/>
                </a:solidFill>
                <a:latin typeface="Comic Sans MS"/>
                <a:ea typeface="굴림"/>
              </a:rPr>
              <a:t>50</a:t>
            </a: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 </a:t>
            </a:r>
            <a:r>
              <a:rPr b="0" lang="en-SG" sz="4000" spc="-1" strike="noStrike">
                <a:solidFill>
                  <a:srgbClr val="ff0000"/>
                </a:solidFill>
                <a:latin typeface="Comic Sans MS"/>
                <a:ea typeface="굴림"/>
              </a:rPr>
              <a:t>!!</a:t>
            </a: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Vele dromen en verwachtingen smelten weg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" descr="1243316167P3CkZ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2"/>
          <p:cNvSpPr/>
          <p:nvPr/>
        </p:nvSpPr>
        <p:spPr>
          <a:xfrm>
            <a:off x="3059280" y="189000"/>
            <a:ext cx="57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002060"/>
                </a:solidFill>
                <a:latin typeface="Comic Sans MS"/>
                <a:ea typeface="굴림"/>
              </a:rPr>
              <a:t>Maar wacht even !!! </a:t>
            </a:r>
            <a:br>
              <a:rPr sz="2000"/>
            </a:br>
            <a:r>
              <a:rPr b="1" lang="en-SG" sz="2000" spc="-1" strike="noStrike">
                <a:solidFill>
                  <a:srgbClr val="002060"/>
                </a:solidFill>
                <a:latin typeface="Comic Sans MS"/>
                <a:ea typeface="굴림"/>
              </a:rPr>
              <a:t>Je HAALT de zestig nog! </a:t>
            </a:r>
            <a:br>
              <a:rPr sz="2000"/>
            </a:br>
            <a:r>
              <a:rPr b="1" lang="en-SG" sz="2000" spc="-1" strike="noStrike">
                <a:solidFill>
                  <a:srgbClr val="002060"/>
                </a:solidFill>
                <a:latin typeface="Comic Sans MS"/>
                <a:ea typeface="굴림"/>
              </a:rPr>
              <a:t>Nooit gedacht van zó oud te word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1" descr="1240929544rrI9lz1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2"/>
          <p:cNvSpPr/>
          <p:nvPr/>
        </p:nvSpPr>
        <p:spPr>
          <a:xfrm>
            <a:off x="0" y="2133720"/>
            <a:ext cx="540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Dus :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je WORDT 21,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je NEEMT DE KAAP van de 30,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je TREKT OP NAAR de 4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je BEREIKT HALFWEG de 50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en je HAALT de 60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02:45:10Z</dcterms:created>
  <dc:creator>hoon hwang</dc:creator>
  <dc:description/>
  <dc:language>en-US</dc:language>
  <cp:lastModifiedBy>Paul Lievens</cp:lastModifiedBy>
  <dcterms:modified xsi:type="dcterms:W3CDTF">2010-07-11T09:10:37Z</dcterms:modified>
  <cp:revision>52</cp:revision>
  <dc:subject/>
  <dc:title>슬라이드 1</dc:title>
</cp:coreProperties>
</file>