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7240-32B6-405C-8200-88DA54E7A3D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AF01-EBF7-4FAC-8D29-3765D5C44A7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F16B-8395-478A-A695-612FB8C7AE7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300C-9889-4995-8EA5-69565A0B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0B2-05A6-470C-AB76-6C33B0A6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AB8FD-B695-4631-8FED-CB6F913C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10849-D8A4-4236-A830-19BAB610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51EFF-EBC0-4BE3-A0FB-DD24DCB3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7CFFE-6B40-4C72-B5D0-C7F09504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50013-C9E9-4559-A33B-5912F172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65297-03A5-4040-BAA4-6CD40B15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91E06-E9F2-4739-B320-B6013069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F2925-5B21-4FE1-BBF1-7060273B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7AF16-47F8-48BF-8C93-D68D45E7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B256B-A1C0-4657-BFC4-3B43AFD8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EB08-76DA-41BF-A2F8-4C05D28D1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D0B26-C67D-447E-8E0A-3C00B5D1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80210-ED8B-4291-8169-4CE130A9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4037B-7C9A-4D98-B755-3EB107F4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069E0-579B-417B-B112-2AB753A0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9D7EA-DE14-4266-9775-8AE8B16A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CC6BD-C271-4CFB-ABD5-27BB45A6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2F50F-6BB6-408B-9361-C35680CE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27694-75B6-4668-837D-11BF6D96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1C555-2353-4BE4-9169-BEC14F7B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3B239-D1ED-46E7-8F20-B3102B93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0300-71D7-488D-ACC5-22DE6003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990EC-45EA-4817-BABF-4ABE2B07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3D4A3-7868-48BB-A0F4-E4E73460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01C6A-B6B1-48F2-B6A6-769EBA4C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6C8AE-2C18-45B7-910F-484C461B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358F7-AF8B-4B36-A9EF-20BFA673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A5288-403B-4E78-8C2C-8C6A212F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29AA1-83A4-4713-A86F-8192DCBA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A76E8-66AE-442A-A8BA-8EA36C19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E8B13-C23E-4D46-93B2-22A16ED9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2A10F-B740-408E-A3C7-FE6D592A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19FA-4042-44FE-A1D5-FFD8FF66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21C01-AF93-4C18-AF6D-4C9327B9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110D4-51DB-4B73-99B1-A4C3E5E0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05B18-A87E-4BFF-9996-03F60E53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9D417-B27B-4875-9A57-3A490EE8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5055A-2F65-48A6-B5F1-082F7910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D2AB3-F548-4A71-8EB9-6014D01F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62DDC-5B75-4C6F-9A32-9C8DD451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F596A-C312-4EA4-A804-64F15729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FEE48-8120-4A9D-86E9-A44099BB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D3628-C35D-4AD7-B104-C311877C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730E-1938-496B-B8FC-FE4516F7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FDE0F-2A57-4FFD-ABD7-75746AAD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6374F-8F41-49CD-8372-C5427B60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6A8FE-E229-41FB-AAAD-1AFE8F8C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B04A0-C788-46DD-BC1D-30D32B75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B0D75-B26F-49BB-BEE5-D1B19F66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2089-8785-4CDC-9098-7FFDB4EC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70AB-7473-4F6D-AF56-3278C417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3351-7D3A-4052-B940-5B9546C3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60A5-DA43-4A41-8621-1175B845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0755-EDE1-420D-B74D-AC635C4B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515B-ABFB-4472-9E80-CE342FBC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FBD8-1334-4A2C-B93F-744E5E25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DEFD-51CF-4830-8A37-F1770168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4119-B315-4066-806B-5C50146B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9D57-CB68-4007-B7C5-5F89DE61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8178-1311-4407-BE96-65DD892C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57632-2C88-49A0-B5BE-1BC4B28C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C6DB8-9D99-4208-A93A-B1379012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BD54A-8D28-4B86-8EAE-374D71F4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52274-F7E1-4376-93BA-BE6567C6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978B4-9DDC-40B8-808F-7E5547A4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1F5D-E0A1-4529-B6F2-0000785F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98DEC-4235-4EB1-8F15-DF81E14C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D7829-6A05-43C7-83B3-F313CAFE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AA900-AE90-4F45-93F8-D453CC8B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2A356-013F-401F-9D74-5F9CE7A2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27037-9B12-466E-89F8-6454F19F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D3715-AEE9-414A-A1B0-1E60515D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64317-E9CD-45A3-915D-02247A0E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668CA-60B2-4846-9221-286A88D16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2080A-17DE-400C-86F1-1247A1E2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A1E7B-CBFE-4F73-AFD5-4E34C17F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85A0-2DC5-48C4-948D-673C0208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8E598-1528-4528-A393-ACC1FC30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EFE70-9170-4EF7-B896-A66177B4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C6E08-0ADC-4DCB-AE6F-B312122C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6CF53-422F-41D7-86AF-4294DBA9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BF02A-09C7-45F8-BF45-C1B504EA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BA277-BB24-42E7-91DA-E761DDC5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A268A-59A5-4353-B7AC-343C631F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AA38A-01BA-4C04-BBBC-93FB1DDA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E7EF0-4F44-4BCD-BF3A-72FA0E50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3AB0E-3E4C-4FA5-8E46-B94DF7CD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D274-E52D-43BD-BD77-F1DBF9E1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6F01B-5959-4FF4-AED6-F793847F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4E3B3-8BE5-4A2A-BE7E-F23C5291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F5417-4936-4D19-9D92-F7980D3E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CF8D5-FA83-42EA-8105-08E11A19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19AB6-A2A9-4179-8576-8AFF1FAE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0ADA9-135C-420E-9DA1-15943492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A15E6-C216-4676-8BA4-971C07BE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45836-9615-4608-99A8-07244B14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49BDF-04E4-4984-A8F7-B1382F4B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8033E-7F5F-4066-A505-B22A8BE6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294-8BFC-42AF-AC19-33B9B446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5C7CF-3D80-4BA7-8900-A89C0C74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BB326-91FF-4F21-9C88-ADDFAFF1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91DFA-F16A-440B-A567-2CAFBB2A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526DD-776B-4A3D-8F87-B085010F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9FE41-D554-47EF-A164-253C0C95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874E2-05E5-4EF8-A782-72CB217B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E2827-EDA5-49F9-A7B3-3DC9603F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D51E7-50D4-4674-9582-D3ACD38B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D4B86-F87C-4F2E-A86C-9F987F0E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C640C-56BD-4E05-AECC-B0E435CA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CE2-B03E-4299-AF80-A8C57500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BD650-295B-4EF4-B58E-B5049BC7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C4E00-7117-445A-8A19-2B0E67E6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79FD9-0C55-405F-905B-1C9DDA00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AD321-1FCA-4CA3-B24B-63F9B0F6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D63E1-D01F-4AD4-B4F2-1C95C53D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AA21E-21B9-4EB7-A75B-09489515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31514-8B4E-40AE-B23D-992B78DF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8C017-B353-42A1-9DBA-A9A20BCB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343A5-A95A-4CE2-A240-E642C353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718B1-BDA2-40CC-AE0B-F8F6F28D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6FF-FEAF-4E00-9BB0-6E71ABB6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B62DE-EB82-405C-B7AE-865013AC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BE1EA-8B88-4AD7-A7F2-6ADA1E64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34751-0BF9-42F5-8021-927B1A74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A911B-D80A-4E4F-9BEF-2E0D1A74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4A4C2-1B33-4A9C-96E9-D0AE5828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41283-732E-49AF-BE27-A41518EF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8C34C-E462-4450-85D3-34AB6433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C1A67-C76E-4DA4-8793-DD90A094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09EDE-4D5A-4626-A208-2A1DED3D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57324-13CA-4FB6-A6BC-1412FCA8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4C23-6095-435F-A94B-DC08DD2B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37DB6-26C4-4241-B172-6C95D400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6F182-ECF2-453F-B6A6-C8096BE5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0AFDF-D4F3-4A61-A9E3-2B9311CD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29D54-0D68-4014-90F4-5EE7CFE3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1BFBC-F90E-479C-8739-643135F4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2E6B8-2A32-4ACC-8E76-288313D7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0869F-7F4B-46F1-93DE-D6DDBF97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E9F5E-63D2-4578-87DD-898EFCD3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74FC9-C8BC-4E47-9C50-A839CC2F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58E5F-6B61-452E-9E39-A469CA9E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3592-1F24-4930-9FD4-6316EB7D4B85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dinsdag 28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B120-ECFF-48AB-BE28-F8925613AE7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2152-081C-488E-BC1C-F67738259B09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dinsdag 28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28CD-69F4-40DD-BF26-4CAFE31F797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EF5C-A721-47FF-9CE9-BA717CAB15E4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dinsdag 28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0CB5-916B-440B-BA56-A5DBC4DA415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B153-91B5-4901-97ED-FB8CEC06FD1C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dinsdag 28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DBB2-EBD5-4BDD-8EEF-790C847FAC0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093B-CD41-4B30-98DF-E6CA1281CF98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dinsdag 28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78BE-82AB-4046-A480-53A2C6A9CDD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05D8-78CB-4BBC-AE41-D718532ABB09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dinsdag 28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0187-711B-47D0-9931-912E6F835DF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4E43-8FB8-490E-BA99-ECD73E53D1BF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dinsdag 28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54BF-F4D9-47F9-8B0F-8C4F3E13D3A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BBC7-9D2A-4823-A93B-B01C477509E8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dinsdag 28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FA8E-5F01-4996-8B7A-5A9A2273D36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50D5-8543-4B99-AC3B-A5B7FD0ABFF7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dinsdag 28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EF94-2E2D-450B-949B-B167EAF34F3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1E47-E321-4FEB-9945-20A9CA8D5A82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dinsdag 28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BAF3-4308-44E4-9068-CC9D19EB54F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5627-11C0-492B-939F-F4C42AEE2CBD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dinsdag 28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1D5E-32EA-4D1F-BA36-3DA1983C07B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758B-A6A8-4CFD-86F6-707F51B5806C}" type="datetime2">
              <a:rPr b="0" lang="nl-BE" sz="1200" spc="-1" strike="noStrike">
                <a:solidFill>
                  <a:srgbClr val="898989"/>
                </a:solidFill>
                <a:latin typeface="Calibri"/>
                <a:ea typeface="굴림"/>
              </a:rPr>
              <a:t>dinsdag 28 juli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D6C2-9A9A-4F15-8D71-57784AF8319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E. Cortazar - Eternal love affair.wav" descr=""/>
          <p:cNvPicPr/>
          <p:nvPr/>
        </p:nvPicPr>
        <p:blipFill>
          <a:blip r:embed="rId2"/>
          <a:stretch/>
        </p:blipFill>
        <p:spPr>
          <a:xfrm>
            <a:off x="-1523880" y="66135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500" name="TextBox 4"/>
          <p:cNvSpPr/>
          <p:nvPr/>
        </p:nvSpPr>
        <p:spPr>
          <a:xfrm>
            <a:off x="826920" y="333360"/>
            <a:ext cx="762336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SG" sz="4000" spc="-1" strike="noStrike">
                <a:solidFill>
                  <a:srgbClr val="000000"/>
                </a:solidFill>
                <a:latin typeface="Lucida Calligraphy"/>
                <a:ea typeface="굴림"/>
              </a:rPr>
              <a:t>Filosofie voor de ouwe d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8"/>
          <p:cNvSpPr/>
          <p:nvPr/>
        </p:nvSpPr>
        <p:spPr>
          <a:xfrm>
            <a:off x="500040" y="2428920"/>
            <a:ext cx="82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1800" spc="-1" strike="noStrike">
                <a:solidFill>
                  <a:srgbClr val="3333cc"/>
                </a:solidFill>
                <a:latin typeface="Comic Sans MS"/>
                <a:ea typeface="KaiTi"/>
              </a:rPr>
              <a:t>ALS JE DIT NIET TOT HET EINDE LEEST, </a:t>
            </a:r>
            <a:br>
              <a:rPr sz="1800"/>
            </a:br>
            <a:r>
              <a:rPr b="1" lang="en-SG" sz="1800" spc="-1" strike="noStrike">
                <a:solidFill>
                  <a:srgbClr val="3333cc"/>
                </a:solidFill>
                <a:latin typeface="Comic Sans MS"/>
                <a:ea typeface="KaiTi"/>
              </a:rPr>
              <a:t>BEN JE EEN STUKJE VAN JE LEVEN KWIJT. </a:t>
            </a:r>
            <a:br>
              <a:rPr sz="1800"/>
            </a:br>
            <a:r>
              <a:rPr b="1" lang="en-SG" sz="1800" spc="-1" strike="noStrike">
                <a:solidFill>
                  <a:srgbClr val="3333cc"/>
                </a:solidFill>
                <a:latin typeface="Comic Sans MS"/>
                <a:ea typeface="KaiTi"/>
              </a:rPr>
              <a:t>MAAR ALS HE HET WEL HEBT GEDA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1800" spc="-1" strike="noStrike">
                <a:solidFill>
                  <a:srgbClr val="3333cc"/>
                </a:solidFill>
                <a:latin typeface="Comic Sans MS"/>
                <a:ea typeface="KaiTi"/>
              </a:rPr>
              <a:t>DOE DAN ZOALS IK NU DOE : </a:t>
            </a:r>
            <a:br>
              <a:rPr sz="1800"/>
            </a:br>
            <a:r>
              <a:rPr b="1" lang="en-SG" sz="1800" spc="-1" strike="noStrike">
                <a:solidFill>
                  <a:srgbClr val="3333cc"/>
                </a:solidFill>
                <a:latin typeface="Comic Sans MS"/>
                <a:ea typeface="KaiTi"/>
              </a:rPr>
              <a:t>STUUR HET DOOR!</a:t>
            </a:r>
            <a:r>
              <a:rPr b="1" lang="en-SG" sz="1800" spc="-1" strike="noStrike">
                <a:solidFill>
                  <a:srgbClr val="3333cc"/>
                </a:solidFill>
                <a:latin typeface="Aharoni"/>
                <a:ea typeface="KaiT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"/>
          <p:cNvSpPr/>
          <p:nvPr/>
        </p:nvSpPr>
        <p:spPr>
          <a:xfrm>
            <a:off x="285840" y="5572080"/>
            <a:ext cx="480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lligraphy"/>
                <a:ea typeface="굴림"/>
              </a:rPr>
              <a:t>Muziek : Ernesto Cortazar “Eternal Love Affair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"/>
          <p:cNvSpPr/>
          <p:nvPr/>
        </p:nvSpPr>
        <p:spPr>
          <a:xfrm>
            <a:off x="6786720" y="5572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alligraphy"/>
                <a:ea typeface="굴림"/>
              </a:rPr>
              <a:t>He Yan Jan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8"/>
          <p:cNvSpPr/>
          <p:nvPr/>
        </p:nvSpPr>
        <p:spPr>
          <a:xfrm>
            <a:off x="4859280" y="465300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굴림"/>
              </a:rPr>
              <a:t>Klik om door te ga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kstvak 7"/>
          <p:cNvSpPr/>
          <p:nvPr/>
        </p:nvSpPr>
        <p:spPr>
          <a:xfrm>
            <a:off x="6948360" y="6021360"/>
            <a:ext cx="17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00"/>
                </a:solidFill>
                <a:latin typeface="Highlight LET"/>
              </a:rPr>
              <a:t>petjep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" descr="1229346607EL6PhEf.jpg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2"/>
          <p:cNvSpPr/>
          <p:nvPr/>
        </p:nvSpPr>
        <p:spPr>
          <a:xfrm>
            <a:off x="2951280" y="2852640"/>
            <a:ext cx="619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Je hebt er zo’n vaart achter gezet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dat je pardoes de 70 BEREIKT.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Vanaf dan is het een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dag-per –dag geschiedenis.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En zo ben je bij vandaag belandt: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kstvak 4"/>
          <p:cNvSpPr/>
          <p:nvPr/>
        </p:nvSpPr>
        <p:spPr>
          <a:xfrm>
            <a:off x="5796000" y="4437000"/>
            <a:ext cx="363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fld id="{1E01C622-A2AD-4390-8965-9BAB1ED6B748}" type="datetime2">
              <a:rPr b="0" lang="nl-BE" sz="2000" spc="-1" strike="noStrike">
                <a:solidFill>
                  <a:srgbClr val="ffffff"/>
                </a:solidFill>
                <a:latin typeface="Comic Sans MS"/>
              </a:rPr>
              <a:t>dinsdag 28 juli 20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1" descr="1227610123F8iJpll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2"/>
          <p:cNvSpPr/>
          <p:nvPr/>
        </p:nvSpPr>
        <p:spPr>
          <a:xfrm>
            <a:off x="3203640" y="3500280"/>
            <a:ext cx="5141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En zo, dag nà dag,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komt je bij de TACHTIGERS.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Nu  is elke dag één volledige cyclus: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je haalt de middag...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je suft verder tot het vieruurtje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en even later is het weerom bedtijd!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En  nog is het niet gedaan: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met wat geluk haal je de 90,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en dan begin je plots achteruit te tellen: ‘Ik ben nog maar pas 91...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" descr="234278052_1dc82b1741_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"/>
          <p:cNvSpPr/>
          <p:nvPr/>
        </p:nvSpPr>
        <p:spPr>
          <a:xfrm>
            <a:off x="324000" y="5141880"/>
            <a:ext cx="66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Dan gebeurt er iets merkwaardigs.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Als je voorbij de 100 raakt,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kom je weer in je kinderjaren.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‘Ik word nu 100-en-half’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1" descr="1227184338nQAeCSE.jpg"/>
          <p:cNvPicPr/>
          <p:nvPr/>
        </p:nvPicPr>
        <p:blipFill>
          <a:blip r:embed="rId1"/>
          <a:stretch/>
        </p:blipFill>
        <p:spPr>
          <a:xfrm>
            <a:off x="0" y="0"/>
            <a:ext cx="9236160" cy="697392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2"/>
          <p:cNvSpPr/>
          <p:nvPr/>
        </p:nvSpPr>
        <p:spPr>
          <a:xfrm>
            <a:off x="990360" y="45720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3200" spc="-1" strike="noStrike">
                <a:solidFill>
                  <a:srgbClr val="ff0000"/>
                </a:solidFill>
                <a:latin typeface="Comic Sans MS"/>
                <a:ea typeface="굴림"/>
              </a:rPr>
              <a:t>HOE BLIJF JE J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0" y="4900680"/>
            <a:ext cx="56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1. Gooi alle onbelangrijke getallen overboord. </a:t>
            </a: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 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Zoals : leeftijd, gewicht en lengte. Dat de dokters zich daarover maar zorgen maken. Daarvoor betaal je hen, to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4572000" y="61498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2. Behou alleen de vrolijke vrienden. 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De zeurkousen halen je onder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3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" descr="1226887380BaCLPxr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2"/>
          <p:cNvSpPr/>
          <p:nvPr/>
        </p:nvSpPr>
        <p:spPr>
          <a:xfrm>
            <a:off x="88920" y="2228760"/>
            <a:ext cx="4914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3. Blijf leergier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Leer bij over de computer, over tuinieren... over eender wat!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Maar laat je hersens niet roesten. Ledigheid is het  oorkussen van de duivel! En de naam van deze duivel is:</a:t>
            </a:r>
            <a:br>
              <a:rPr sz="2000"/>
            </a:br>
            <a:r>
              <a:rPr b="0" lang="en-SG" sz="2000" spc="-1" strike="noStrike">
                <a:solidFill>
                  <a:srgbClr val="ff0000"/>
                </a:solidFill>
                <a:latin typeface="Comic Sans MS"/>
                <a:ea typeface="굴림"/>
              </a:rPr>
              <a:t>Aloïs </a:t>
            </a:r>
            <a:r>
              <a:rPr b="0" lang="en-SG" sz="2400" spc="-1" strike="noStrike">
                <a:solidFill>
                  <a:srgbClr val="ff0000"/>
                </a:solidFill>
                <a:latin typeface="Comic Sans MS"/>
                <a:ea typeface="굴림"/>
              </a:rPr>
              <a:t>Alzheimer.</a:t>
            </a: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075200" y="6093000"/>
            <a:ext cx="44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4. Geniet van eenvoudige din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1224886662YM5aZ1t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2"/>
          <p:cNvSpPr/>
          <p:nvPr/>
        </p:nvSpPr>
        <p:spPr>
          <a:xfrm>
            <a:off x="0" y="9810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5. Lach veel, lang en lu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Lach tot je naar adem moet snakk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067280" y="430380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6. Tranen horen erbij. 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Onderga, verdraag, treur ... en ga dan verder. De enige persoon die ons het ganse leven vergezelt, dat zijn wijzelf. Leef en geniet van je leven: </a:t>
            </a:r>
            <a:r>
              <a:rPr b="1" lang="en-SG" sz="2000" spc="-1" strike="noStrike">
                <a:solidFill>
                  <a:srgbClr val="ff0000"/>
                </a:solidFill>
                <a:latin typeface="Comic Sans MS"/>
                <a:ea typeface="굴림"/>
              </a:rPr>
              <a:t>NU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, terwijl je nog leeft 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4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1" descr="1222770132tLu1ynu.jpg"/>
          <p:cNvPicPr/>
          <p:nvPr/>
        </p:nvPicPr>
        <p:blipFill>
          <a:blip r:embed="rId1"/>
          <a:stretch/>
        </p:blipFill>
        <p:spPr>
          <a:xfrm>
            <a:off x="-114480" y="0"/>
            <a:ext cx="925848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2"/>
          <p:cNvSpPr/>
          <p:nvPr/>
        </p:nvSpPr>
        <p:spPr>
          <a:xfrm>
            <a:off x="324000" y="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7. Omring je met vriendschap, genegenheid, liefde...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Of het nu familie is, huisdieren, herinneringen,  muziek,  planten,  hobbies, wat dan ook. </a:t>
            </a:r>
            <a:br>
              <a:rPr sz="2000"/>
            </a:b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Je huis is je koninkrij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4284720" y="472428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8. Draag zorg voor je gezondheid. 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Is deze goed, hou ze in stand.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Als ze wankel is, verstevig ze.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En als dàt niet meer kan :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laat je dan helpen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6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" descr="1216961250P8LEBF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2"/>
          <p:cNvSpPr/>
          <p:nvPr/>
        </p:nvSpPr>
        <p:spPr>
          <a:xfrm>
            <a:off x="0" y="2133720"/>
            <a:ext cx="59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9. Vlucht schuldgevoelens.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Maak een uitstapje naar het winkelcentrum,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naar een andere provincie,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desnoods naar het buitensland...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maar het schuldgevoel moet je schuw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851280" y="5533920"/>
            <a:ext cx="49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10. Zeg aan de mensen dat je ze graag ziet, </a:t>
            </a: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zo vaak mogelijk en bij eeom het even welke gelegenhei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1" descr="124317674851vmgk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2"/>
          <p:cNvSpPr/>
          <p:nvPr/>
        </p:nvSpPr>
        <p:spPr>
          <a:xfrm>
            <a:off x="2843280" y="4797360"/>
            <a:ext cx="5616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200" spc="-1" strike="noStrike">
                <a:solidFill>
                  <a:srgbClr val="ffff00"/>
                </a:solidFill>
                <a:latin typeface="Comic Sans MS"/>
                <a:ea typeface="굴림"/>
              </a:rPr>
              <a:t>EN HOU STEEDS IN GEDACHTEN :</a:t>
            </a:r>
            <a:br>
              <a:rPr sz="2200"/>
            </a:br>
            <a:r>
              <a:rPr b="0" lang="en-SG" sz="2200" spc="-1" strike="noStrike">
                <a:solidFill>
                  <a:srgbClr val="ffffff"/>
                </a:solidFill>
                <a:latin typeface="Comic Sans MS"/>
                <a:ea typeface="굴림"/>
              </a:rPr>
              <a:t>De waarde van het leven wordt niet bepaald door het aantal keren dat we ademhalen, maar door het aantal adembenemende moment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1" descr="277206117_0ed9e2e3a4_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2"/>
          <p:cNvSpPr/>
          <p:nvPr/>
        </p:nvSpPr>
        <p:spPr>
          <a:xfrm>
            <a:off x="0" y="189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400" spc="-1" strike="noStrike">
                <a:solidFill>
                  <a:srgbClr val="ffffff"/>
                </a:solidFill>
                <a:latin typeface="Comic Sans MS"/>
                <a:ea typeface="굴림"/>
              </a:rPr>
              <a:t>En als je dit nu niet onmiddellijk naar tenminste 8 personen stuurt, </a:t>
            </a:r>
            <a:br>
              <a:rPr sz="2400"/>
            </a:br>
            <a:r>
              <a:rPr b="1" lang="en-SG" sz="2400" spc="-1" strike="noStrike">
                <a:solidFill>
                  <a:srgbClr val="ffffff"/>
                </a:solidFill>
                <a:latin typeface="Comic Sans MS"/>
                <a:ea typeface="굴림"/>
              </a:rPr>
              <a:t>dan zal dat niemand een zorg wezen!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kstvak 4"/>
          <p:cNvSpPr/>
          <p:nvPr/>
        </p:nvSpPr>
        <p:spPr>
          <a:xfrm>
            <a:off x="3419640" y="4941720"/>
            <a:ext cx="51847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Maar toch ...</a:t>
            </a:r>
            <a:br>
              <a:rPr sz="2000"/>
            </a:b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deel deze filosofie maar met iemand: </a:t>
            </a:r>
            <a:br>
              <a:rPr sz="2000"/>
            </a:b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we hebben er allen nood aan </a:t>
            </a:r>
            <a:br>
              <a:rPr sz="2000"/>
            </a:b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het leven ten volle te leven...</a:t>
            </a:r>
            <a:br>
              <a:rPr sz="2000"/>
            </a:br>
            <a:r>
              <a:rPr b="1" lang="en-SG" sz="2400" spc="-1" strike="noStrike">
                <a:solidFill>
                  <a:srgbClr val="ff0000"/>
                </a:solidFill>
                <a:latin typeface="Comic Sans MS"/>
                <a:ea typeface="굴림"/>
              </a:rPr>
              <a:t>samen</a:t>
            </a:r>
            <a:r>
              <a:rPr b="1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, dag per da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1219560300AZAhqa2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20448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2"/>
          <p:cNvSpPr/>
          <p:nvPr/>
        </p:nvSpPr>
        <p:spPr>
          <a:xfrm>
            <a:off x="380880" y="1365120"/>
            <a:ext cx="6278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Ooit over nagedacht: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de enige periode in ons leven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dat we graag ouder willen zijn,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is in onze kinderjare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Onder de leeftijd van 10,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ben je zo bezig met ouder worden,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dat je zelfs de delen van het jaar meetelt.</a:t>
            </a:r>
            <a:r>
              <a:rPr b="0" lang="en-SG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1" descr="1222770132tLu1ynu.jpg"/>
          <p:cNvPicPr/>
          <p:nvPr/>
        </p:nvPicPr>
        <p:blipFill>
          <a:blip r:embed="rId1"/>
          <a:stretch/>
        </p:blipFill>
        <p:spPr>
          <a:xfrm>
            <a:off x="0" y="0"/>
            <a:ext cx="925848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Box 2"/>
          <p:cNvSpPr/>
          <p:nvPr/>
        </p:nvSpPr>
        <p:spPr>
          <a:xfrm>
            <a:off x="2209680" y="12193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  <a:ea typeface="굴림"/>
              </a:rPr>
              <a:t>Tot ziens 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kstvak 3"/>
          <p:cNvSpPr/>
          <p:nvPr/>
        </p:nvSpPr>
        <p:spPr>
          <a:xfrm>
            <a:off x="684360" y="630864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00"/>
                </a:solidFill>
                <a:latin typeface="Brush Script MT"/>
              </a:rPr>
              <a:t>Free from English into Dutch by Petjepol 11531007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1" descr="12388504841AsVnF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2"/>
          <p:cNvSpPr/>
          <p:nvPr/>
        </p:nvSpPr>
        <p:spPr>
          <a:xfrm>
            <a:off x="250920" y="2276640"/>
            <a:ext cx="518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‘</a:t>
            </a: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Hoe oud ben je?’ </a:t>
            </a:r>
            <a:r>
              <a:rPr b="0" lang="en-SG" sz="2000" spc="-1" strike="noStrike">
                <a:solidFill>
                  <a:srgbClr val="ffff00"/>
                </a:solidFill>
                <a:latin typeface="Wingdings 3"/>
                <a:ea typeface="Wingdings 3"/>
              </a:rPr>
              <a:t></a:t>
            </a: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‘Ik ben al vier-en-half!’</a:t>
            </a:r>
            <a:r>
              <a:rPr b="1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 </a:t>
            </a:r>
            <a:br>
              <a:rPr sz="2000"/>
            </a:b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Je zal er nooit aan denken om te zeggen: ‘zesendertig-en-half’.</a:t>
            </a:r>
            <a:br>
              <a:rPr sz="2000"/>
            </a:b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Je bent vier-en-half, bijna vijf!!</a:t>
            </a:r>
            <a:br>
              <a:rPr sz="2000"/>
            </a:b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Zo zit dat!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3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1" descr="12215066044C6LzcG.jpg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2"/>
          <p:cNvSpPr/>
          <p:nvPr/>
        </p:nvSpPr>
        <p:spPr>
          <a:xfrm>
            <a:off x="3492360" y="4076640"/>
            <a:ext cx="56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Kom je in je tienerjaren,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dan ben je echt niet meer te houden.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Je springt direkt naar het volgende jaartal...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of zelfs meteen een paar vooru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0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" descr="12161273845F6rM7Q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2"/>
          <p:cNvSpPr/>
          <p:nvPr/>
        </p:nvSpPr>
        <p:spPr>
          <a:xfrm>
            <a:off x="1116000" y="3141720"/>
            <a:ext cx="5334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‘</a:t>
            </a: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Hoe oud ben je?’ </a:t>
            </a:r>
            <a:r>
              <a:rPr b="0" lang="en-SG" sz="1800" spc="-1" strike="noStrike">
                <a:solidFill>
                  <a:srgbClr val="ffff00"/>
                </a:solidFill>
                <a:latin typeface="Wingdings 3"/>
                <a:ea typeface="Wingdings 3"/>
              </a:rPr>
              <a:t></a:t>
            </a: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 ‘Ik word zestien!’ </a:t>
            </a:r>
            <a:br>
              <a:rPr sz="1800"/>
            </a:b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Je mag dan wel nog maar pas 13 zijn, </a:t>
            </a:r>
            <a:br>
              <a:rPr sz="1800"/>
            </a:b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maar ‘komaanzeg’ : </a:t>
            </a:r>
            <a:br>
              <a:rPr sz="1800"/>
            </a:b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je wordt 16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En dan:  de gróótste  dag van je leven: </a:t>
            </a:r>
            <a:br>
              <a:rPr sz="1800"/>
            </a:b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Je wordt 21. </a:t>
            </a:r>
            <a:br>
              <a:rPr sz="1800"/>
            </a:b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 Alleen maar het uitspreken ervan </a:t>
            </a:r>
            <a:br>
              <a:rPr sz="1800"/>
            </a:br>
            <a:r>
              <a:rPr b="0" lang="en-SG" sz="1800" spc="-1" strike="noStrike">
                <a:solidFill>
                  <a:srgbClr val="ffff00"/>
                </a:solidFill>
                <a:latin typeface="Comic Sans MS"/>
                <a:ea typeface="굴림"/>
              </a:rPr>
              <a:t>is al een fee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2166480" y="5732640"/>
            <a:ext cx="34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1800" spc="-1" strike="noStrike">
                <a:solidFill>
                  <a:srgbClr val="ff0000"/>
                </a:solidFill>
                <a:latin typeface="Comic Sans MS"/>
                <a:ea typeface="굴림"/>
              </a:rPr>
              <a:t>JE BENT </a:t>
            </a:r>
            <a:r>
              <a:rPr b="1" lang="en-SG" sz="4000" spc="-1" strike="noStrike">
                <a:solidFill>
                  <a:srgbClr val="ff0000"/>
                </a:solidFill>
                <a:latin typeface="Comic Sans MS"/>
                <a:ea typeface="굴림"/>
              </a:rPr>
              <a:t>21</a:t>
            </a:r>
            <a:r>
              <a:rPr b="1" lang="en-SG" sz="1800" spc="-1" strike="noStrike">
                <a:solidFill>
                  <a:srgbClr val="ff0000"/>
                </a:solidFill>
                <a:latin typeface="Comic Sans MS"/>
                <a:ea typeface="굴림"/>
              </a:rPr>
              <a:t> ... EINDELIJK 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1" descr="1240929544rrI9lz1.jpg"/>
          <p:cNvPicPr/>
          <p:nvPr/>
        </p:nvPicPr>
        <p:blipFill>
          <a:blip r:embed="rId1"/>
          <a:stretch/>
        </p:blipFill>
        <p:spPr>
          <a:xfrm>
            <a:off x="0" y="0"/>
            <a:ext cx="9236160" cy="690228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2"/>
          <p:cNvSpPr/>
          <p:nvPr/>
        </p:nvSpPr>
        <p:spPr>
          <a:xfrm>
            <a:off x="0" y="1125360"/>
            <a:ext cx="5486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Maar dan word je plots 3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Ooooh, wat gebeurt er met me?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Je bent er even niet goed van!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Het voelt zo drastisch...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dit is niet echt prettig meer...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Wat scheelt er? Wat is er verander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Explosie 2 3"/>
          <p:cNvSpPr/>
          <p:nvPr/>
        </p:nvSpPr>
        <p:spPr>
          <a:xfrm rot="802200">
            <a:off x="5347800" y="4924080"/>
            <a:ext cx="1624320" cy="1081080"/>
          </a:xfrm>
          <a:prstGeom prst="irregularSeal2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" descr="1232643038Iej4F6P.jpg"/>
          <p:cNvPicPr/>
          <p:nvPr/>
        </p:nvPicPr>
        <p:blipFill>
          <a:blip r:embed="rId1"/>
          <a:stretch/>
        </p:blipFill>
        <p:spPr>
          <a:xfrm>
            <a:off x="0" y="0"/>
            <a:ext cx="9236160" cy="70102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2"/>
          <p:cNvSpPr/>
          <p:nvPr/>
        </p:nvSpPr>
        <p:spPr>
          <a:xfrm>
            <a:off x="0" y="3687840"/>
            <a:ext cx="6264360" cy="31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JE WORDT 21,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dan NEEM je DE KAAP van de 30,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nu OP NAAR de 40.... </a:t>
            </a:r>
            <a:br>
              <a:rPr sz="2000"/>
            </a:b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Héla, hola!!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Even afremmen,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je zit precies op een glijbaan...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En voor je het weet ben je HALF WEG:  </a:t>
            </a:r>
            <a:r>
              <a:rPr b="0" lang="en-SG" sz="4000" spc="-1" strike="noStrike">
                <a:solidFill>
                  <a:srgbClr val="ff0000"/>
                </a:solidFill>
                <a:latin typeface="Comic Sans MS"/>
                <a:ea typeface="굴림"/>
              </a:rPr>
              <a:t>50</a:t>
            </a: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 </a:t>
            </a:r>
            <a:r>
              <a:rPr b="0" lang="en-SG" sz="4000" spc="-1" strike="noStrike">
                <a:solidFill>
                  <a:srgbClr val="ff0000"/>
                </a:solidFill>
                <a:latin typeface="Comic Sans MS"/>
                <a:ea typeface="굴림"/>
              </a:rPr>
              <a:t>!!</a:t>
            </a: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 </a:t>
            </a:r>
            <a:br>
              <a:rPr sz="2000"/>
            </a:br>
            <a:r>
              <a:rPr b="0" lang="en-SG" sz="2000" spc="-1" strike="noStrike">
                <a:solidFill>
                  <a:srgbClr val="ffff00"/>
                </a:solidFill>
                <a:latin typeface="Comic Sans MS"/>
                <a:ea typeface="굴림"/>
              </a:rPr>
              <a:t>Vele dromen en verwachtingen smelten weg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" descr="1243316167P3CkZv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2"/>
          <p:cNvSpPr/>
          <p:nvPr/>
        </p:nvSpPr>
        <p:spPr>
          <a:xfrm>
            <a:off x="3059280" y="189000"/>
            <a:ext cx="57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000" spc="-1" strike="noStrike">
                <a:solidFill>
                  <a:srgbClr val="002060"/>
                </a:solidFill>
                <a:latin typeface="Comic Sans MS"/>
                <a:ea typeface="굴림"/>
              </a:rPr>
              <a:t>Maar wacht even !!! </a:t>
            </a:r>
            <a:br>
              <a:rPr sz="2000"/>
            </a:br>
            <a:r>
              <a:rPr b="1" lang="en-SG" sz="2000" spc="-1" strike="noStrike">
                <a:solidFill>
                  <a:srgbClr val="002060"/>
                </a:solidFill>
                <a:latin typeface="Comic Sans MS"/>
                <a:ea typeface="굴림"/>
              </a:rPr>
              <a:t>Je HAALT de zestig nog! </a:t>
            </a:r>
            <a:br>
              <a:rPr sz="2000"/>
            </a:br>
            <a:r>
              <a:rPr b="1" lang="en-SG" sz="2000" spc="-1" strike="noStrike">
                <a:solidFill>
                  <a:srgbClr val="002060"/>
                </a:solidFill>
                <a:latin typeface="Comic Sans MS"/>
                <a:ea typeface="굴림"/>
              </a:rPr>
              <a:t>Nooit gedacht van zó oud te word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1" descr="1240929544rrI9lz1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2"/>
          <p:cNvSpPr/>
          <p:nvPr/>
        </p:nvSpPr>
        <p:spPr>
          <a:xfrm>
            <a:off x="0" y="2133720"/>
            <a:ext cx="5400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Dus :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je WORDT 21,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je NEEMT DE KAAP van de 30,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je TREKT OP NAAR de 4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je BEREIKT HALFWEG de 50 </a:t>
            </a:r>
            <a:br>
              <a:rPr sz="2000"/>
            </a:br>
            <a:r>
              <a:rPr b="0" lang="en-SG" sz="2000" spc="-1" strike="noStrike">
                <a:solidFill>
                  <a:srgbClr val="ffffff"/>
                </a:solidFill>
                <a:latin typeface="Comic Sans MS"/>
                <a:ea typeface="굴림"/>
              </a:rPr>
              <a:t>en je HAALT de 60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02:45:10Z</dcterms:created>
  <dc:creator>hoon hwang</dc:creator>
  <dc:description/>
  <dc:language>en-US</dc:language>
  <cp:lastModifiedBy>Paul Lievens</cp:lastModifiedBy>
  <dcterms:modified xsi:type="dcterms:W3CDTF">2010-07-11T09:10:37Z</dcterms:modified>
  <cp:revision>52</cp:revision>
  <dc:subject/>
  <dc:title>슬라이드 1</dc:title>
</cp:coreProperties>
</file>