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3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12%20-%20Life's%20Storybook%20Cover.wav" ContentType="audio/x-wav"/>
  <Override PartName="/ppt/media/image2.jpeg" ContentType="image/jpe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8027988" cy="5003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BB7-5A37-4A7D-B1E7-968BEAAD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45F-C636-4165-86AF-4F61946F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D42-8C43-4507-A9D7-478A2843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42E-CF39-473E-86F6-2757E74A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F607-3E21-4EA3-B324-1F56B6C1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DBE2-9809-4C69-9BD1-640482BC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0E65-B560-4453-872B-E9088749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8BBD-D588-41DD-B7B7-66420ED1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19B1-1E7B-4267-BDE7-69736838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A648-17D3-4D56-8D27-2A8BCC76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3F17-2E7C-4174-B679-B6DC325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F2B-54D2-4042-A2D3-B5F93A34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A2D7-0668-4A79-8423-EE7D05F8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4E0D-8D61-40F3-A197-AB581901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E77D-9504-4E36-84F5-B7920C9F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FFB9-A021-42DC-912E-B42FA734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3C06-38F0-4BB5-9502-05CBF33C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D47D-C814-4B7E-866A-989F1219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8EF3-875C-48FE-9157-01BE7E1E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5558-26A4-4FCC-9E28-F83E8A13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9600F-B7E7-4935-BEB6-074C7D15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E81E-A8F9-4041-B4BB-98D036A6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B38-DB69-44BD-BFB7-A41D90B6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7B94-16B0-45A7-814E-190C2AD5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E5C7-E421-43B5-B53B-062CB5F7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C027E-CC55-4CE4-8CA5-BE535F69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26C3B-D917-4454-BD1A-9146D2E0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292B-ED2C-420F-AE74-1ABC5EE9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0469A-0710-4F4C-BE9A-DC9929EF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EE70-66AC-4713-B821-A216A6B8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DFBD4-0D9F-4CE5-9F24-E520FA84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61D0-9CD4-490E-BD7F-B235FBF9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9CA11-170B-40F1-8AC3-1346DDCD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AB8-CCAE-450A-8391-00373E98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90EA-4225-42F3-B03F-3A2F34BA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FBAF-E8EB-4B6A-B753-3CD3A80F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4015-4C86-4230-8AC9-2EE53FAB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6B24-480D-4541-8A41-1B929D5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C615-5EB1-4880-A6AF-3A44AFFF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8DBE8-B6F9-49BA-AF36-449CCBFC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5CDC5-A629-46AF-88A3-B93534E2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1E9DA-BF46-45CE-B24C-7EA888F1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5E361-47A9-44E5-A746-F3425968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94131-B3E1-45A9-8BE8-71524A01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172-CC18-4CC6-81B5-2AE6F03B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F41AB-F01A-4BAA-8706-A8F1D68E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2E045-ECF4-45DD-BD0A-CF7CB36D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EC1C5-B45A-4B3A-ACE5-3F17FC9B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5080A-DE8D-4C67-A48D-F1F7C2D5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BA95A-E933-4BCF-B445-F9685086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0744B-C243-4B9D-8E30-3B0E916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8421B-3C66-4F2A-AD4C-D9BE8301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29F1-761D-4C94-B520-0D84CCE5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289F5-E6B0-4249-8E4F-BE303FF4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EEC13-003A-4BD0-AD47-565E6AD0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AB6-BD4A-434A-B225-65271378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F8B98-F5FF-4B72-BA75-7FA84C44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A9FC4-8183-4BF0-89D5-885382DE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680C2-6049-4D69-925D-7E07842E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278CD-F7C3-44B9-9553-FCC8C5B4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E3DD6-9110-4AEB-93D5-8FCD59B0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55A57-F18A-4914-AA1D-737C2F6E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2528E-14BB-48EC-BF3B-DE14E81B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50F5E-FEA8-4540-9A01-3065F98D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CC45-F75F-4BE1-B80E-F7BDAE28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0E5D5-31D5-498C-A6D4-E6E87FAE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7CE0-A703-4A7C-BBAF-21064C8D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BE3BA-97B6-4194-B5FF-25731495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55C7C-07A4-47BB-B7D8-CFF9CE5F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2FDF7-CFE4-46F0-AEFA-35ADC376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72A04-9900-413A-AB5B-9C454A88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26290-B4D0-4851-8986-427972F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A5E3B-A003-4E6E-9E32-ED913DC7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F6B19-C99C-4860-98F1-57CFA66A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8DA42-0CB9-4D46-B6D6-5AC098C3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01400" y="199800"/>
            <a:ext cx="722628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04440-0DD8-48BF-B917-2349A50F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F86D6-5462-4757-A577-AE102BE0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566-02CB-4104-BB79-8BCB9B1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BD5D2-3828-41B2-9598-A8C085AD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CFE73-75E8-4EAA-9E99-14E237D6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ABDF8-7412-478A-B663-AEC80769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104360" y="289224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1A8D9-93EC-4481-86AC-97C0A55F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4472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288040" y="116640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0140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84472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288040" y="2892240"/>
            <a:ext cx="23266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D8A13-9A25-417F-9B55-AB8A8E29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04360" y="1166400"/>
            <a:ext cx="352620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2892240"/>
            <a:ext cx="7226280" cy="1575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7A5-3A44-447D-9A91-DA73E71C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92560" indent="-22716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1520" indent="-1818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5480" indent="-1818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640880" indent="-1818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1400" y="4636800"/>
            <a:ext cx="187308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4636800"/>
            <a:ext cx="254304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54600" y="4636800"/>
            <a:ext cx="1873440" cy="266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83BA-71F0-4D3E-B195-7B720AEADFEF}" type="slidenum">
              <a:rPr b="0" lang="nl-NL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C7CB-04AC-48FD-9080-D1C38B1A21D4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AE56-EAB0-4758-96A4-8AB3F865F481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B95D-E650-44C7-B28E-CD55870E9100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0021-6C1A-4A4D-816B-FC14A82ED9F0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2EE4-A4A6-4043-89E7-27A99DBBDA69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199800"/>
            <a:ext cx="7226280" cy="83484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01400" y="1166400"/>
            <a:ext cx="7226280" cy="330372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rmAutofit fontScale="98000"/>
          </a:bodyPr>
          <a:p>
            <a:pPr marL="272160" indent="-27216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592560" indent="-22716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152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2754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4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5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6" marL="1640880" indent="-181800">
              <a:spcBef>
                <a:spcPts val="64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01400" y="4556160"/>
            <a:ext cx="187308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743200" y="4556160"/>
            <a:ext cx="25430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5754600" y="4556160"/>
            <a:ext cx="1873440" cy="347760"/>
          </a:xfrm>
          <a:prstGeom prst="rect">
            <a:avLst/>
          </a:prstGeom>
          <a:noFill/>
          <a:ln w="0">
            <a:noFill/>
          </a:ln>
        </p:spPr>
        <p:txBody>
          <a:bodyPr lIns="74520" rIns="74520" tIns="37080" bIns="37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1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3A14-E002-4D8C-A2A0-7D7AD23EE82B}" type="slidenum">
              <a:rPr b="0" lang="pt-BR" sz="11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audio" Target="../media/12%20-%20Life&apos;s%20Storybook%20Cove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hyperlink" Target="http://blog.seniorennet.be/lidia_powerpointblog/" TargetMode="External"/><Relationship Id="rId4" Type="http://schemas.openxmlformats.org/officeDocument/2006/relationships/image" Target="../media/image21.png"/><Relationship Id="rId5" Type="http://schemas.openxmlformats.org/officeDocument/2006/relationships/hyperlink" Target="mailto:lidiav9@gmail.com" TargetMode="External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el 1" descr=""/>
          <p:cNvPicPr/>
          <p:nvPr/>
        </p:nvPicPr>
        <p:blipFill>
          <a:blip r:embed="rId2"/>
          <a:stretch/>
        </p:blipFill>
        <p:spPr>
          <a:xfrm>
            <a:off x="585720" y="2176560"/>
            <a:ext cx="6973920" cy="1090440"/>
          </a:xfrm>
          <a:prstGeom prst="rect">
            <a:avLst/>
          </a:prstGeom>
          <a:ln w="0">
            <a:noFill/>
          </a:ln>
        </p:spPr>
      </p:pic>
      <p:pic>
        <p:nvPicPr>
          <p:cNvPr id="288" name="Ondertitel 2" descr=""/>
          <p:cNvPicPr/>
          <p:nvPr/>
        </p:nvPicPr>
        <p:blipFill>
          <a:blip r:embed="rId3"/>
          <a:stretch/>
        </p:blipFill>
        <p:spPr>
          <a:xfrm>
            <a:off x="4108320" y="-6480"/>
            <a:ext cx="3926160" cy="1359000"/>
          </a:xfrm>
          <a:prstGeom prst="rect">
            <a:avLst/>
          </a:prstGeom>
          <a:ln w="0">
            <a:noFill/>
          </a:ln>
        </p:spPr>
      </p:pic>
      <p:sp>
        <p:nvSpPr>
          <p:cNvPr id="289" name="Tekstvak 3"/>
          <p:cNvSpPr/>
          <p:nvPr/>
        </p:nvSpPr>
        <p:spPr>
          <a:xfrm>
            <a:off x="241920" y="130320"/>
            <a:ext cx="4540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uziek: Isla Grant – Life’s Storybook C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edge/>
    <p:sndAc>
      <p:stSnd>
        <p:snd r:embed="rId4" name="12%20-%20Life's%20Storybook%20Cov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image006667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7" name="Tekstvak 3"/>
          <p:cNvSpPr/>
          <p:nvPr/>
        </p:nvSpPr>
        <p:spPr>
          <a:xfrm>
            <a:off x="-166680" y="295200"/>
            <a:ext cx="8089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weend bij het luisteren naar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uziek en het bekijken van foto’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cover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Afbeelding 2" descr="492944-ce022fd77ee2450ba4b4ffc005a4fae8.jpg"/>
          <p:cNvPicPr/>
          <p:nvPr/>
        </p:nvPicPr>
        <p:blipFill>
          <a:blip r:embed="rId1"/>
          <a:stretch/>
        </p:blipFill>
        <p:spPr>
          <a:xfrm>
            <a:off x="0" y="1440"/>
            <a:ext cx="8062920" cy="5002200"/>
          </a:xfrm>
          <a:prstGeom prst="rect">
            <a:avLst/>
          </a:prstGeom>
          <a:ln w="0">
            <a:noFill/>
          </a:ln>
        </p:spPr>
      </p:pic>
      <p:sp>
        <p:nvSpPr>
          <p:cNvPr id="309" name="Tekstvak 4"/>
          <p:cNvSpPr/>
          <p:nvPr/>
        </p:nvSpPr>
        <p:spPr>
          <a:xfrm>
            <a:off x="-149760" y="138240"/>
            <a:ext cx="80899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telefoneer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kel om een stem te hor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werd al verliefd bij het zien van e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glimlach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blinds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9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2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Afbeelding 1" descr="492941-286dbcc01bb4f94af1c1a6a527883171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1" name="Tekstvak 2"/>
          <p:cNvSpPr/>
          <p:nvPr/>
        </p:nvSpPr>
        <p:spPr>
          <a:xfrm>
            <a:off x="-95040" y="3973680"/>
            <a:ext cx="8204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dacht te sterven van heimwee  en…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split dir="out" orient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Afbeelding 1" descr="393823-b54ebcf8fd48cd4d7bd1d43fba7816a0.jpg"/>
          <p:cNvPicPr/>
          <p:nvPr/>
        </p:nvPicPr>
        <p:blipFill>
          <a:blip r:embed="rId1"/>
          <a:stretch/>
        </p:blipFill>
        <p:spPr>
          <a:xfrm>
            <a:off x="-25560" y="0"/>
            <a:ext cx="8055000" cy="5003640"/>
          </a:xfrm>
          <a:prstGeom prst="rect">
            <a:avLst/>
          </a:prstGeom>
          <a:ln w="0">
            <a:noFill/>
          </a:ln>
        </p:spPr>
      </p:pic>
      <p:sp>
        <p:nvSpPr>
          <p:cNvPr id="313" name="Rechthoek 2"/>
          <p:cNvSpPr/>
          <p:nvPr/>
        </p:nvSpPr>
        <p:spPr>
          <a:xfrm>
            <a:off x="474840" y="138240"/>
            <a:ext cx="7175160" cy="26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... ik had schrik om een heel bijzonder   iemand te verliezen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(die ik uiteindelijk verloren heb)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maar ik heb het overleefd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plus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jdelijke aanduiding voor inhoud 6" descr="578725-53d64b42236d49c5e19097c3ae4954c6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5" name="Rechthoek 2"/>
          <p:cNvSpPr/>
          <p:nvPr/>
        </p:nvSpPr>
        <p:spPr>
          <a:xfrm>
            <a:off x="220680" y="452520"/>
            <a:ext cx="75247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ik leef nog steed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ik laat het leven niet links ligg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dat moet jij ook niet do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hthoek 3"/>
          <p:cNvSpPr/>
          <p:nvPr/>
        </p:nvSpPr>
        <p:spPr>
          <a:xfrm>
            <a:off x="860400" y="3657600"/>
            <a:ext cx="2607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900" spc="-1" strike="noStrike">
                <a:solidFill>
                  <a:srgbClr val="ffffff"/>
                </a:solidFill>
                <a:latin typeface="Bradley Hand ITC"/>
              </a:rPr>
              <a:t>LEEF!!!!!!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Afbeelding 1" descr="418645-02bfbe93d700db72e421c4e057e28a32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18" name="Rechthoek 2"/>
          <p:cNvSpPr/>
          <p:nvPr/>
        </p:nvSpPr>
        <p:spPr>
          <a:xfrm>
            <a:off x="284040" y="138240"/>
            <a:ext cx="7524720" cy="57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wat echt goed i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dat is vechten met overtuiging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het leven koesteren en passioneel l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met klasse verliezen en overwinnen door te durven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want de wereld behoort aan de durvers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HET LEVEN IS TE BELANGRIJK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OM ONBETEKENEND TE ZIJN 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comb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3100"/>
                            </p:stCondLst>
                            <p:childTnLst>
                              <p:par>
                                <p:cTn id="2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ekstvak 1" descr=""/>
          <p:cNvPicPr/>
          <p:nvPr/>
        </p:nvPicPr>
        <p:blipFill>
          <a:blip r:embed="rId2"/>
          <a:stretch/>
        </p:blipFill>
        <p:spPr>
          <a:xfrm>
            <a:off x="-49320" y="-49320"/>
            <a:ext cx="3462480" cy="1603440"/>
          </a:xfrm>
          <a:prstGeom prst="rect">
            <a:avLst/>
          </a:prstGeom>
          <a:ln w="0">
            <a:noFill/>
          </a:ln>
        </p:spPr>
      </p:pic>
      <p:pic>
        <p:nvPicPr>
          <p:cNvPr id="320" name="Afbeelding 2" descr="9d2e356db1ad.png">
            <a:hlinkClick r:id="rId3"/>
          </p:cNvPr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0" y="3451320"/>
            <a:ext cx="2554200" cy="1552320"/>
          </a:xfrm>
          <a:prstGeom prst="rect">
            <a:avLst/>
          </a:prstGeom>
          <a:ln w="0">
            <a:noFill/>
          </a:ln>
        </p:spPr>
      </p:pic>
      <p:pic>
        <p:nvPicPr>
          <p:cNvPr id="321" name="Afbeelding 3" descr="4ca1ae6307d0.png">
            <a:hlinkClick r:id="rId5"/>
          </p:cNvPr>
          <p:cNvPicPr/>
          <p:nvPr/>
        </p:nvPicPr>
        <p:blipFill>
          <a:blip r:embed="rId6">
            <a:lum contrast="10000"/>
          </a:blip>
          <a:stretch/>
        </p:blipFill>
        <p:spPr>
          <a:xfrm>
            <a:off x="6543720" y="3867120"/>
            <a:ext cx="1257120" cy="789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7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7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Afbeelding 1" descr="839ff8c7a710.png"/>
          <p:cNvPicPr/>
          <p:nvPr/>
        </p:nvPicPr>
        <p:blipFill>
          <a:blip r:embed="rId1"/>
          <a:stretch/>
        </p:blipFill>
        <p:spPr>
          <a:xfrm>
            <a:off x="220680" y="165240"/>
            <a:ext cx="7397640" cy="4838400"/>
          </a:xfrm>
          <a:prstGeom prst="rect">
            <a:avLst/>
          </a:prstGeom>
          <a:ln w="0">
            <a:noFill/>
          </a:ln>
        </p:spPr>
      </p:pic>
      <p:sp>
        <p:nvSpPr>
          <p:cNvPr id="291" name="Tekstvak 2"/>
          <p:cNvSpPr/>
          <p:nvPr/>
        </p:nvSpPr>
        <p:spPr>
          <a:xfrm>
            <a:off x="1418040" y="485640"/>
            <a:ext cx="609336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bijna onvergeeflijk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fouten verg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geprobeerd o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onvervangbare person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te vervang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om onvergetelijk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personen te verget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8000"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Afbeelding 1" descr="839ff8c7a710.png"/>
          <p:cNvPicPr/>
          <p:nvPr/>
        </p:nvPicPr>
        <p:blipFill>
          <a:blip r:embed="rId1"/>
          <a:stretch/>
        </p:blipFill>
        <p:spPr>
          <a:xfrm>
            <a:off x="-4680" y="0"/>
            <a:ext cx="8034120" cy="5003640"/>
          </a:xfrm>
          <a:prstGeom prst="rect">
            <a:avLst/>
          </a:prstGeom>
          <a:ln w="0">
            <a:noFill/>
          </a:ln>
        </p:spPr>
      </p:pic>
      <p:sp>
        <p:nvSpPr>
          <p:cNvPr id="293" name="Rechthoek 2"/>
          <p:cNvSpPr/>
          <p:nvPr/>
        </p:nvSpPr>
        <p:spPr>
          <a:xfrm>
            <a:off x="0" y="190440"/>
            <a:ext cx="641844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impulsief gehandel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werd ontgoocheld door mensen van wie ik het niet verwachte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maar ik heb zelf ook mensen ontgoocheld</a:t>
            </a:r>
            <a:br>
              <a:rPr sz="3300"/>
            </a:b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   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6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800"/>
                            </p:stCondLst>
                            <p:childTnLst>
                              <p:par>
                                <p:cTn id="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66160" cy="5003640"/>
          </a:xfrm>
          <a:prstGeom prst="rect">
            <a:avLst/>
          </a:prstGeom>
          <a:ln w="0">
            <a:noFill/>
          </a:ln>
        </p:spPr>
      </p:pic>
      <p:sp>
        <p:nvSpPr>
          <p:cNvPr id="295" name="Rechthoek 2"/>
          <p:cNvSpPr/>
          <p:nvPr/>
        </p:nvSpPr>
        <p:spPr>
          <a:xfrm>
            <a:off x="0" y="3294000"/>
            <a:ext cx="556416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080" bIns="37080" anchor="t">
            <a:spAutoFit/>
          </a:bodyPr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iemand in mijn armen gehouden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om hem te bescherm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wheel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Afbeelding 1" descr="839ff8c7a710.png"/>
          <p:cNvPicPr/>
          <p:nvPr/>
        </p:nvPicPr>
        <p:blipFill>
          <a:blip r:embed="rId1"/>
          <a:stretch/>
        </p:blipFill>
        <p:spPr>
          <a:xfrm>
            <a:off x="3240" y="0"/>
            <a:ext cx="8023320" cy="5003640"/>
          </a:xfrm>
          <a:prstGeom prst="rect">
            <a:avLst/>
          </a:prstGeom>
          <a:ln w="0">
            <a:noFill/>
          </a:ln>
        </p:spPr>
      </p:pic>
      <p:sp>
        <p:nvSpPr>
          <p:cNvPr id="297" name="Rechthoek 2"/>
          <p:cNvSpPr/>
          <p:nvPr/>
        </p:nvSpPr>
        <p:spPr>
          <a:xfrm>
            <a:off x="1564200" y="504720"/>
            <a:ext cx="46742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ik heb gelach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1" lang="pt-BR" sz="3300" spc="-1" strike="noStrike">
                <a:solidFill>
                  <a:srgbClr val="ffffff"/>
                </a:solidFill>
                <a:latin typeface="Bradley Hand ITC"/>
              </a:rPr>
              <a:t>toen ik niet moch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00"/>
                            </p:stCondLst>
                            <p:childTnLst>
                              <p:par>
                                <p:cTn id="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299" name="Rechthoek 2"/>
          <p:cNvSpPr/>
          <p:nvPr/>
        </p:nvSpPr>
        <p:spPr>
          <a:xfrm>
            <a:off x="3994920" y="295200"/>
            <a:ext cx="4082760" cy="17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ik heb vrienden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gemaakt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277920" indent="-277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2dcdb"/>
                </a:solidFill>
                <a:latin typeface="Bradley Hand ITC"/>
              </a:rPr>
              <a:t>voor het lev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Afbeelding 1" descr="839ff8c7a710.pn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1" name="Tekstvak 4"/>
          <p:cNvSpPr/>
          <p:nvPr/>
        </p:nvSpPr>
        <p:spPr>
          <a:xfrm>
            <a:off x="2268720" y="3222720"/>
            <a:ext cx="595764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bemin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werd terugbemind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aar ik werd ook verstot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Afbeelding 1" descr="492608-1a9306f7980f077359deda548c5332bb.jpg"/>
          <p:cNvPicPr/>
          <p:nvPr/>
        </p:nvPicPr>
        <p:blipFill>
          <a:blip r:embed="rId1"/>
          <a:stretch/>
        </p:blipFill>
        <p:spPr>
          <a:xfrm>
            <a:off x="0" y="0"/>
            <a:ext cx="8029440" cy="5003640"/>
          </a:xfrm>
          <a:prstGeom prst="rect">
            <a:avLst/>
          </a:prstGeom>
          <a:ln w="0">
            <a:noFill/>
          </a:ln>
        </p:spPr>
      </p:pic>
      <p:sp>
        <p:nvSpPr>
          <p:cNvPr id="303" name="Tekstvak 2"/>
          <p:cNvSpPr/>
          <p:nvPr/>
        </p:nvSpPr>
        <p:spPr>
          <a:xfrm>
            <a:off x="-300600" y="3710160"/>
            <a:ext cx="6032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werd bemind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kon niet  terugbeminn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ipe dir="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300"/>
                            </p:stCondLst>
                            <p:childTnLst>
                              <p:par>
                                <p:cTn id="126" nodeType="after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3771"/>
          <p:cNvPicPr/>
          <p:nvPr/>
        </p:nvPicPr>
        <p:blipFill>
          <a:blip r:embed="rId1"/>
          <a:stretch/>
        </p:blipFill>
        <p:spPr>
          <a:xfrm>
            <a:off x="6480" y="0"/>
            <a:ext cx="8016840" cy="5003640"/>
          </a:xfrm>
          <a:prstGeom prst="rect">
            <a:avLst/>
          </a:prstGeom>
          <a:ln w="0">
            <a:noFill/>
          </a:ln>
        </p:spPr>
      </p:pic>
      <p:sp>
        <p:nvSpPr>
          <p:cNvPr id="305" name="Tekstvak 3"/>
          <p:cNvSpPr/>
          <p:nvPr/>
        </p:nvSpPr>
        <p:spPr>
          <a:xfrm>
            <a:off x="101160" y="2789280"/>
            <a:ext cx="798012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4520" rIns="7452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dikwijls geroepen van vreugd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ik heb de liefde geken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      </a:t>
            </a: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en eeuwige beloften gedaan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ffffff"/>
                </a:solidFill>
                <a:latin typeface="Bradley Hand ITC"/>
              </a:rPr>
              <a:t>maar vaak werd mijn hart gebroke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randomBar dir="horz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08:26:05Z</dcterms:created>
  <dc:creator>vanzuuren</dc:creator>
  <dc:description/>
  <cp:keywords>Lidia</cp:keywords>
  <dc:language>en-US</dc:language>
  <cp:lastModifiedBy>vanzuuren</cp:lastModifiedBy>
  <dcterms:modified xsi:type="dcterms:W3CDTF">2010-09-27T09:13:59Z</dcterms:modified>
  <cp:revision>40</cp:revision>
  <dc:subject/>
  <dc:title>Leven</dc:title>
</cp:coreProperties>
</file>