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12%20-%20Life's%20Storybook%20Cover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8027988" cy="5003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B67-4F4F-4B3D-8B13-A2BF4E50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534-1F77-457A-A123-800A0BA6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316-A6BA-45D2-AB92-201EDC9E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F29-5D57-476E-A56C-9E83EA2B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9CD8-A6C0-4528-A1FD-601BF4B8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59A0-2B68-48B6-99AC-DFB557C2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36FB-FF70-468E-B86F-F11DEA31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E0FB-0139-4B58-AD3B-E0B02CDE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34C6-35E6-4F85-85DC-8361656C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A89E-7612-4401-ACA9-18CC748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20D6-0423-482B-9F8D-5883BF98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12C-4D1D-4B80-A2F3-31E79867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E6C5-51A8-4143-A2CB-DB420171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CD7F-1F56-4979-B6C4-794E45B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E937-44A5-4392-A099-E6CAFD5A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767A-A7E3-4C32-8E8A-541CB55D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BA16-DE4F-47FA-A689-657266FC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9062-1957-43EC-88D8-2DB15564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C421-C30C-4D0E-8A06-928F0718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C5C4-4359-40EE-843E-67E8E8D8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0B45D-BDDE-410F-958E-9A2A59D6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56A32-D64C-497D-95BA-2212B8AF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0A3-112A-4880-A451-5CDA94DA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B4F2-0226-4156-9ECD-41903E5C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9935-ACE1-4E96-B402-B3DE9AA3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00D87-D8C5-4B73-85CA-5B98E20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BA961-C3C5-4DAB-B5CE-E5CAD110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751D7-A50B-48A8-A62E-507D94D9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4590-4E9C-4F13-8CC8-07E0D464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7E40-09E4-49B5-95B9-55C95320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3AED9-B0A7-4AB2-80C1-25EDC2F5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9530-7867-412D-ABF6-616090EC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0CF32-341A-4F5D-9F7E-D14DD357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4E8-F258-4022-837E-9ACC9D9B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6E5CB-2A84-458E-AAF8-EAC080FC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B4C7-9EA8-4AA5-B69A-6E1C872A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4F16-67FD-4300-BEE2-218164F2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F7C6-9300-48ED-A73F-F0AB0605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1124F-C40E-4346-8BB6-4E7BF3E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E703-35CE-48E7-81C8-B307F06B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79A68-2704-4CFD-B045-3F8C3971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8833-7724-4F3B-8F83-EC6BF152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A492-510B-4FDB-9305-3F2BBE0E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1EE0E-E417-4D8E-BF4A-3C54AE37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F9F-3F66-45CD-9453-181B1D7E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7B397-824A-44EE-ABEA-21835B63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8B14-C67B-49B9-8DD4-864D60D2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14BEC-068F-440E-9079-5B6EACBE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E53FB-4143-40C9-9D48-FBED64DB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371AF-408B-44F6-B5FE-36A81678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46285-0C14-427B-A3DA-E046DD9D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523DF-C71D-4F39-85A2-6B249B35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F8DE6-0D50-4532-A44A-CA7FC54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DED76-24EB-4349-81E1-FAD633D6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B72DD-A01F-46D1-A963-EF70F65C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ED7-345E-49DE-9570-56317A09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60A1-6BDE-4514-997D-4731E51D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9F7D1-1476-4092-B2C5-80B90034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BF911-D35B-4F99-8666-2909297D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334E6-76A8-4F04-879C-162FDB0B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73900-F8B2-4C16-AF14-2E9F8BDE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FBD34-7020-4755-A382-0BFE2C2A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DBE2E-A8FF-4F9B-89E0-417CAC46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52CA0-1442-4CB3-BFF3-5EDEBC0E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1922-3404-4EEB-9B82-AAE20C95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9F0DD-D548-4F2C-B7EE-451233E3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F92-D453-4D48-8320-2DF3C084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8EBF5-65FF-4049-AB90-DC6B6E4F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33B7A-86BA-4AB1-8576-1EAE28C2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B71D9-C3B7-4F53-9938-F514CFD9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7BCD3-4BAF-4DE8-BD52-B8BDC36A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70A54-99AC-491E-A32D-2E388E0E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96FED-ED56-47F2-890C-F3F7E109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4F035-AE4F-46A2-8C9F-A930730F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E51F1-5E83-4049-AE6A-DDE79E94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56823-4A12-4F73-9B77-FC7557C0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5F47D-460A-4733-AF8C-6558FBD3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3B8-1EBB-409A-8ABC-78BC4083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E19E2-6E63-4CD3-8317-6EF20B5A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37739-507A-43F3-A490-9BB85697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FA0F3-989A-49FE-8780-42545110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91B13-0BDB-4AE6-AFD6-0003F85E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17483-0823-4F69-B4C6-C19EBD6A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361-1AA9-4852-AC28-DACC010A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92560" indent="-22716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1520" indent="-1818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5480" indent="-1818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1400" y="4636800"/>
            <a:ext cx="187308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4636800"/>
            <a:ext cx="254304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54600" y="4636800"/>
            <a:ext cx="187344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6381-C040-4C11-964C-DABE31F5E65A}" type="slidenum">
              <a:rPr b="0" lang="nl-NL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0223-70D1-4E12-88C4-4A17A92780EE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4112-AA27-4478-91CE-2DA56B4C5DAD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73E8-B87C-48BD-8413-B69BF2030A31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021A-F4F7-4F20-8CF0-922AFCBE857C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D277-478A-4607-86C7-8DE5E88F32CC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7A86-132B-4223-B9FC-90F409732DB3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12%20-%20Life&apos;s%20Storybook%20Cove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hyperlink" Target="http://blog.seniorennet.be/lidia_powerpointblog/" TargetMode="External"/><Relationship Id="rId4" Type="http://schemas.openxmlformats.org/officeDocument/2006/relationships/image" Target="../media/image21.png"/><Relationship Id="rId5" Type="http://schemas.openxmlformats.org/officeDocument/2006/relationships/hyperlink" Target="mailto:lidiav9@gmail.com" TargetMode="External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el 1" descr=""/>
          <p:cNvPicPr/>
          <p:nvPr/>
        </p:nvPicPr>
        <p:blipFill>
          <a:blip r:embed="rId2"/>
          <a:stretch/>
        </p:blipFill>
        <p:spPr>
          <a:xfrm>
            <a:off x="585720" y="2176560"/>
            <a:ext cx="6973920" cy="1090440"/>
          </a:xfrm>
          <a:prstGeom prst="rect">
            <a:avLst/>
          </a:prstGeom>
          <a:ln w="0">
            <a:noFill/>
          </a:ln>
        </p:spPr>
      </p:pic>
      <p:pic>
        <p:nvPicPr>
          <p:cNvPr id="288" name="Ondertitel 2" descr=""/>
          <p:cNvPicPr/>
          <p:nvPr/>
        </p:nvPicPr>
        <p:blipFill>
          <a:blip r:embed="rId3"/>
          <a:stretch/>
        </p:blipFill>
        <p:spPr>
          <a:xfrm>
            <a:off x="4108320" y="-6480"/>
            <a:ext cx="3926160" cy="1359000"/>
          </a:xfrm>
          <a:prstGeom prst="rect">
            <a:avLst/>
          </a:prstGeom>
          <a:ln w="0">
            <a:noFill/>
          </a:ln>
        </p:spPr>
      </p:pic>
      <p:sp>
        <p:nvSpPr>
          <p:cNvPr id="289" name="Tekstvak 3"/>
          <p:cNvSpPr/>
          <p:nvPr/>
        </p:nvSpPr>
        <p:spPr>
          <a:xfrm>
            <a:off x="241920" y="130320"/>
            <a:ext cx="4540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uziek: Isla Grant – Life’s Storybook C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edge/>
    <p:sndAc>
      <p:stSnd>
        <p:snd r:embed="rId4" name="12%20-%20Life's%20Storybook%20Cov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image006667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7" name="Tekstvak 3"/>
          <p:cNvSpPr/>
          <p:nvPr/>
        </p:nvSpPr>
        <p:spPr>
          <a:xfrm>
            <a:off x="-166680" y="295200"/>
            <a:ext cx="8089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weend bij het luisteren naar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uziek en het bekijken van foto’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Afbeelding 2" descr="492944-ce022fd77ee2450ba4b4ffc005a4fae8.jpg"/>
          <p:cNvPicPr/>
          <p:nvPr/>
        </p:nvPicPr>
        <p:blipFill>
          <a:blip r:embed="rId1"/>
          <a:stretch/>
        </p:blipFill>
        <p:spPr>
          <a:xfrm>
            <a:off x="0" y="1440"/>
            <a:ext cx="8062920" cy="5002200"/>
          </a:xfrm>
          <a:prstGeom prst="rect">
            <a:avLst/>
          </a:prstGeom>
          <a:ln w="0">
            <a:noFill/>
          </a:ln>
        </p:spPr>
      </p:pic>
      <p:sp>
        <p:nvSpPr>
          <p:cNvPr id="309" name="Tekstvak 4"/>
          <p:cNvSpPr/>
          <p:nvPr/>
        </p:nvSpPr>
        <p:spPr>
          <a:xfrm>
            <a:off x="-149760" y="138240"/>
            <a:ext cx="80899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telefoneer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kel om een stem te hor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werd al verliefd bij het zien van e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glimlach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blinds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9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2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Afbeelding 1" descr="492941-286dbcc01bb4f94af1c1a6a527883171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1" name="Tekstvak 2"/>
          <p:cNvSpPr/>
          <p:nvPr/>
        </p:nvSpPr>
        <p:spPr>
          <a:xfrm>
            <a:off x="-95040" y="3973680"/>
            <a:ext cx="820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dacht te sterven van heimwee  en…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split dir="out" orient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1" descr="393823-b54ebcf8fd48cd4d7bd1d43fba7816a0.jpg"/>
          <p:cNvPicPr/>
          <p:nvPr/>
        </p:nvPicPr>
        <p:blipFill>
          <a:blip r:embed="rId1"/>
          <a:stretch/>
        </p:blipFill>
        <p:spPr>
          <a:xfrm>
            <a:off x="-25560" y="0"/>
            <a:ext cx="8055000" cy="5003640"/>
          </a:xfrm>
          <a:prstGeom prst="rect">
            <a:avLst/>
          </a:prstGeom>
          <a:ln w="0">
            <a:noFill/>
          </a:ln>
        </p:spPr>
      </p:pic>
      <p:sp>
        <p:nvSpPr>
          <p:cNvPr id="313" name="Rechthoek 2"/>
          <p:cNvSpPr/>
          <p:nvPr/>
        </p:nvSpPr>
        <p:spPr>
          <a:xfrm>
            <a:off x="474840" y="138240"/>
            <a:ext cx="717516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... ik had schrik om een heel bijzonder   iemand te verliezen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(die ik uiteindelijk verloren heb)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maar ik heb het overleefd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plus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jdelijke aanduiding voor inhoud 6" descr="578725-53d64b42236d49c5e19097c3ae4954c6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5" name="Rechthoek 2"/>
          <p:cNvSpPr/>
          <p:nvPr/>
        </p:nvSpPr>
        <p:spPr>
          <a:xfrm>
            <a:off x="220680" y="452520"/>
            <a:ext cx="75247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ik leef nog steed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ik laat het leven niet links ligg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dat moet jij ook niet do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hthoek 3"/>
          <p:cNvSpPr/>
          <p:nvPr/>
        </p:nvSpPr>
        <p:spPr>
          <a:xfrm>
            <a:off x="860400" y="3657600"/>
            <a:ext cx="2607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900" spc="-1" strike="noStrike">
                <a:solidFill>
                  <a:srgbClr val="ffffff"/>
                </a:solidFill>
                <a:latin typeface="Bradley Hand ITC"/>
              </a:rPr>
              <a:t>LEEF!!!!!!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Afbeelding 1" descr="418645-02bfbe93d700db72e421c4e057e28a32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8" name="Rechthoek 2"/>
          <p:cNvSpPr/>
          <p:nvPr/>
        </p:nvSpPr>
        <p:spPr>
          <a:xfrm>
            <a:off x="284040" y="138240"/>
            <a:ext cx="752472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wat echt goed i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dat is vechten met overtuiging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het leven koesteren en passioneel l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met klasse verliezen en overwinnen door te durven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want de wereld behoort aan de durvers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HET LEVEN IS TE BELANGRIJK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OM ONBETEKENEND TE ZIJN 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comb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100"/>
                            </p:stCondLst>
                            <p:childTnLst>
                              <p:par>
                                <p:cTn id="2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kstvak 1" descr=""/>
          <p:cNvPicPr/>
          <p:nvPr/>
        </p:nvPicPr>
        <p:blipFill>
          <a:blip r:embed="rId2"/>
          <a:stretch/>
        </p:blipFill>
        <p:spPr>
          <a:xfrm>
            <a:off x="-49320" y="-49320"/>
            <a:ext cx="3462480" cy="1603440"/>
          </a:xfrm>
          <a:prstGeom prst="rect">
            <a:avLst/>
          </a:prstGeom>
          <a:ln w="0">
            <a:noFill/>
          </a:ln>
        </p:spPr>
      </p:pic>
      <p:pic>
        <p:nvPicPr>
          <p:cNvPr id="320" name="Afbeelding 2" descr="9d2e356db1ad.png">
            <a:hlinkClick r:id="rId3"/>
          </p:cNvPr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0" y="3451320"/>
            <a:ext cx="2554200" cy="1552320"/>
          </a:xfrm>
          <a:prstGeom prst="rect">
            <a:avLst/>
          </a:prstGeom>
          <a:ln w="0">
            <a:noFill/>
          </a:ln>
        </p:spPr>
      </p:pic>
      <p:pic>
        <p:nvPicPr>
          <p:cNvPr id="321" name="Afbeelding 3" descr="4ca1ae6307d0.png">
            <a:hlinkClick r:id="rId5"/>
          </p:cNvPr>
          <p:cNvPicPr/>
          <p:nvPr/>
        </p:nvPicPr>
        <p:blipFill>
          <a:blip r:embed="rId6">
            <a:lum contrast="10000"/>
          </a:blip>
          <a:stretch/>
        </p:blipFill>
        <p:spPr>
          <a:xfrm>
            <a:off x="6543720" y="3867120"/>
            <a:ext cx="1257120" cy="789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7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7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Afbeelding 1" descr="839ff8c7a710.png"/>
          <p:cNvPicPr/>
          <p:nvPr/>
        </p:nvPicPr>
        <p:blipFill>
          <a:blip r:embed="rId1"/>
          <a:stretch/>
        </p:blipFill>
        <p:spPr>
          <a:xfrm>
            <a:off x="220680" y="165240"/>
            <a:ext cx="7397640" cy="4838400"/>
          </a:xfrm>
          <a:prstGeom prst="rect">
            <a:avLst/>
          </a:prstGeom>
          <a:ln w="0">
            <a:noFill/>
          </a:ln>
        </p:spPr>
      </p:pic>
      <p:sp>
        <p:nvSpPr>
          <p:cNvPr id="291" name="Tekstvak 2"/>
          <p:cNvSpPr/>
          <p:nvPr/>
        </p:nvSpPr>
        <p:spPr>
          <a:xfrm>
            <a:off x="1418040" y="485640"/>
            <a:ext cx="609336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bijna onvergeeflijk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fouten verg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probeerd o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onvervangbare person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te vervang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om onvergetelijk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personen te verget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Afbeelding 1" descr="839ff8c7a710.png"/>
          <p:cNvPicPr/>
          <p:nvPr/>
        </p:nvPicPr>
        <p:blipFill>
          <a:blip r:embed="rId1"/>
          <a:stretch/>
        </p:blipFill>
        <p:spPr>
          <a:xfrm>
            <a:off x="-4680" y="0"/>
            <a:ext cx="8034120" cy="5003640"/>
          </a:xfrm>
          <a:prstGeom prst="rect">
            <a:avLst/>
          </a:prstGeom>
          <a:ln w="0">
            <a:noFill/>
          </a:ln>
        </p:spPr>
      </p:pic>
      <p:sp>
        <p:nvSpPr>
          <p:cNvPr id="293" name="Rechthoek 2"/>
          <p:cNvSpPr/>
          <p:nvPr/>
        </p:nvSpPr>
        <p:spPr>
          <a:xfrm>
            <a:off x="0" y="190440"/>
            <a:ext cx="641844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impulsief gehandel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werd ontgoocheld door mensen van wie ik het niet verwachte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maar ik heb zelf ook mensen ontgoocheld</a:t>
            </a:r>
            <a:br>
              <a:rPr sz="3300"/>
            </a:b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   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6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800"/>
                            </p:stCondLst>
                            <p:childTnLst>
                              <p:par>
                                <p:cTn id="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66160" cy="5003640"/>
          </a:xfrm>
          <a:prstGeom prst="rect">
            <a:avLst/>
          </a:prstGeom>
          <a:ln w="0">
            <a:noFill/>
          </a:ln>
        </p:spPr>
      </p:pic>
      <p:sp>
        <p:nvSpPr>
          <p:cNvPr id="295" name="Rechthoek 2"/>
          <p:cNvSpPr/>
          <p:nvPr/>
        </p:nvSpPr>
        <p:spPr>
          <a:xfrm>
            <a:off x="0" y="3294000"/>
            <a:ext cx="556416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iemand in mijn armen gehouden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om hem te bescherm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Afbeelding 1" descr="839ff8c7a710.png"/>
          <p:cNvPicPr/>
          <p:nvPr/>
        </p:nvPicPr>
        <p:blipFill>
          <a:blip r:embed="rId1"/>
          <a:stretch/>
        </p:blipFill>
        <p:spPr>
          <a:xfrm>
            <a:off x="3240" y="0"/>
            <a:ext cx="8023320" cy="5003640"/>
          </a:xfrm>
          <a:prstGeom prst="rect">
            <a:avLst/>
          </a:prstGeom>
          <a:ln w="0">
            <a:noFill/>
          </a:ln>
        </p:spPr>
      </p:pic>
      <p:sp>
        <p:nvSpPr>
          <p:cNvPr id="297" name="Rechthoek 2"/>
          <p:cNvSpPr/>
          <p:nvPr/>
        </p:nvSpPr>
        <p:spPr>
          <a:xfrm>
            <a:off x="1564200" y="504720"/>
            <a:ext cx="46742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ik heb gelach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toen ik niet moch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0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299" name="Rechthoek 2"/>
          <p:cNvSpPr/>
          <p:nvPr/>
        </p:nvSpPr>
        <p:spPr>
          <a:xfrm>
            <a:off x="3994920" y="295200"/>
            <a:ext cx="4082760" cy="17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vrienden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gemaakt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voor het l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1" name="Tekstvak 4"/>
          <p:cNvSpPr/>
          <p:nvPr/>
        </p:nvSpPr>
        <p:spPr>
          <a:xfrm>
            <a:off x="2268720" y="3222720"/>
            <a:ext cx="595764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bemin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werd terugbemind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aar ik werd ook verstot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Afbeelding 1" descr="492608-1a9306f7980f077359deda548c5332bb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3" name="Tekstvak 2"/>
          <p:cNvSpPr/>
          <p:nvPr/>
        </p:nvSpPr>
        <p:spPr>
          <a:xfrm>
            <a:off x="-300600" y="3710160"/>
            <a:ext cx="6032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werd bemind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kon niet  terugbeminn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ipe dir="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3771"/>
          <p:cNvPicPr/>
          <p:nvPr/>
        </p:nvPicPr>
        <p:blipFill>
          <a:blip r:embed="rId1"/>
          <a:stretch/>
        </p:blipFill>
        <p:spPr>
          <a:xfrm>
            <a:off x="6480" y="0"/>
            <a:ext cx="8016840" cy="5003640"/>
          </a:xfrm>
          <a:prstGeom prst="rect">
            <a:avLst/>
          </a:prstGeom>
          <a:ln w="0">
            <a:noFill/>
          </a:ln>
        </p:spPr>
      </p:pic>
      <p:sp>
        <p:nvSpPr>
          <p:cNvPr id="305" name="Tekstvak 3"/>
          <p:cNvSpPr/>
          <p:nvPr/>
        </p:nvSpPr>
        <p:spPr>
          <a:xfrm>
            <a:off x="101160" y="2789280"/>
            <a:ext cx="79801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dikwijls geroepen van vreugd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de liefde geken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eeuwige beloften gedaan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aar vaak werd mijn hart gebrok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randomBa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8:26:05Z</dcterms:created>
  <dc:creator>vanzuuren</dc:creator>
  <dc:description/>
  <cp:keywords>Lidia</cp:keywords>
  <dc:language>en-US</dc:language>
  <cp:lastModifiedBy>vanzuuren</cp:lastModifiedBy>
  <dcterms:modified xsi:type="dcterms:W3CDTF">2010-09-27T09:13:59Z</dcterms:modified>
  <cp:revision>40</cp:revision>
  <dc:subject/>
  <dc:title>Leven</dc:title>
</cp:coreProperties>
</file>