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Wah,te,ti,ta,Who2411.WAV" ContentType="audio/x-wav"/>
  <Override PartName="/ppt/media/image7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9.jpeg" ContentType="image/jpe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419720" y="2160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19720" y="4227120"/>
            <a:ext cx="4495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19720" y="2160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2193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23720" y="1600200"/>
            <a:ext cx="2193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19720" y="4227120"/>
            <a:ext cx="2193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723720" y="4227120"/>
            <a:ext cx="2193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19720" y="2160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144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39640" y="1600200"/>
            <a:ext cx="144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59560" y="1600200"/>
            <a:ext cx="144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19720" y="4227120"/>
            <a:ext cx="144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5939640" y="4227120"/>
            <a:ext cx="144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459560" y="4227120"/>
            <a:ext cx="1447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419720" y="2160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4197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19720" y="2160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19720" y="2160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2193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723720" y="1600200"/>
            <a:ext cx="2193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19720" y="2160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419720" y="151920"/>
            <a:ext cx="4572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19720" y="2160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2193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723720" y="1600200"/>
            <a:ext cx="2193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419720" y="4227120"/>
            <a:ext cx="2193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19720" y="2160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2193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23720" y="1600200"/>
            <a:ext cx="2193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23720" y="4227120"/>
            <a:ext cx="2193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419720" y="21600"/>
            <a:ext cx="45720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2193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723720" y="1600200"/>
            <a:ext cx="2193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19720" y="4227120"/>
            <a:ext cx="4495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19720" y="151920"/>
            <a:ext cx="4572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197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79240" indent="-222840">
              <a:spcBef>
                <a:spcPts val="799"/>
              </a:spcBef>
              <a:buClr>
                <a:srgbClr val="000000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891360" indent="-178200">
              <a:spcBef>
                <a:spcPts val="799"/>
              </a:spcBef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248120" indent="-178200">
              <a:spcBef>
                <a:spcPts val="799"/>
              </a:spcBef>
              <a:buClr>
                <a:srgbClr val="000000"/>
              </a:buClr>
              <a:buFont typeface="Tw Cen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1604520" indent="-178200">
              <a:spcBef>
                <a:spcPts val="799"/>
              </a:spcBef>
              <a:buClr>
                <a:srgbClr val="000000"/>
              </a:buClr>
              <a:buFont typeface="Tw Cen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1604520" indent="-178200">
              <a:spcBef>
                <a:spcPts val="799"/>
              </a:spcBef>
              <a:buClr>
                <a:srgbClr val="000000"/>
              </a:buClr>
              <a:buFont typeface="Tw Cen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1604520" indent="-178200">
              <a:spcBef>
                <a:spcPts val="799"/>
              </a:spcBef>
              <a:buClr>
                <a:srgbClr val="000000"/>
              </a:buClr>
              <a:buFont typeface="Tw Cen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" name="Picture 17" descr="Ckp52618"/>
          <p:cNvPicPr/>
          <p:nvPr/>
        </p:nvPicPr>
        <p:blipFill>
          <a:blip r:embed="rId2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Wah,te,ti,ta,Who241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419720" y="3276360"/>
            <a:ext cx="4495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Is het jullie ook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Opgevallen?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Hoe ouder we worden,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hoe meer we gelijke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op computers…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" name="Picture 5" descr="allo-yellow"/>
          <p:cNvPicPr/>
          <p:nvPr/>
        </p:nvPicPr>
        <p:blipFill>
          <a:blip r:embed="rId1"/>
          <a:stretch/>
        </p:blipFill>
        <p:spPr>
          <a:xfrm>
            <a:off x="5334120" y="228600"/>
            <a:ext cx="23302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419720" y="3352680"/>
            <a:ext cx="4495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We hebben af en to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een  update nodig…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8" name="Picture 4" descr="tune-up"/>
          <p:cNvPicPr/>
          <p:nvPr/>
        </p:nvPicPr>
        <p:blipFill>
          <a:blip r:embed="rId1"/>
          <a:stretch/>
        </p:blipFill>
        <p:spPr>
          <a:xfrm>
            <a:off x="5334120" y="304920"/>
            <a:ext cx="2357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1640" y="457200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We leven nog en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we hebben nog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altijd beeld…</a:t>
            </a: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419720" y="151920"/>
            <a:ext cx="4572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omic Sans MS"/>
              </a:rPr>
              <a:t>Maar t’ is nie erg…    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1" name="Picture 4" descr="aimeca"/>
          <p:cNvPicPr/>
          <p:nvPr/>
        </p:nvPicPr>
        <p:blipFill>
          <a:blip r:embed="rId1"/>
          <a:stretch/>
        </p:blipFill>
        <p:spPr>
          <a:xfrm>
            <a:off x="4572000" y="1143000"/>
            <a:ext cx="3886200" cy="3435480"/>
          </a:xfrm>
          <a:prstGeom prst="rect">
            <a:avLst/>
          </a:prstGeom>
          <a:ln w="0">
            <a:noFill/>
          </a:ln>
        </p:spPr>
      </p:pic>
      <p:sp>
        <p:nvSpPr>
          <p:cNvPr id="62" name="WordArt 6"/>
          <p:cNvSpPr txBox="1"/>
          <p:nvPr/>
        </p:nvSpPr>
        <p:spPr>
          <a:xfrm>
            <a:off x="6095880" y="6324480"/>
            <a:ext cx="28958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Goed weekend,  Ton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419720" y="3352680"/>
            <a:ext cx="4495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We hebben geheuge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te kort…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" name="Picture 5" descr="pc"/>
          <p:cNvPicPr/>
          <p:nvPr/>
        </p:nvPicPr>
        <p:blipFill>
          <a:blip r:embed="rId1"/>
          <a:stretch/>
        </p:blipFill>
        <p:spPr>
          <a:xfrm>
            <a:off x="4800600" y="152280"/>
            <a:ext cx="380988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419720" y="3352680"/>
            <a:ext cx="4495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We krijgen het rapper koud.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" name="Picture 5" descr="gele"/>
          <p:cNvPicPr/>
          <p:nvPr/>
        </p:nvPicPr>
        <p:blipFill>
          <a:blip r:embed="rId1"/>
          <a:stretch/>
        </p:blipFill>
        <p:spPr>
          <a:xfrm>
            <a:off x="5257800" y="228600"/>
            <a:ext cx="2004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419720" y="3352680"/>
            <a:ext cx="4495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We worden alsmaa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trager…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6" name="Picture 5" descr="energie"/>
          <p:cNvPicPr/>
          <p:nvPr/>
        </p:nvPicPr>
        <p:blipFill>
          <a:blip r:embed="rId1"/>
          <a:stretch/>
        </p:blipFill>
        <p:spPr>
          <a:xfrm>
            <a:off x="5257800" y="0"/>
            <a:ext cx="21398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267080" y="3352680"/>
            <a:ext cx="47246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We mankeren energie..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" name="Picture 4" descr="tune-up"/>
          <p:cNvPicPr/>
          <p:nvPr/>
        </p:nvPicPr>
        <p:blipFill>
          <a:blip r:embed="rId1"/>
          <a:stretch/>
        </p:blipFill>
        <p:spPr>
          <a:xfrm>
            <a:off x="5257800" y="304920"/>
            <a:ext cx="2298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419720" y="3352680"/>
            <a:ext cx="4495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We krijgen virussen…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" name="Picture 4" descr="virus"/>
          <p:cNvPicPr/>
          <p:nvPr/>
        </p:nvPicPr>
        <p:blipFill>
          <a:blip r:embed="rId1"/>
          <a:stretch/>
        </p:blipFill>
        <p:spPr>
          <a:xfrm>
            <a:off x="4952880" y="1522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419720" y="3352680"/>
            <a:ext cx="4495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Af en toe een dagje in het hospitaal…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" name="Picture 4" descr="ordi18"/>
          <p:cNvPicPr/>
          <p:nvPr/>
        </p:nvPicPr>
        <p:blipFill>
          <a:blip r:embed="rId1"/>
          <a:stretch/>
        </p:blipFill>
        <p:spPr>
          <a:xfrm>
            <a:off x="4572000" y="304920"/>
            <a:ext cx="41148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48320" y="3352680"/>
            <a:ext cx="4495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We worden voorbij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gestoken door de jeugd…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4" name="Picture 4" descr="depasse"/>
          <p:cNvPicPr/>
          <p:nvPr/>
        </p:nvPicPr>
        <p:blipFill>
          <a:blip r:embed="rId1"/>
          <a:stretch/>
        </p:blipFill>
        <p:spPr>
          <a:xfrm>
            <a:off x="4876920" y="152280"/>
            <a:ext cx="29937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419720" y="3352680"/>
            <a:ext cx="4572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Er zijn dagen dat he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allemaal niet zo bes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CA" sz="3200" spc="-1" strike="noStrike">
                <a:solidFill>
                  <a:srgbClr val="000000"/>
                </a:solidFill>
                <a:latin typeface="Comic Sans MS"/>
              </a:rPr>
              <a:t>meer werkt…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6" name="Picture 4" descr="com"/>
          <p:cNvPicPr/>
          <p:nvPr/>
        </p:nvPicPr>
        <p:blipFill>
          <a:blip r:embed="rId1"/>
          <a:stretch/>
        </p:blipFill>
        <p:spPr>
          <a:xfrm>
            <a:off x="4648320" y="152280"/>
            <a:ext cx="34290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5:42:19Z</dcterms:created>
  <dc:creator>roland</dc:creator>
  <dc:description/>
  <dc:language>en-US</dc:language>
  <cp:lastModifiedBy>Anton van Hoorn</cp:lastModifiedBy>
  <dcterms:modified xsi:type="dcterms:W3CDTF">2011-02-13T09:14:14Z</dcterms:modified>
  <cp:revision>11</cp:revision>
  <dc:subject/>
  <dc:title>Diapositive 1</dc:title>
</cp:coreProperties>
</file>