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28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8.jpeg" ContentType="image/jpeg"/>
  <Override PartName="/ppt/media/image38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1.jpeg" ContentType="image/jpeg"/>
  <Override PartName="/ppt/media/image4.jpeg" ContentType="image/jpeg"/>
  <Override PartName="/ppt/media/image36.png" ContentType="image/png"/>
  <Override PartName="/ppt/media/One%20Moment%20In%20Time.wav" ContentType="audio/x-wav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C03-CC94-4CEC-818C-022A2EC7A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790-0049-4114-AD3C-CABF8F12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BDC-0E8A-4D19-A913-511BB05C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297-D95B-451A-B6CC-86A34A81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751-B05D-463D-895C-F78695B4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000-7F5D-4EAB-84DB-75102A22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BCF-C539-424C-8770-3CB18D64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8DD-A8B5-44E2-BFB1-7D6EF37E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BD7-B509-4674-BAE9-9C4361A3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B03-D74F-4071-BE25-3D041A7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D4C-375E-4AF3-B67E-BBD97030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690-E28A-4CB7-AFC0-EAC008B6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4B98-614E-48A2-B4CF-EA3448C37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One%20Moment%20In%20Time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592360" cy="4803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09744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5445000"/>
            <a:ext cx="3384360" cy="914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Eras Demi ITC"/>
              </a:rPr>
              <a:t>Tijd is tijdlo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  <p:sndAc>
      <p:stSnd>
        <p:snd r:embed="rId4" name="One%20Moment%20In%20Tim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409840" cy="28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79280" y="692280"/>
            <a:ext cx="3168720" cy="216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51280" y="40464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Arial"/>
              </a:rPr>
              <a:t>We vergeten de Tijd van nu met de Tijd van to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924280"/>
            <a:ext cx="37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33"/>
                </a:solidFill>
                <a:latin typeface="Century Schoolbook"/>
              </a:rPr>
              <a:t>En vergeten daarbij dat de tijd nu onze enige tijd 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hecke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350"/>
                            </p:stCondLst>
                            <p:childTnLst>
                              <p:par>
                                <p:cTn id="1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468360" y="-171360"/>
            <a:ext cx="9936360" cy="7345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77080" y="2421000"/>
            <a:ext cx="2266920" cy="359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260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Arial"/>
              </a:rPr>
              <a:t>We nemen de nodige Tijd niet om rustig te zij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23840" y="637380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cc00"/>
                </a:solidFill>
                <a:latin typeface="Century Schoolbook"/>
              </a:rPr>
              <a:t>En lopen onze enige Tijd haastig voorbij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50"/>
                            </p:stCondLst>
                            <p:childTnLst>
                              <p:par>
                                <p:cTn id="1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60072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4797360"/>
            <a:ext cx="403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en in de kortste Tijd veel hebb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ar we gunnen ons de Tijd ni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m blij te zijn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05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5768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4869000"/>
            <a:ext cx="36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8e00"/>
                </a:solidFill>
                <a:latin typeface="Arial"/>
              </a:rPr>
              <a:t>We praten snel en laten geen Tijd voor stil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8e00"/>
                </a:solidFill>
                <a:latin typeface="Arial"/>
              </a:rPr>
              <a:t>Die iemand soms nodig heeft om zich uit te spre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453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88000" y="907920"/>
            <a:ext cx="285768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56000" y="1484280"/>
            <a:ext cx="165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99ff"/>
                </a:solidFill>
                <a:latin typeface="Arial"/>
              </a:rPr>
              <a:t>Wij willen graag genieten van ons leven..maar namen we er de Tijd vo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6093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99ff"/>
                </a:solidFill>
                <a:latin typeface="Century Schoolbook"/>
              </a:rPr>
              <a:t>Eigenlijk weten we niet hoeveel Tijd we nog hebb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348000" y="3284640"/>
            <a:ext cx="1763640" cy="2092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-1116000" y="27813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plit dir="out" orient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400"/>
                            </p:stCondLst>
                            <p:childTnLst>
                              <p:par>
                                <p:cTn id="2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6667 C 0 -0.24133 0.069 -0.33333 0.125 -0.33333 L 0.25 -0.33333 E">
                                      <p:cBhvr>
                                        <p:cTn id="2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252360" y="189000"/>
            <a:ext cx="285732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515772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dd7d"/>
                </a:solidFill>
                <a:latin typeface="Arial"/>
              </a:rPr>
              <a:t>Toch kan de Tijd Tijdloos zijn als we van onze Tij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dd7d"/>
                </a:solidFill>
                <a:latin typeface="Arial"/>
              </a:rPr>
              <a:t>Een droom van een TIJD mak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Ba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573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Bookman Old Style"/>
              </a:rPr>
              <a:t>Groetjes van ons 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Bookman Old Style"/>
              </a:rPr>
              <a:t>         </a:t>
            </a:r>
            <a:r>
              <a:rPr b="1" lang="nl-NL" sz="3200" spc="-1" strike="noStrike">
                <a:solidFill>
                  <a:srgbClr val="0000ff"/>
                </a:solidFill>
                <a:latin typeface="Bookman Old Style"/>
              </a:rPr>
              <a:t>geniet van de tijd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2663640" cy="28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24360" y="0"/>
            <a:ext cx="4319640" cy="398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916360" y="2205000"/>
            <a:ext cx="4319640" cy="39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21349200">
            <a:off x="0" y="-387360"/>
            <a:ext cx="320364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4360" y="6165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we hebben nu geen Tijd voor later al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-387360"/>
            <a:ext cx="9612360" cy="756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3780000" cy="381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6000" y="371628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Onze ziel fluistert…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Tijd is Tijdloos…als je van je Tijd een droom van een Tijd kan ma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46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3810240" cy="367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587700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Als kind willen we zo snel mogelijk groot worde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43640" y="3284640"/>
            <a:ext cx="2376360" cy="3217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26920" y="260280"/>
            <a:ext cx="23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ff"/>
                </a:solidFill>
                <a:latin typeface="Arial"/>
              </a:rPr>
              <a:t>En eens volwassen verlangen we terug naar de Tijd van het kind zijn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7124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56000" y="98100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4000" y="5013360"/>
            <a:ext cx="287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raken onze gezondheid kwijt door rap veel geld te willen hebb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5508720" cy="422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3384720" cy="3240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24360" y="4653000"/>
            <a:ext cx="273528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En geven dan ons geld uit om rap weer gezond te worden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2772000" cy="3573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292720" y="3859200"/>
            <a:ext cx="2303640" cy="299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651640" y="1413000"/>
            <a:ext cx="1400040" cy="2925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1158600">
            <a:off x="6156000" y="1557360"/>
            <a:ext cx="1400040" cy="292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 rot="20733000">
            <a:off x="5219640" y="1557360"/>
            <a:ext cx="1400400" cy="292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 rot="2230800">
            <a:off x="6516360" y="1844640"/>
            <a:ext cx="1400040" cy="2925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71640" y="62064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08e00"/>
                </a:solidFill>
                <a:latin typeface="Arial"/>
              </a:rPr>
              <a:t>Wij maken ons  zorgen over de toekoms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311280" cy="3959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1280" y="4869000"/>
            <a:ext cx="26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ff"/>
                </a:solidFill>
                <a:latin typeface="Arial"/>
              </a:rPr>
              <a:t>En vergeten intussen in de Tijd van nu te lev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8:52:14Z</dcterms:created>
  <dc:creator>elza</dc:creator>
  <dc:description/>
  <dc:language>en-US</dc:language>
  <cp:lastModifiedBy>Nico &amp; Lia</cp:lastModifiedBy>
  <dcterms:modified xsi:type="dcterms:W3CDTF">2009-12-08T21:16:49Z</dcterms:modified>
  <cp:revision>2</cp:revision>
  <dc:subject>pps</dc:subject>
  <dc:title>tijd is tijdlo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27000000000001024140</vt:lpwstr>
  </property>
</Properties>
</file>