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1.jpeg" ContentType="image/jpeg"/>
  <Override PartName="/ppt/media/image4.jpeg" ContentType="image/jpeg"/>
  <Override PartName="/ppt/media/image36.png" ContentType="image/png"/>
  <Override PartName="/ppt/media/One%20Moment%20In%20Time.wav" ContentType="audio/x-wav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990-284E-4CF6-BDA5-66556AC9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2CF-6475-476E-8C3F-C7F3D3D9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0A2-F9B5-419C-9EE2-CD2249EC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C73-690B-406B-A7A1-DCA04B3B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631-5C15-460A-BE5F-8BCBFF7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067-05E0-47A4-98F1-851D2BFF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DA1-6DE1-4562-8D50-132A10C7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A48-25BF-4F67-99BF-7A25D289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335-5BD9-440B-8C66-988F1BDC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66A-E13B-4556-BDAF-782F6BB8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E34-DCF9-42E3-8A03-4ABE3D94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2AA-916C-4C62-9B07-7D00D05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FC6D-AE64-475F-B99B-B961BB46E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One%20Moment%20In%20Time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592360" cy="480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09744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5445000"/>
            <a:ext cx="3384360" cy="914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Eras Demi ITC"/>
              </a:rPr>
              <a:t>Tijd is tijdlo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  <p:sndAc>
      <p:stSnd>
        <p:snd r:embed="rId4" name="One%20Moment%20In%20Ti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409840" cy="28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3168720" cy="216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51280" y="40464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Arial"/>
              </a:rPr>
              <a:t>We vergeten de Tijd van nu met de Tijd van to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924280"/>
            <a:ext cx="37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Century Schoolbook"/>
              </a:rPr>
              <a:t>En vergeten daarbij dat de tijd nu onze enige tijd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hecke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350"/>
                            </p:stCondLst>
                            <p:childTnLst>
                              <p:par>
                                <p:cTn id="1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468360" y="-171360"/>
            <a:ext cx="9936360" cy="7345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77080" y="2421000"/>
            <a:ext cx="2266920" cy="359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260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We nemen de nodige Tijd niet om rustig te zij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23840" y="637380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Century Schoolbook"/>
              </a:rPr>
              <a:t>En lopen onze enige Tijd haastig voorbij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5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60072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4797360"/>
            <a:ext cx="403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en in de kortste Tijd veel hebb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ar we gunnen ons de Tijd ni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m blij te zijn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05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76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4869000"/>
            <a:ext cx="36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8e00"/>
                </a:solidFill>
                <a:latin typeface="Arial"/>
              </a:rPr>
              <a:t>We praten snel en laten geen Tijd voor stil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8e00"/>
                </a:solidFill>
                <a:latin typeface="Arial"/>
              </a:rPr>
              <a:t>Die iemand soms nodig heeft om zich uit te spre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45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88000" y="907920"/>
            <a:ext cx="285768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56000" y="148428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99ff"/>
                </a:solidFill>
                <a:latin typeface="Arial"/>
              </a:rPr>
              <a:t>Wij willen graag genieten van ons leven..maar namen we er de Tijd vo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6093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99ff"/>
                </a:solidFill>
                <a:latin typeface="Century Schoolbook"/>
              </a:rPr>
              <a:t>Eigenlijk weten we niet hoeveel Tijd we nog hebb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348000" y="3284640"/>
            <a:ext cx="1763640" cy="209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-1116000" y="27813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400"/>
                            </p:stCondLst>
                            <p:childTnLst>
                              <p:par>
                                <p:cTn id="2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6667 C 0 -0.24133 0.069 -0.33333 0.125 -0.33333 L 0.25 -0.33333 E">
                                      <p:cBhvr>
                                        <p:cTn id="2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252360" y="189000"/>
            <a:ext cx="285732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515772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dd7d"/>
                </a:solidFill>
                <a:latin typeface="Arial"/>
              </a:rPr>
              <a:t>Toch kan de Tijd Tijdloos zijn als we van onze Tij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dd7d"/>
                </a:solidFill>
                <a:latin typeface="Arial"/>
              </a:rPr>
              <a:t>Een droom van een TIJD mak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Ba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573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Bookman Old Style"/>
              </a:rPr>
              <a:t>Groetjes van ons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Bookman Old Style"/>
              </a:rPr>
              <a:t>         </a:t>
            </a:r>
            <a:r>
              <a:rPr b="1" lang="nl-NL" sz="3200" spc="-1" strike="noStrike">
                <a:solidFill>
                  <a:srgbClr val="0000ff"/>
                </a:solidFill>
                <a:latin typeface="Bookman Old Style"/>
              </a:rPr>
              <a:t>geniet van de tijd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2663640" cy="28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24360" y="0"/>
            <a:ext cx="4319640" cy="398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916360" y="2205000"/>
            <a:ext cx="4319640" cy="39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1349200">
            <a:off x="0" y="-387360"/>
            <a:ext cx="320364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6165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we hebben nu geen Tijd voor later al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-387360"/>
            <a:ext cx="9612360" cy="756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780000" cy="381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371628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Onze ziel fluistert…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Tijd is Tijdloos…als je van je Tijd een droom van een Tijd kan ma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810240" cy="367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587700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Als kind willen we zo snel mogelijk groot worde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376360" cy="321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6920" y="260280"/>
            <a:ext cx="23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ff"/>
                </a:solidFill>
                <a:latin typeface="Arial"/>
              </a:rPr>
              <a:t>En eens volwassen verlangen we terug naar de Tijd van het kind zijn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712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56000" y="98100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013360"/>
            <a:ext cx="28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raken onze gezondheid kwijt door rap veel geld te willen hebb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5508720" cy="422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3384720" cy="324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24360" y="4653000"/>
            <a:ext cx="273528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En geven dan ons geld uit om rap weer gezond te worde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27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292720" y="3859200"/>
            <a:ext cx="2303640" cy="299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651640" y="1413000"/>
            <a:ext cx="1400040" cy="2925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1158600">
            <a:off x="6156000" y="1557360"/>
            <a:ext cx="1400040" cy="292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 rot="20733000">
            <a:off x="5219640" y="1557360"/>
            <a:ext cx="1400400" cy="292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 rot="2230800">
            <a:off x="6516360" y="1844640"/>
            <a:ext cx="1400040" cy="2925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62064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8e00"/>
                </a:solidFill>
                <a:latin typeface="Arial"/>
              </a:rPr>
              <a:t>Wij maken ons  zorgen over de toekoms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311280" cy="3959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4869000"/>
            <a:ext cx="26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ff"/>
                </a:solidFill>
                <a:latin typeface="Arial"/>
              </a:rPr>
              <a:t>En vergeten intussen in de Tijd van nu te lev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8:52:14Z</dcterms:created>
  <dc:creator>elza</dc:creator>
  <dc:description/>
  <dc:language>en-US</dc:language>
  <cp:lastModifiedBy>Nico &amp; Lia</cp:lastModifiedBy>
  <dcterms:modified xsi:type="dcterms:W3CDTF">2009-12-08T21:16:49Z</dcterms:modified>
  <cp:revision>2</cp:revision>
  <dc:subject>pps</dc:subject>
  <dc:title>tijd is tijdlo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27000000000001024140</vt:lpwstr>
  </property>
</Properties>
</file>