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gif" ContentType="image/gif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Les%20Compagnons%20%20-%20Verte%20campagne%2064.wav" ContentType="audio/x-wav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A11B-3622-45E7-91FA-F15E09B1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3270-46D2-4E8A-A2BD-1CF10896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6972-6ACF-41D1-812C-00AE25E9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812E-0EB9-422A-853D-E9F19E97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0FF9-3CB8-4C5C-AD87-013C3E00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AB1C-7602-478A-AEDD-0B9A1DF5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C50-6A49-49A3-8764-E450CC80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4DE3-63AF-47C6-B684-510647EA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E4A-A99B-4429-8421-684F0BD0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F3EB-A83F-45B4-9A68-BFED479A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EC42-B79F-4FE8-A1F6-8D03DCF4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0AFE-F100-4BA2-9189-57AC07F4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B0EA-820D-464E-9C87-57BF13E5717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es%20Compagnons%20%20-%20Verte%20campagne%2064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 Imagen" descr="segadores.jpg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92360" y="260280"/>
            <a:ext cx="4967280" cy="12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Calibri"/>
              </a:rPr>
              <a:t>C A M P A G N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599292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Calibri"/>
              </a:rPr>
              <a:t>OUVREZ VOS HAUT-PARLEURS</a:t>
            </a:r>
            <a:r>
              <a:rPr b="0" lang="fr-FR" sz="4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2" name="Les%20Compagnons%20%20-%20Verte%20campagne%2064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30"/>
                                  </p:iterate>
                                  <p:childTnLst>
                                    <p:animMotion origin="layout" path="M 3.61111E-006 -2.96296E-006 C 0.06892 -2.96296E-006 0.125 0.02454 0.125 0.05672 C 0.125 0.0882 0.06892 0.11551 3.61111E-006 0.11551 C -0.0691 0.11551 -0.125 0.0882 -0.125 0.05672 C -0.125 0.02454 -0.0691 -2.96296000000008E-006 0.00989 0.0132 E">
                                      <p:cBhvr>
                                        <p:cTn id="6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Imagen" descr="julien_dupre_a3058_le_dejeuner_des_faneus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 Imagen" descr="133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57" name="2 Imagen" descr="dupre_large.jpg"/>
          <p:cNvPicPr/>
          <p:nvPr/>
        </p:nvPicPr>
        <p:blipFill>
          <a:blip r:embed="rId2"/>
          <a:stretch/>
        </p:blipFill>
        <p:spPr>
          <a:xfrm>
            <a:off x="0" y="350028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58" name="5 Imagen" descr="juliendupre.jpg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59" name="1 Imagen" descr="104.jpg"/>
          <p:cNvPicPr/>
          <p:nvPr/>
        </p:nvPicPr>
        <p:blipFill>
          <a:blip r:embed="rId4"/>
          <a:stretch/>
        </p:blipFill>
        <p:spPr>
          <a:xfrm>
            <a:off x="4572000" y="3573360"/>
            <a:ext cx="4572000" cy="3284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Imagen" descr="julien_dupre_a3653_les_foi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Imagen" descr="julien_dupre_c3183_la_faneu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julien_dupre_a3658_femme_versant_a_boire_renamed_229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Imagen" descr="julien_dupre_a3346_le_repos.jpg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2 Imagen" descr="julien_dupre_b1326_femme_au_soleil_faneuse_wm.jpg"/>
          <p:cNvPicPr/>
          <p:nvPr/>
        </p:nvPicPr>
        <p:blipFill>
          <a:blip r:embed="rId2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 Imagen" descr="julien_dupre_b1430_le_repas_des_moissonneurs_w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 Imagen" descr="julien_dupre_c3148_le_repos_dans_le_champ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 Imagen" descr="julien_dupre_a3275_tending_the_her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2 Imagen" descr="julien_dupre_m201_la_fermie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3 Imagen" descr="2584.jpg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1 CuadroTexto"/>
          <p:cNvSpPr/>
          <p:nvPr/>
        </p:nvSpPr>
        <p:spPr>
          <a:xfrm>
            <a:off x="179280" y="4941720"/>
            <a:ext cx="9144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 Black"/>
              </a:rPr>
              <a:t>Julien  Dupr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intre français du  XIX ème siècle, celui qui a su comme aucun autre, recréer sur toile, la vie humaine et animale de nos campagnes.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 Imagen" descr="julien_dupre_b1437_bergere_et_moutons_w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1 Imagen" descr="julien_dupre_b1184_la_bergere_wm.jpg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2 Imagen" descr="julien_dupre_b1526_the_shepherdess_wm.jpg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 Imagen" descr="julien_dupre_c3148_le_repos_dans_le_champ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 Imagen" descr="untitled-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1 Imagen" descr="julien_dupre_b1340_une_prairie_w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2 Imagen" descr="julien_dupre_a3275_tending_the_her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2 Imagen" descr="julien_dupre_a2902_milkmaids_in_the_fiel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 Imagen" descr="julien_dupre_a3750_paysage_avec_animaux_w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1 Imagen" descr="untitle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1 Imagen" descr="julien_dupre_b1278_femme_et_vaches_par_leau_w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dupr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1 Imagen" descr="julien_dupre_a3353_milkmaid_with_cow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2 Imagen" descr="julien_dupre_a3347_the_young_milkmai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 Imagen" descr="untitle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 Imagen" descr="julien_dupre_b1440_les_vaches_a_labreuvoir_w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2 Imagen" descr="julien_dupre_a3307_retour_a_la_ferm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1 Imagen" descr="julien_dupre_b1002_la_rentree_au_village_w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8 Nube"/>
          <p:cNvSpPr/>
          <p:nvPr/>
        </p:nvSpPr>
        <p:spPr>
          <a:xfrm>
            <a:off x="7286760" y="5867280"/>
            <a:ext cx="1857240" cy="8575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ANN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100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FERMIER" descr=""/>
          <p:cNvPicPr/>
          <p:nvPr/>
        </p:nvPicPr>
        <p:blipFill>
          <a:blip r:embed="rId1"/>
          <a:stretch/>
        </p:blipFill>
        <p:spPr>
          <a:xfrm>
            <a:off x="4361040" y="3200400"/>
            <a:ext cx="774360" cy="960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6705720" y="5562720"/>
            <a:ext cx="76176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F I 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Imagen" descr="julien_dupre_a2997_a_moments_res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julien_dupre_a3059_le_temps_de_moiss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 Imagen" descr="julien_dupre_c3186_the_reaper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2 Imagen" descr="julien_dupre_b1517_milkmaid_in_normandy_wm.jpg"/>
          <p:cNvPicPr/>
          <p:nvPr/>
        </p:nvPicPr>
        <p:blipFill>
          <a:blip r:embed="rId1"/>
          <a:stretch/>
        </p:blipFill>
        <p:spPr>
          <a:xfrm>
            <a:off x="4230720" y="0"/>
            <a:ext cx="491328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3 Imagen" descr="julien_dupre_b1146_femme_portant_a_manger_wm.jpg"/>
          <p:cNvPicPr/>
          <p:nvPr/>
        </p:nvPicPr>
        <p:blipFill>
          <a:blip r:embed="rId2"/>
          <a:stretch/>
        </p:blipFill>
        <p:spPr>
          <a:xfrm>
            <a:off x="0" y="0"/>
            <a:ext cx="44942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 Imagen" descr="julien_dupre_a3308_hayi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julien_dupre_c3269_returning_from_the_fields.jpg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2 Imagen" descr="lr_harvester.jpg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4:05:07Z</dcterms:created>
  <dc:creator>geoloquito</dc:creator>
  <dc:description/>
  <dc:language>en-US</dc:language>
  <cp:lastModifiedBy>Giorgio Fils maudit</cp:lastModifiedBy>
  <dcterms:modified xsi:type="dcterms:W3CDTF">2010-05-18T09:44:22Z</dcterms:modified>
  <cp:revision>8</cp:revision>
  <dc:subject/>
  <dc:title>les moisonneuse</dc:title>
</cp:coreProperties>
</file>