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mood.wav" ContentType="audio/x-wav"/>
  <Override PartName="/ppt/media/image7.jpeg" ContentType="image/jpeg"/>
  <Override PartName="/ppt/media/image1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F2B7-52B5-4C9A-8FB4-A5A47BFFC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7C9E-C8A4-4F8A-8051-6A3DB780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4CEF-AF8A-4403-A265-23C87F3A7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E722-5714-49C6-8E12-9DE5CE640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8FD9-FDF4-4026-85F7-8153D0BE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D897-6D61-4974-82FD-386AAC74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BA7C-EE5F-4F0D-8AC2-E357BCBB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F5A2-1F79-4704-B99D-0890C745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1549-8683-4165-94A7-E9F912FA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7800-5990-4F52-A562-9AAB0460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8D4C-33B4-4988-A1E1-C5139DCD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3F22-43AF-4B78-BF78-C78E6988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DF9D-35A0-47AE-AA5B-63C201E85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mood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Eigene Dateien\A\50er\1.jpg"/>
          <p:cNvPicPr/>
          <p:nvPr/>
        </p:nvPicPr>
        <p:blipFill>
          <a:blip r:embed="rId1"/>
          <a:stretch/>
        </p:blipFill>
        <p:spPr>
          <a:xfrm>
            <a:off x="0" y="115920"/>
            <a:ext cx="9201240" cy="6915240"/>
          </a:xfrm>
          <a:prstGeom prst="rect">
            <a:avLst/>
          </a:prstGeom>
          <a:ln w="0">
            <a:noFill/>
          </a:ln>
        </p:spPr>
      </p:pic>
      <p:sp>
        <p:nvSpPr>
          <p:cNvPr id="42" name="Tekstvak 4"/>
          <p:cNvSpPr/>
          <p:nvPr/>
        </p:nvSpPr>
        <p:spPr>
          <a:xfrm>
            <a:off x="0" y="2133720"/>
            <a:ext cx="9252000" cy="314136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2060"/>
                </a:solidFill>
                <a:latin typeface="Times New Roman"/>
              </a:rPr>
              <a:t>50 jaar geled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2060"/>
                </a:solidFill>
                <a:latin typeface="Times New Roman"/>
              </a:rPr>
              <a:t>Il y a 50 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2060"/>
                </a:solidFill>
                <a:latin typeface="Times New Roman"/>
              </a:rPr>
              <a:t>50 years bef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2060"/>
                </a:solidFill>
                <a:latin typeface="Times New Roman"/>
              </a:rPr>
              <a:t>Vor 50 Jahr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2060"/>
                </a:solidFill>
                <a:latin typeface="Times New Roman"/>
              </a:rPr>
              <a:t>Hace 50 añ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Eigene Dateien\A\50er\10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Eigene Dateien\A\50er\11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:\Eigene Dateien\A\50er\12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Eigene Dateien\A\50er\13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D:\Eigene Dateien\A\50er\14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D:\Eigene Dateien\A\50er\15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D:\Eigene Dateien\A\50er\16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D:\Eigene Dateien\A\50er\17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D:\Eigene Dateien\A\50er\18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Eigene Dateien\A\50er\2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Eigene Dateien\A\50er\3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Eigene Dateien\A\50er\4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:\Eigene Dateien\A\50er\5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:\Eigene Dateien\A\50er\6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Eigene Dateien\A\50er\7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:\Eigene Dateien\A\50er\8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Eigene Dateien\A\50er\9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8:21:31Z</dcterms:created>
  <dc:creator>karl</dc:creator>
  <dc:description/>
  <dc:language>en-US</dc:language>
  <cp:lastModifiedBy>fredje</cp:lastModifiedBy>
  <dcterms:modified xsi:type="dcterms:W3CDTF">2010-08-13T21:51:00Z</dcterms:modified>
  <cp:revision>3</cp:revision>
  <dc:subject/>
  <dc:title>Kein Folientitel</dc:title>
</cp:coreProperties>
</file>