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mood.wav" ContentType="audio/x-wav"/>
  <Override PartName="/ppt/media/image7.jpeg" ContentType="image/jpeg"/>
  <Override PartName="/ppt/media/image1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9F2A-438B-48B6-85F7-B88A5A216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774E-FA01-4B14-90F4-949BF749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D4BA-E468-4666-A629-6550AA1BC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417E-FAF8-46F2-9815-7F56BC280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C52B-63D5-4442-BB7C-83F71F8E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A014-7119-439E-9EBC-D8C1DFCC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2E17-C509-406A-8309-ED89795B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E23E-D72D-43E8-9FD5-D25D9320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3D04-BA85-4E43-90A3-D0E39AE3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AB40-045D-44E8-8A99-90F554CB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65E2-3574-46BA-AA13-708D37E9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1774-A810-41C4-B353-C8D57A2F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D542-52B5-464D-ACFF-28A43CBAD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mood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Eigene Dateien\A\50er\1.jpg"/>
          <p:cNvPicPr/>
          <p:nvPr/>
        </p:nvPicPr>
        <p:blipFill>
          <a:blip r:embed="rId1"/>
          <a:stretch/>
        </p:blipFill>
        <p:spPr>
          <a:xfrm>
            <a:off x="0" y="115920"/>
            <a:ext cx="9201240" cy="6915240"/>
          </a:xfrm>
          <a:prstGeom prst="rect">
            <a:avLst/>
          </a:prstGeom>
          <a:ln w="0">
            <a:noFill/>
          </a:ln>
        </p:spPr>
      </p:pic>
      <p:sp>
        <p:nvSpPr>
          <p:cNvPr id="42" name="Tekstvak 4"/>
          <p:cNvSpPr/>
          <p:nvPr/>
        </p:nvSpPr>
        <p:spPr>
          <a:xfrm>
            <a:off x="0" y="2133720"/>
            <a:ext cx="9252000" cy="314136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2060"/>
                </a:solidFill>
                <a:latin typeface="Times New Roman"/>
              </a:rPr>
              <a:t>50 jaar geled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2060"/>
                </a:solidFill>
                <a:latin typeface="Times New Roman"/>
              </a:rPr>
              <a:t>Il y a 50 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2060"/>
                </a:solidFill>
                <a:latin typeface="Times New Roman"/>
              </a:rPr>
              <a:t>50 years bef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2060"/>
                </a:solidFill>
                <a:latin typeface="Times New Roman"/>
              </a:rPr>
              <a:t>Vor 50 Jahr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2060"/>
                </a:solidFill>
                <a:latin typeface="Times New Roman"/>
              </a:rPr>
              <a:t>Hace 50 añ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Eigene Dateien\A\50er\10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Eigene Dateien\A\50er\11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:\Eigene Dateien\A\50er\12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Eigene Dateien\A\50er\13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D:\Eigene Dateien\A\50er\14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D:\Eigene Dateien\A\50er\15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D:\Eigene Dateien\A\50er\16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D:\Eigene Dateien\A\50er\17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D:\Eigene Dateien\A\50er\18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Eigene Dateien\A\50er\2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Eigene Dateien\A\50er\3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Eigene Dateien\A\50er\4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:\Eigene Dateien\A\50er\5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:\Eigene Dateien\A\50er\6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Eigene Dateien\A\50er\7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:\Eigene Dateien\A\50er\8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Eigene Dateien\A\50er\9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8:21:31Z</dcterms:created>
  <dc:creator>karl</dc:creator>
  <dc:description/>
  <dc:language>en-US</dc:language>
  <cp:lastModifiedBy>fredje</cp:lastModifiedBy>
  <dcterms:modified xsi:type="dcterms:W3CDTF">2010-08-13T21:51:00Z</dcterms:modified>
  <cp:revision>3</cp:revision>
  <dc:subject/>
  <dc:title>Kein Folientitel</dc:title>
</cp:coreProperties>
</file>