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Mistral%20Gagnant.wav" ContentType="audio/x-wav"/>
  <Override PartName="/ppt/media/image16.jpeg" ContentType="image/jpeg"/>
  <Override PartName="/ppt/media/image24.gif" ContentType="image/gif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C7AB-81D4-432A-8451-53F751D17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77F-A150-454F-9275-578CB578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365-B9F2-46D3-B357-8F3C981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C30-BE8A-4095-90F6-66D8D2B3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F84-5E69-4C34-A6BD-4FA69DDA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877-96D4-4A4C-AA1A-4C282C56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2D1-D131-4F3E-8D7E-567D22E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BC5-25E9-4B68-84C6-52F76955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274-3F99-42B6-9FA2-6167652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881-FD70-4534-9611-1D05166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C13-7C88-4A55-A88D-4E8C219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6CD-245C-4B59-B721-DE4780D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085-FF7E-4CA5-93F9-223FE1E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7079D-2CF6-48F3-97B0-A873E82DA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stral%20Gagnan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99280" y="720720"/>
            <a:ext cx="10796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720720"/>
            <a:ext cx="90036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60692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  <p:sndAc>
      <p:stSnd>
        <p:snd r:embed="rId2" name="Mistral%20Gagnan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759280" cy="7604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65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9280" y="360360"/>
            <a:ext cx="792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b80047"/>
                </a:solidFill>
                <a:latin typeface="Kristen ITC"/>
              </a:rPr>
              <a:t>SANS COM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10080720" cy="41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34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00240" y="12636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3240000"/>
            <a:ext cx="558000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55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9280"/>
            <a:ext cx="10080720" cy="5040360"/>
          </a:xfrm>
          <a:prstGeom prst="roundRect">
            <a:avLst>
              <a:gd name="adj" fmla="val 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60720" y="251928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22:17Z</dcterms:created>
  <dc:creator/>
  <dc:description/>
  <dc:language>en-US</dc:language>
  <cp:lastModifiedBy/>
  <dcterms:modified xsi:type="dcterms:W3CDTF">2010-05-07T17:38:27Z</dcterms:modified>
  <cp:revision>25</cp:revision>
  <dc:subject/>
  <dc:title/>
</cp:coreProperties>
</file>