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Mistral%20Gagnant.wav" ContentType="audio/x-wav"/>
  <Override PartName="/ppt/media/image16.jpeg" ContentType="image/jpeg"/>
  <Override PartName="/ppt/media/image24.gif" ContentType="image/gif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EA8A-1B48-4981-9FBC-7ED51B893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FED-CA0C-4D02-812A-462B3301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706-ADA0-4FD7-8F6F-DACD7B3F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286-6290-43A0-9928-46E40646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291-D60C-48BF-9F03-766169A3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44C-6AF6-4245-98ED-BB35E71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D53-DB30-4E55-B69A-EFCEDE39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CE0-8050-45FA-B2A1-3116C2E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048-801F-484B-8B8F-486F9AB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066-5D06-4263-885A-0C798C29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BD4-0E7D-4B4E-894F-BBEC279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F77-454F-499C-948B-7A62770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200-E42B-4410-A7A3-46E09C0D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BE731-6070-4572-A9E3-62911A0CE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Mistral%20Gagnan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099280" y="720720"/>
            <a:ext cx="107964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720720"/>
            <a:ext cx="90036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b80047"/>
                </a:solidFill>
                <a:latin typeface="Joker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31840" y="0"/>
            <a:ext cx="606924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  <p:sndAc>
      <p:stSnd>
        <p:snd r:embed="rId2" name="Mistral%20Gagnan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95480" y="0"/>
            <a:ext cx="5759280" cy="7604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828036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10080720" cy="665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576440" cy="1619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9280" y="360360"/>
            <a:ext cx="792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b80047"/>
                </a:solidFill>
                <a:latin typeface="Kristen ITC"/>
              </a:rPr>
              <a:t>SANS COM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19280"/>
            <a:ext cx="1008072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419640"/>
            <a:ext cx="10080720" cy="4140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34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00240" y="1263600"/>
            <a:ext cx="6000840" cy="4857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324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00720" y="3240000"/>
            <a:ext cx="5580000" cy="43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00" y="720720"/>
            <a:ext cx="755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9280"/>
            <a:ext cx="10080720" cy="5040360"/>
          </a:xfrm>
          <a:prstGeom prst="roundRect">
            <a:avLst>
              <a:gd name="adj" fmla="val 28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9640" y="36036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60720" y="2519280"/>
            <a:ext cx="36003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3:22:17Z</dcterms:created>
  <dc:creator/>
  <dc:description/>
  <dc:language>en-US</dc:language>
  <cp:lastModifiedBy/>
  <dcterms:modified xsi:type="dcterms:W3CDTF">2010-05-07T17:38:27Z</dcterms:modified>
  <cp:revision>25</cp:revision>
  <dc:subject/>
  <dc:title/>
</cp:coreProperties>
</file>