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29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88C-ECBD-461F-83E4-F14AACCB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23A-78BB-4A99-B24C-0E3745BA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C91-6388-42DB-8C97-8CC6D496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821-9B99-4F5C-B9A3-405DA5EB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F67-CFBA-4CBE-8F57-B08301E7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5BC-734C-40CD-84E8-ADC3F100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061-9423-4031-A0F8-9F1C2C6C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588-6E6D-49CF-8490-EC650E79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6EF-0767-433E-ABBD-DACE00B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8CD7-3DEB-49B5-BC05-DC01256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F77-3BD8-40C8-AF94-AF7D33A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BA5-6899-4A4C-A4F5-2B19534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AC67-A34A-46AA-B9DE-4D0416A96F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29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28880" y="1989000"/>
            <a:ext cx="7086600" cy="288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Zeg het met bloeme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80609klaprooskn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755640" y="537372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0000"/>
                </a:solidFill>
                <a:latin typeface="Harrington"/>
              </a:rPr>
              <a:t>Zonder een rijk 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0000"/>
                </a:solidFill>
                <a:latin typeface="Harrington"/>
              </a:rPr>
              <a:t>heeft weelde geen waa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m-00000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4211640" y="4005360"/>
            <a:ext cx="493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Zoals één zonnest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een bloem doet openg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kan een vriendelijk w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00"/>
                </a:solidFill>
                <a:latin typeface="Harrington"/>
              </a:rPr>
              <a:t>een gezicht doen stra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m-pic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9"/>
          <p:cNvSpPr/>
          <p:nvPr/>
        </p:nvSpPr>
        <p:spPr>
          <a:xfrm>
            <a:off x="4932360" y="4292640"/>
            <a:ext cx="4103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Het hoeft geen groot boeket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één bloem is evenv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-00000045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324000" y="5445000"/>
            <a:ext cx="611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cc00"/>
                </a:solidFill>
                <a:latin typeface="Harrington"/>
              </a:rPr>
              <a:t>Een schouderklopje hee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cc00"/>
                </a:solidFill>
                <a:latin typeface="Harrington"/>
              </a:rPr>
              <a:t>nog nooit iemand verw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img_17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179280" y="494172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Harrington"/>
              </a:rPr>
              <a:t>Een blik,een woord een stille w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cc"/>
                </a:solidFill>
                <a:latin typeface="Harrington"/>
              </a:rPr>
              <a:t>elkaar zo kennen is een gesch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p12601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684360" y="5157720"/>
            <a:ext cx="54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0066"/>
                </a:solidFill>
                <a:latin typeface="Harrington"/>
              </a:rPr>
              <a:t>In elk teder gebaar vo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0066"/>
                </a:solidFill>
                <a:latin typeface="Harrington"/>
              </a:rPr>
              <a:t>ik de harte klop van de lief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bloemen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5508720" y="3573360"/>
            <a:ext cx="3635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Een echte vriend is i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die vooruit stapt,wanneer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rest van de wereld je verl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newflowers-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4859280" y="551664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66ff"/>
                </a:solidFill>
                <a:latin typeface="Harrington"/>
              </a:rPr>
              <a:t>Kijk naar de bloemen en ze gaan blo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loemen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851280" y="4508640"/>
            <a:ext cx="5292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Alles wat je zegt dient waar te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maar….niet alles wat waar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Harrington"/>
              </a:rPr>
              <a:t>dient gezegt te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flowers2-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395280" y="508464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3300"/>
                </a:solidFill>
                <a:latin typeface="Harrington"/>
              </a:rPr>
              <a:t>Dankbaarheid is een mooie bl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993300"/>
                </a:solidFill>
                <a:latin typeface="Harrington"/>
              </a:rPr>
              <a:t>maar ze bloeit in weinig tu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080909stokro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5580000" y="4365720"/>
            <a:ext cx="33130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De mooiste bl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ontluiken disc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ccff"/>
                </a:solidFill>
                <a:latin typeface="Harrington"/>
              </a:rPr>
              <a:t>in de schad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flowers2-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50920" y="530064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Harrington"/>
              </a:rPr>
              <a:t>"Een mens is pas gelukkig wanneer hij het geluk zelf wil en uitdenkt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12 (2) [640x480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kstvak 2"/>
          <p:cNvSpPr/>
          <p:nvPr/>
        </p:nvSpPr>
        <p:spPr>
          <a:xfrm>
            <a:off x="6357960" y="521496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Garamond Pro Bold"/>
              </a:rPr>
              <a:t>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160409bosanemoon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900000" y="4797360"/>
            <a:ext cx="79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9999"/>
                </a:solidFill>
                <a:latin typeface="Harrington"/>
              </a:rPr>
              <a:t>Een vriend is als prikkel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9999"/>
                </a:solidFill>
                <a:latin typeface="Harrington"/>
              </a:rPr>
              <a:t>één maal je eraan gehecht b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9999"/>
                </a:solidFill>
                <a:latin typeface="Harrington"/>
              </a:rPr>
              <a:t>raak je er moeilijk van 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70309katj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4859280" y="4797360"/>
            <a:ext cx="46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2b2b2"/>
                </a:solidFill>
                <a:latin typeface="Harrington"/>
              </a:rPr>
              <a:t>Het grootste gesche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2b2b2"/>
                </a:solidFill>
                <a:latin typeface="Harrington"/>
              </a:rPr>
              <a:t>dat je iemand kan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2b2b2"/>
                </a:solidFill>
                <a:latin typeface="Harrington"/>
              </a:rPr>
              <a:t>is oprechte aand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70409bosgeels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5076720" y="414972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Alles is zov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sneller geh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als het met lief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99"/>
                </a:solidFill>
                <a:latin typeface="Harrington"/>
              </a:rPr>
              <a:t>wordt gestre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00609lieveheersbeest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067280" y="5516640"/>
            <a:ext cx="50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Het kleinste wordt g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als je het met liefde do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81109robertskruid_filter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5508720" y="3645000"/>
            <a:ext cx="3311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33"/>
                </a:solidFill>
                <a:latin typeface="Harrington"/>
              </a:rPr>
              <a:t>Er zijn twee soorte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33"/>
                </a:solidFill>
                <a:latin typeface="Harrington"/>
              </a:rPr>
              <a:t>de ene kan je k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33"/>
                </a:solidFill>
                <a:latin typeface="Harrington"/>
              </a:rPr>
              <a:t>de andere zijn onbetaa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20909esdoornblaadj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763640" y="4797360"/>
            <a:ext cx="511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cc00"/>
                </a:solidFill>
                <a:latin typeface="Harrington"/>
              </a:rPr>
              <a:t>Mensen hebben twee we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cc00"/>
                </a:solidFill>
                <a:latin typeface="Harrington"/>
              </a:rPr>
              <a:t>oud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cccc00"/>
                </a:solidFill>
                <a:latin typeface="Harrington"/>
              </a:rPr>
              <a:t>maar jong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10409maartsviooltj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4221000"/>
            <a:ext cx="558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Tevreden zijn met w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men heef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is de grootste en zeker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6600cc"/>
                </a:solidFill>
                <a:latin typeface="Harrington"/>
              </a:rPr>
              <a:t>rijk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52:53Z</dcterms:created>
  <dc:creator>Jan</dc:creator>
  <dc:description/>
  <dc:language>en-US</dc:language>
  <cp:lastModifiedBy>Rina</cp:lastModifiedBy>
  <dcterms:modified xsi:type="dcterms:W3CDTF">2010-02-11T21:57:25Z</dcterms:modified>
  <cp:revision>14</cp:revision>
  <dc:subject/>
  <dc:title>Dia 1</dc:title>
</cp:coreProperties>
</file>