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9.gif" ContentType="image/gif"/>
  <Override PartName="/ppt/media/image11.jpeg" ContentType="image/jpeg"/>
  <Override PartName="/ppt/media/image8.png" ContentType="image/png"/>
  <Override PartName="/ppt/media/image14.jpeg" ContentType="image/jpeg"/>
  <Override PartName="/ppt/media/image18.jpeg" ContentType="image/jpeg"/>
  <Override PartName="/ppt/media/Ricky%20King%20-%20Eleni%20(instrumentaal).wav" ContentType="audio/x-wav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13.jpeg" ContentType="image/jpeg"/>
  <Override PartName="/ppt/media/image1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gif" ContentType="image/gif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8F92-2FB3-4587-B2B3-1A2D4829A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91BD-4FC5-4C06-A56D-AE523FED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C685-F65D-4E72-8C6A-447A71D15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F68D-7E81-408B-B1D9-D30067E98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EE37-F9BB-47E4-A4BC-B7056715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69D2-27C1-46AD-AAB6-2EA87490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CA73-D5C1-474B-926B-03CFAC2A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5592-4588-4D05-BEF6-A8C75D4C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AF6E-5A01-47D2-A788-088E6B2D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1E16-ADE0-41B7-A5CC-BD171FD4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1DAA-6494-42BF-862A-B43CE11F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76B0-6148-47D7-931D-D992E7AA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F3D1-2498-4161-B7F6-665FE932C20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icky%20King%20-%20Eleni%20(instrumentaal)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marjoleinvanhetplein.web-log.nl/.shared/image.html?/photos/uncategorized/2009/03/29/geluk_binnen_a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yn001_original_870_655_pjpeg_2529177_974450dcb6330ca71ec9053d78bdfc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4284720" y="549360"/>
            <a:ext cx="4562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lfredo's Dance"/>
              </a:rPr>
              <a:t>Een doel om te berei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lfredo's Dance"/>
              </a:rPr>
              <a:t>een hindernis om te overwi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lfredo's Dance"/>
              </a:rPr>
              <a:t>een doel om te n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lfredo's Dance"/>
              </a:rPr>
              <a:t>een weg om in te sl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lfredo's Dance"/>
              </a:rPr>
              <a:t>het leven om voor te ga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780120" y="5299200"/>
            <a:ext cx="763776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lfredo's Dance"/>
              </a:rPr>
              <a:t>Het kleinste bloempje met een warm hart gegeve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lfredo's Dance"/>
              </a:rPr>
              <a:t>vertelt een mooi verhaal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nl-NL" sz="10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dyn002_original_586_171_gif_2529177_94beb2c67762dd7f717aa31e7e4abdcd"/>
          <p:cNvPicPr/>
          <p:nvPr/>
        </p:nvPicPr>
        <p:blipFill>
          <a:blip r:embed="rId1"/>
          <a:stretch/>
        </p:blipFill>
        <p:spPr>
          <a:xfrm rot="1540800">
            <a:off x="1649520" y="2342880"/>
            <a:ext cx="5581440" cy="1628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dyn002_original_586_171_gif_2529177_94beb2c67762dd7f717aa31e7e4abdcd"/>
          <p:cNvPicPr/>
          <p:nvPr/>
        </p:nvPicPr>
        <p:blipFill>
          <a:blip r:embed="rId2"/>
          <a:stretch/>
        </p:blipFill>
        <p:spPr>
          <a:xfrm rot="19834800">
            <a:off x="968400" y="2050920"/>
            <a:ext cx="5581800" cy="16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4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892440" y="5452920"/>
            <a:ext cx="757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Een van de diepste geheimen van het l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is dat alles wat de moeite van het doen waard i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datgene is wat we voor anderen do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kinderen"/>
          <p:cNvPicPr/>
          <p:nvPr/>
        </p:nvPicPr>
        <p:blipFill>
          <a:blip r:embed="rId1"/>
          <a:stretch/>
        </p:blipFill>
        <p:spPr>
          <a:xfrm>
            <a:off x="1042920" y="189000"/>
            <a:ext cx="7620120" cy="513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0" dur="25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103,0)"/>
                                      </p:to>
                                    </p:set>
                                    <p:set>
                                      <p:cBhvr>
                                        <p:cTn id="91" dur="25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103,0)"/>
                                      </p:to>
                                    </p:set>
                                    <p:set>
                                      <p:cBhvr>
                                        <p:cTn id="92" dur="25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kind"/>
          <p:cNvPicPr/>
          <p:nvPr/>
        </p:nvPicPr>
        <p:blipFill>
          <a:blip r:embed="rId1"/>
          <a:stretch/>
        </p:blipFill>
        <p:spPr>
          <a:xfrm>
            <a:off x="900000" y="333360"/>
            <a:ext cx="5639040" cy="46720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4070880" y="5011200"/>
            <a:ext cx="4582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De blijheid van het l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is ons allemaal ge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't zit hem in de kleine d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die ons dagelijks omrin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695520" y="5046120"/>
            <a:ext cx="7151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Als we ons helemaal verlaten vo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en denken aan ons lot te zijn overgelat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worden wij toch gedra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Gedragen door de gouden draad vriendsch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Afbeelding 3" descr="slide0007_image007.jpg"/>
          <p:cNvPicPr/>
          <p:nvPr/>
        </p:nvPicPr>
        <p:blipFill>
          <a:blip r:embed="rId1"/>
          <a:stretch/>
        </p:blipFill>
        <p:spPr>
          <a:xfrm>
            <a:off x="1143000" y="214200"/>
            <a:ext cx="5643720" cy="478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6" dur="1" fill="hold"/>
                                  <p:tgtEl>
                                    <p:spTgt spid="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  <p:animClr clrSpc="rgb">
                                <p:cBhvr>
                                  <p:cTn id="117" dur="1" fill="hold"/>
                                  <p:tgtEl>
                                    <p:spTgt spid="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  <p:animClr clrSpc="rgb">
                                <p:cBhvr>
                                  <p:cTn id="118" dur="1" fill="hold"/>
                                  <p:tgtEl>
                                    <p:spTgt spid="6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  <p:animClr clrSpc="rgb">
                                <p:cBhvr>
                                  <p:cTn id="119" dur="1" fill="hold"/>
                                  <p:tgtEl>
                                    <p:spTgt spid="6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8" descr="Geluk_binnen_a">
            <a:hlinkClick r:id="rId1"/>
          </p:cNvPr>
          <p:cNvPicPr/>
          <p:nvPr/>
        </p:nvPicPr>
        <p:blipFill>
          <a:blip r:embed="rId2"/>
          <a:srcRect l="5140" t="8026" r="5480" b="11627"/>
          <a:stretch/>
        </p:blipFill>
        <p:spPr>
          <a:xfrm>
            <a:off x="826920" y="189000"/>
            <a:ext cx="7561440" cy="46972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9"/>
          <p:cNvSpPr/>
          <p:nvPr/>
        </p:nvSpPr>
        <p:spPr>
          <a:xfrm>
            <a:off x="395280" y="5084640"/>
            <a:ext cx="7993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lfredo's Dance"/>
              </a:rPr>
              <a:t>Geluk sluipt naar binn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lfredo's Dance"/>
              </a:rPr>
              <a:t>Langs een d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lfredo's Dance"/>
              </a:rPr>
              <a:t>Waarvan je niet wist dat je die opengelaten 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2250000" y="5046120"/>
            <a:ext cx="388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Wie een echt hart he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en zijn ogen openhoud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Ziet de mensen die 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nodig heb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kaars"/>
          <p:cNvPicPr/>
          <p:nvPr/>
        </p:nvPicPr>
        <p:blipFill>
          <a:blip r:embed="rId1"/>
          <a:stretch/>
        </p:blipFill>
        <p:spPr>
          <a:xfrm>
            <a:off x="1908000" y="1197000"/>
            <a:ext cx="4762800" cy="35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500" autoRev="1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135" dur="500" autoRev="1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136" dur="500" autoRev="1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knuffel"/>
          <p:cNvPicPr/>
          <p:nvPr/>
        </p:nvPicPr>
        <p:blipFill>
          <a:blip r:embed="rId1"/>
          <a:stretch/>
        </p:blipFill>
        <p:spPr>
          <a:xfrm>
            <a:off x="1071720" y="214200"/>
            <a:ext cx="6500520" cy="657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2700360" y="44370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Om gelukkig te zijn is het niet nodig om veel te bezitt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een " thuis "  vind je all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maar bij iemand waarin een hart voor jou klo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zee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326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dyn004_original_500_375_pjpeg_2529177_c8ea1f79d24da33537460586e3d8e1b5"/>
          <p:cNvPicPr/>
          <p:nvPr/>
        </p:nvPicPr>
        <p:blipFill>
          <a:blip r:embed="rId1"/>
          <a:stretch/>
        </p:blipFill>
        <p:spPr>
          <a:xfrm>
            <a:off x="0" y="0"/>
            <a:ext cx="9144000" cy="35719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684360" y="321300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In deze ogen staat het allemaal geschrev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het stralende blije en het hulpeloze geschre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Het zijn de achteruitkijkspiegels van een l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dat altijd schommelt tussen droevig zijn en bli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mm_deuren_1"/>
          <p:cNvPicPr/>
          <p:nvPr/>
        </p:nvPicPr>
        <p:blipFill>
          <a:blip r:embed="rId1"/>
          <a:stretch/>
        </p:blipFill>
        <p:spPr>
          <a:xfrm>
            <a:off x="0" y="0"/>
            <a:ext cx="9144000" cy="50529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933840" y="4758840"/>
            <a:ext cx="727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Wanneer een deur naar geluk sl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opent zich een andere deur naar gel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Maar het duurt even voordat we het z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omdat we zolang naar de gesloten deur sta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0" descr="j0437457[2]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9"/>
          <p:cNvSpPr/>
          <p:nvPr/>
        </p:nvSpPr>
        <p:spPr>
          <a:xfrm>
            <a:off x="379440" y="4147200"/>
            <a:ext cx="6348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lfredo's Dance"/>
              </a:rPr>
              <a:t>Geluk is een zeldzame vogel,</a:t>
            </a:r>
            <a:br>
              <a:rPr sz="2400"/>
            </a:br>
            <a:r>
              <a:rPr b="1" i="1" lang="nl-NL" sz="2400" spc="-1" strike="noStrike">
                <a:solidFill>
                  <a:srgbClr val="000000"/>
                </a:solidFill>
                <a:latin typeface="Alfredo's Dance"/>
              </a:rPr>
              <a:t>die wegvliegt</a:t>
            </a:r>
            <a:br>
              <a:rPr sz="2400"/>
            </a:br>
            <a:r>
              <a:rPr b="1" i="1" lang="nl-NL" sz="2400" spc="-1" strike="noStrike">
                <a:solidFill>
                  <a:srgbClr val="000000"/>
                </a:solidFill>
                <a:latin typeface="Alfredo's Dance"/>
              </a:rPr>
              <a:t>wanneer we hem het hardst nodig hebben.</a:t>
            </a:r>
            <a:br>
              <a:rPr sz="2400"/>
            </a:br>
            <a:r>
              <a:rPr b="1" i="1" lang="nl-NL" sz="2400" spc="-1" strike="noStrike">
                <a:solidFill>
                  <a:srgbClr val="000000"/>
                </a:solidFill>
                <a:latin typeface="Alfredo's Dance"/>
              </a:rPr>
              <a:t>Maar misschien zit hij morgen</a:t>
            </a:r>
            <a:br>
              <a:rPr sz="2400"/>
            </a:br>
            <a:r>
              <a:rPr b="1" i="1" lang="nl-NL" sz="2400" spc="-1" strike="noStrike">
                <a:solidFill>
                  <a:srgbClr val="000000"/>
                </a:solidFill>
                <a:latin typeface="Alfredo's Dance"/>
              </a:rPr>
              <a:t>weer op de vensterbank !</a:t>
            </a: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00009833.gif"/>
          <p:cNvPicPr/>
          <p:nvPr/>
        </p:nvPicPr>
        <p:blipFill>
          <a:blip r:embed="rId2"/>
          <a:stretch/>
        </p:blipFill>
        <p:spPr>
          <a:xfrm>
            <a:off x="6735600" y="2349360"/>
            <a:ext cx="2408400" cy="421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755640" y="42210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Alle kinderen zijn kunstena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Het is een kunst om 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als volwassene een kunsten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te blij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luc_selen_k_50"/>
          <p:cNvPicPr/>
          <p:nvPr/>
        </p:nvPicPr>
        <p:blipFill>
          <a:blip r:embed="rId1"/>
          <a:stretch/>
        </p:blipFill>
        <p:spPr>
          <a:xfrm>
            <a:off x="2843280" y="476280"/>
            <a:ext cx="2676600" cy="379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226080" y="5515560"/>
            <a:ext cx="873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Een glimlach is als een regenboog, maar nog kleurrijker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dyn004_original_280_220_gif_2545020_4ff6c6f3032908cc54715b621d6b7c12"/>
          <p:cNvPicPr/>
          <p:nvPr/>
        </p:nvPicPr>
        <p:blipFill>
          <a:blip r:embed="rId1"/>
          <a:stretch/>
        </p:blipFill>
        <p:spPr>
          <a:xfrm>
            <a:off x="2987640" y="981000"/>
            <a:ext cx="5002200" cy="3930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dyn004_original_280_220_gif_2545020_4ff6c6f3032908cc54715b621d6b7c12"/>
          <p:cNvPicPr/>
          <p:nvPr/>
        </p:nvPicPr>
        <p:blipFill>
          <a:blip r:embed="rId2"/>
          <a:stretch/>
        </p:blipFill>
        <p:spPr>
          <a:xfrm>
            <a:off x="539640" y="907920"/>
            <a:ext cx="5002200" cy="3930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vogels8"/>
          <p:cNvPicPr/>
          <p:nvPr/>
        </p:nvPicPr>
        <p:blipFill>
          <a:blip r:embed="rId3"/>
          <a:stretch/>
        </p:blipFill>
        <p:spPr>
          <a:xfrm>
            <a:off x="8096400" y="476280"/>
            <a:ext cx="104760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8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8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2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75960" y="5804280"/>
            <a:ext cx="88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lfredo's Dance"/>
              </a:rPr>
              <a:t>Men kan beter met zijn voeten struikelen dan met zijn tong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voeten"/>
          <p:cNvPicPr/>
          <p:nvPr/>
        </p:nvPicPr>
        <p:blipFill>
          <a:blip r:embed="rId1"/>
          <a:stretch/>
        </p:blipFill>
        <p:spPr>
          <a:xfrm>
            <a:off x="0" y="0"/>
            <a:ext cx="9144000" cy="567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226080" y="5515200"/>
            <a:ext cx="873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"De tijd gaat voorbij "zeggen we, maar we vergissen 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de tijd blijft en wij zijn het, die voorbijga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wekker"/>
          <p:cNvPicPr/>
          <p:nvPr/>
        </p:nvPicPr>
        <p:blipFill>
          <a:blip r:embed="rId1"/>
          <a:stretch/>
        </p:blipFill>
        <p:spPr>
          <a:xfrm>
            <a:off x="0" y="0"/>
            <a:ext cx="9144000" cy="518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2500" autoRev="1" fill="hold"/>
                                        <p:tgtEl>
                                          <p:spTgt spid="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3:08:38Z</dcterms:created>
  <dc:creator>Patricia pauls</dc:creator>
  <dc:description/>
  <dc:language>en-US</dc:language>
  <cp:lastModifiedBy>Therese</cp:lastModifiedBy>
  <dcterms:modified xsi:type="dcterms:W3CDTF">2010-01-15T10:22:40Z</dcterms:modified>
  <cp:revision>8</cp:revision>
  <dc:subject/>
  <dc:title>Dia 1</dc:title>
</cp:coreProperties>
</file>