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Oscar_Harris__-_Song_For_The_Children.wav" ContentType="audio/x-wav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46A-AB96-443C-B41F-8070242CC459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639-D8F5-48BE-9596-CD0855BCC312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E31-1F0F-49F8-878A-4F0C02B9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F85-967E-4790-BE3A-56CCBF4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837-8499-49CF-B40C-4F6345B3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028-3FDA-4D93-A676-934485DE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4BE-2EE8-4AA5-BB00-570BE334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69B-14A5-429C-B412-780F13A5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672-9C4F-4BAA-81B3-8D01857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98B-C5A6-477A-8E1A-6464C0A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8B1-950B-4A5F-AF96-E09C02D5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A94-9C27-49F1-ADA6-9B040ED2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467-FA2B-4964-953D-5D8EF56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DEB-2382-4D2A-872F-C62054E6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0E19-FF4A-4A8A-B320-1838A3568972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Oscar_Harris__-_Song_For_The_Childre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4" descr="untitled42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Afbeelding 5" descr="4.jpg"/>
          <p:cNvPicPr/>
          <p:nvPr/>
        </p:nvPicPr>
        <p:blipFill>
          <a:blip r:embed="rId2"/>
          <a:stretch/>
        </p:blipFill>
        <p:spPr>
          <a:xfrm>
            <a:off x="1785960" y="1214280"/>
            <a:ext cx="6357960" cy="478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Rechthoek 6"/>
          <p:cNvSpPr/>
          <p:nvPr/>
        </p:nvSpPr>
        <p:spPr>
          <a:xfrm>
            <a:off x="1428840" y="1000080"/>
            <a:ext cx="7072200" cy="52866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7"/>
          <p:cNvSpPr/>
          <p:nvPr/>
        </p:nvSpPr>
        <p:spPr>
          <a:xfrm>
            <a:off x="2928960" y="214200"/>
            <a:ext cx="600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000000"/>
                </a:solidFill>
                <a:latin typeface="Bradley Hand ITC"/>
              </a:rPr>
              <a:t>KINDEREN ………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8"/>
          <p:cNvSpPr/>
          <p:nvPr/>
        </p:nvSpPr>
        <p:spPr>
          <a:xfrm>
            <a:off x="7072200" y="6286680"/>
            <a:ext cx="16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c00000"/>
                </a:solidFill>
                <a:latin typeface="Bradley Hand ITC"/>
              </a:rPr>
              <a:t>pps Miet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fbeelding 10" descr="Gordijn bruin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6" presetSubtype="37">
                                  <p:stCondLst>
                                    <p:cond delay="0"/>
                                  </p:stCondLst>
                                  <p:childTnLst>
                                    <p:animEffect filter="barn(outVertical)" transition="out">
                                      <p:cBhvr additive="repl">
                                        <p:cTn id="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2"/>
          <p:cNvSpPr/>
          <p:nvPr/>
        </p:nvSpPr>
        <p:spPr>
          <a:xfrm>
            <a:off x="500040" y="500040"/>
            <a:ext cx="80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Het geluk van een kind begint in het hart van de moe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kstvak 2"/>
          <p:cNvSpPr/>
          <p:nvPr/>
        </p:nvSpPr>
        <p:spPr>
          <a:xfrm>
            <a:off x="428760" y="5000760"/>
            <a:ext cx="47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Kinderen moeten altijd 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an het doen zijn, anders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de volwassenen ongerus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388400" y="5715000"/>
            <a:ext cx="44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De wijsheid der kindere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                       </a:t>
            </a:r>
            <a:r>
              <a:rPr b="0" lang="nl-BE" sz="2400" spc="-1" strike="noStrike">
                <a:solidFill>
                  <a:srgbClr val="632523"/>
                </a:solidFill>
                <a:latin typeface="Garamond"/>
              </a:rPr>
              <a:t>hun vrolijkhei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kstvak 2"/>
          <p:cNvSpPr/>
          <p:nvPr/>
        </p:nvSpPr>
        <p:spPr>
          <a:xfrm>
            <a:off x="1500120" y="214200"/>
            <a:ext cx="46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c00000"/>
                </a:solidFill>
                <a:latin typeface="Kokila"/>
                <a:ea typeface="Kokila"/>
              </a:rPr>
              <a:t> </a:t>
            </a: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Wat een kind op straat zeg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kstvak 3"/>
          <p:cNvSpPr/>
          <p:nvPr/>
        </p:nvSpPr>
        <p:spPr>
          <a:xfrm>
            <a:off x="3929040" y="62150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zeggen de ouders th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hthoek 2"/>
          <p:cNvSpPr/>
          <p:nvPr/>
        </p:nvSpPr>
        <p:spPr>
          <a:xfrm>
            <a:off x="285840" y="285840"/>
            <a:ext cx="8501040" cy="6286320"/>
          </a:xfrm>
          <a:prstGeom prst="rect">
            <a:avLst/>
          </a:prstGeom>
          <a:noFill/>
          <a:ln w="25560">
            <a:solidFill>
              <a:srgbClr val="824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vak 3"/>
          <p:cNvSpPr/>
          <p:nvPr/>
        </p:nvSpPr>
        <p:spPr>
          <a:xfrm>
            <a:off x="642960" y="57168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db1e9"/>
                </a:solidFill>
                <a:latin typeface="Garamond"/>
                <a:ea typeface="Kokila"/>
              </a:rPr>
              <a:t>Ieder kind is een kunstenaar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4"/>
          <p:cNvSpPr/>
          <p:nvPr/>
        </p:nvSpPr>
        <p:spPr>
          <a:xfrm>
            <a:off x="571680" y="6000840"/>
            <a:ext cx="8215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db1e9"/>
                </a:solidFill>
                <a:latin typeface="Garamond"/>
                <a:ea typeface="Kokila"/>
              </a:rPr>
              <a:t>…</a:t>
            </a:r>
            <a:r>
              <a:rPr b="0" lang="nl-BE" sz="3200" spc="-1" strike="noStrike">
                <a:solidFill>
                  <a:srgbClr val="fdb1e9"/>
                </a:solidFill>
                <a:latin typeface="Garamond"/>
                <a:ea typeface="Kokila"/>
              </a:rPr>
              <a:t>. </a:t>
            </a:r>
            <a:r>
              <a:rPr b="0" lang="nl-BE" sz="2800" spc="-1" strike="noStrike">
                <a:solidFill>
                  <a:srgbClr val="fdb1e9"/>
                </a:solidFill>
                <a:latin typeface="Garamond"/>
                <a:ea typeface="Kokila"/>
              </a:rPr>
              <a:t>de moeilijkheid is er een te blijven als je groot word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kstvak 2"/>
          <p:cNvSpPr/>
          <p:nvPr/>
        </p:nvSpPr>
        <p:spPr>
          <a:xfrm>
            <a:off x="395280" y="5857920"/>
            <a:ext cx="87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ls je kind gezond is heb je 1000 wens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als het ziek is heb je er nog éé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1000080" y="621504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f6228"/>
                </a:solidFill>
                <a:latin typeface="Garamond"/>
                <a:ea typeface="Kokila"/>
              </a:rPr>
              <a:t>Een kind zonder moeder is een bloem zonder re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hthoek 2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3"/>
          <p:cNvSpPr/>
          <p:nvPr/>
        </p:nvSpPr>
        <p:spPr>
          <a:xfrm>
            <a:off x="500040" y="5716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r is slechts één lief kind in de ganse wereld 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4"/>
          <p:cNvSpPr/>
          <p:nvPr/>
        </p:nvSpPr>
        <p:spPr>
          <a:xfrm>
            <a:off x="2057760" y="5929200"/>
            <a:ext cx="75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n elke moeder bezit dat ene kind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fbeelding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kstvak 2"/>
          <p:cNvSpPr/>
          <p:nvPr/>
        </p:nvSpPr>
        <p:spPr>
          <a:xfrm>
            <a:off x="5715000" y="4786200"/>
            <a:ext cx="34830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Het beste wat een mo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aan haar kinderen kan g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ffffcc"/>
                </a:solidFill>
                <a:latin typeface="Garamond"/>
                <a:ea typeface="Kokila"/>
              </a:rPr>
              <a:t>is het geschenk van haar tijd </a:t>
            </a:r>
            <a:r>
              <a:rPr b="1" i="1" lang="nl-BE" sz="2400" spc="-1" strike="noStrike">
                <a:solidFill>
                  <a:srgbClr val="ffffcc"/>
                </a:solidFill>
                <a:latin typeface="Kokila"/>
                <a:ea typeface="Kokil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Afbeelding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kstvak 2"/>
          <p:cNvSpPr/>
          <p:nvPr/>
        </p:nvSpPr>
        <p:spPr>
          <a:xfrm>
            <a:off x="714240" y="6143760"/>
            <a:ext cx="80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Het leven van de ouders is het boek waarin de kinderen le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3"/>
          <p:cNvSpPr/>
          <p:nvPr/>
        </p:nvSpPr>
        <p:spPr>
          <a:xfrm>
            <a:off x="285840" y="571500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Er zijn meer volwassenen bang in het licht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                                       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</a:rPr>
              <a:t>kinderen in het donker .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kstvak 2"/>
          <p:cNvSpPr/>
          <p:nvPr/>
        </p:nvSpPr>
        <p:spPr>
          <a:xfrm>
            <a:off x="1143000" y="6286680"/>
            <a:ext cx="72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2035"/>
                </a:solidFill>
                <a:latin typeface="Garamond"/>
                <a:ea typeface="Kokila"/>
              </a:rPr>
              <a:t>Als je je kinderen wilt houden, kan je hen beter laten gaa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Afbeelding 1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kstvak 2"/>
          <p:cNvSpPr/>
          <p:nvPr/>
        </p:nvSpPr>
        <p:spPr>
          <a:xfrm>
            <a:off x="642960" y="6072120"/>
            <a:ext cx="854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Garamond"/>
                <a:ea typeface="Kokila"/>
              </a:rPr>
              <a:t>    </a:t>
            </a:r>
            <a:r>
              <a:rPr b="0" lang="nl-BE" sz="2000" spc="-1" strike="noStrike">
                <a:solidFill>
                  <a:srgbClr val="000000"/>
                </a:solidFill>
                <a:latin typeface="Garamond"/>
                <a:ea typeface="Kokila"/>
              </a:rPr>
              <a:t>Ieder kind wil boodschappen doen, als je het maar rond bedtijd vraa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2"/>
          <p:cNvSpPr/>
          <p:nvPr/>
        </p:nvSpPr>
        <p:spPr>
          <a:xfrm>
            <a:off x="5857920" y="4643280"/>
            <a:ext cx="36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Lieve mensen houde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                            </a:t>
            </a: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kind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Kinderen houden van l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                                </a:t>
            </a:r>
            <a:r>
              <a:rPr b="0" lang="nl-BE" sz="2000" spc="-1" strike="noStrike">
                <a:solidFill>
                  <a:srgbClr val="4f6228"/>
                </a:solidFill>
                <a:latin typeface="Garamond"/>
                <a:ea typeface="Kokila"/>
              </a:rPr>
              <a:t>mens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2"/>
          <p:cNvSpPr/>
          <p:nvPr/>
        </p:nvSpPr>
        <p:spPr>
          <a:xfrm>
            <a:off x="1357200" y="607212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Kinderen zijn het knoopgat dat de ouders samenhoudt </a:t>
            </a:r>
            <a:r>
              <a:rPr b="1" i="1" lang="nl-BE" sz="2800" spc="-1" strike="noStrike">
                <a:solidFill>
                  <a:srgbClr val="4f6228"/>
                </a:solidFill>
                <a:latin typeface="Kokila"/>
                <a:ea typeface="Kokil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Di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142920" y="6215040"/>
            <a:ext cx="87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Kinderen moeten soms heel veel geduld hebben met hun 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1" descr="Di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2"/>
          <p:cNvSpPr/>
          <p:nvPr/>
        </p:nvSpPr>
        <p:spPr>
          <a:xfrm>
            <a:off x="1357200" y="6143760"/>
            <a:ext cx="621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d0d0d"/>
                </a:solidFill>
                <a:latin typeface="Kokila"/>
                <a:ea typeface="Kokila"/>
              </a:rPr>
              <a:t>      </a:t>
            </a:r>
            <a:r>
              <a:rPr b="0" lang="nl-BE" sz="2400" spc="-1" strike="noStrike">
                <a:solidFill>
                  <a:srgbClr val="824074"/>
                </a:solidFill>
                <a:latin typeface="Garamond"/>
                <a:ea typeface="Kokila"/>
              </a:rPr>
              <a:t>Een huis vol kinderen is een korf vol eier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fbeelding 1" descr="Dia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kstvak 2"/>
          <p:cNvSpPr/>
          <p:nvPr/>
        </p:nvSpPr>
        <p:spPr>
          <a:xfrm>
            <a:off x="571680" y="500040"/>
            <a:ext cx="83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Wat kinderen wordt aangedaan, zullen zij de samenleving aando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fbeelding 1" descr="Dia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kstvak 2"/>
          <p:cNvSpPr/>
          <p:nvPr/>
        </p:nvSpPr>
        <p:spPr>
          <a:xfrm>
            <a:off x="857160" y="621504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4f6228"/>
                </a:solidFill>
                <a:latin typeface="Garamond"/>
                <a:ea typeface="Kokila"/>
              </a:rPr>
              <a:t>Het zwarte en het blanke kind hebben allebei rood blo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2"/>
          <p:cNvSpPr/>
          <p:nvPr/>
        </p:nvSpPr>
        <p:spPr>
          <a:xfrm>
            <a:off x="3643200" y="6215040"/>
            <a:ext cx="59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Een kind morst nooit op een vuile vlo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fbeelding 1" descr="Dia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2"/>
          <p:cNvSpPr/>
          <p:nvPr/>
        </p:nvSpPr>
        <p:spPr>
          <a:xfrm>
            <a:off x="1143000" y="5786280"/>
            <a:ext cx="62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Vrede is een kind dat glimlacht als je ernaar kijk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kstvak 2"/>
          <p:cNvSpPr/>
          <p:nvPr/>
        </p:nvSpPr>
        <p:spPr>
          <a:xfrm>
            <a:off x="428760" y="59292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Voor God moet men buigen omdat Hij zo groot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                                               </a:t>
            </a:r>
            <a:r>
              <a:rPr b="0" lang="nl-BE" sz="2400" spc="-1" strike="noStrike">
                <a:solidFill>
                  <a:srgbClr val="17375e"/>
                </a:solidFill>
                <a:latin typeface="Garamond"/>
                <a:ea typeface="Kokila"/>
              </a:rPr>
              <a:t>voor een kind omdat het zo klein i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2"/>
          <p:cNvSpPr/>
          <p:nvPr/>
        </p:nvSpPr>
        <p:spPr>
          <a:xfrm>
            <a:off x="182880" y="5786280"/>
            <a:ext cx="61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Er is geen kind zo lief of zijn mo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is blij dat het slaap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Afbeelding 1" descr="Dia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kstvak 2"/>
          <p:cNvSpPr/>
          <p:nvPr/>
        </p:nvSpPr>
        <p:spPr>
          <a:xfrm>
            <a:off x="785880" y="1785960"/>
            <a:ext cx="310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ffcc"/>
                </a:solidFill>
                <a:latin typeface="Garamond"/>
                <a:ea typeface="Kokila"/>
              </a:rPr>
              <a:t>Eind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kstvak 3"/>
          <p:cNvSpPr/>
          <p:nvPr/>
        </p:nvSpPr>
        <p:spPr>
          <a:xfrm>
            <a:off x="6215040" y="642924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02035"/>
                </a:solidFill>
                <a:latin typeface="Garamond"/>
                <a:ea typeface="Kokila"/>
              </a:rPr>
              <a:t>Mietje 01/06/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Di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6357960" y="5429160"/>
            <a:ext cx="257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Het hart blij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         </a:t>
            </a:r>
            <a:r>
              <a:rPr b="0" lang="nl-BE" sz="2800" spc="-1" strike="noStrike">
                <a:solidFill>
                  <a:srgbClr val="17375e"/>
                </a:solidFill>
                <a:latin typeface="Garamond"/>
                <a:ea typeface="Kokila"/>
              </a:rPr>
              <a:t>altijd ki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Di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kstvak 2"/>
          <p:cNvSpPr/>
          <p:nvPr/>
        </p:nvSpPr>
        <p:spPr>
          <a:xfrm>
            <a:off x="785880" y="5716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ffffcc"/>
                </a:solidFill>
                <a:latin typeface="Kokila"/>
                <a:ea typeface="Kokila"/>
              </a:rPr>
              <a:t>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Volwassenen zijn de stenen, kinderen het 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kstvak 2"/>
          <p:cNvSpPr/>
          <p:nvPr/>
        </p:nvSpPr>
        <p:spPr>
          <a:xfrm>
            <a:off x="214200" y="5857920"/>
            <a:ext cx="907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Wanneer je je jeugd aflegt ,moet je het kind zijn niet verliezen.</a:t>
            </a:r>
            <a:r>
              <a:rPr b="0" i="1" lang="nl-BE" sz="3200" spc="-1" strike="noStrike">
                <a:solidFill>
                  <a:srgbClr val="ffffcc"/>
                </a:solidFill>
                <a:latin typeface="Kokila"/>
                <a:ea typeface="Kokil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kstvak 2"/>
          <p:cNvSpPr/>
          <p:nvPr/>
        </p:nvSpPr>
        <p:spPr>
          <a:xfrm>
            <a:off x="642960" y="5500800"/>
            <a:ext cx="8231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rfelijkheid: datgene waarin men gelooft wanneer  m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                    </a:t>
            </a:r>
            <a:r>
              <a:rPr b="0" lang="nl-BE" sz="2800" spc="-1" strike="noStrike">
                <a:solidFill>
                  <a:srgbClr val="ffffcc"/>
                </a:solidFill>
                <a:latin typeface="Garamond"/>
                <a:ea typeface="Kokila"/>
              </a:rPr>
              <a:t>een intelligent kind heef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2"/>
          <p:cNvSpPr/>
          <p:nvPr/>
        </p:nvSpPr>
        <p:spPr>
          <a:xfrm>
            <a:off x="4592160" y="5429160"/>
            <a:ext cx="49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De kinderen van vand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    </a:t>
            </a:r>
            <a:r>
              <a:rPr b="0" lang="nl-BE" sz="2800" spc="-1" strike="noStrike">
                <a:solidFill>
                  <a:srgbClr val="632523"/>
                </a:solidFill>
                <a:latin typeface="Garamond"/>
                <a:ea typeface="Kokila"/>
              </a:rPr>
              <a:t>zijn ook niet van giste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kstvak 2"/>
          <p:cNvSpPr/>
          <p:nvPr/>
        </p:nvSpPr>
        <p:spPr>
          <a:xfrm>
            <a:off x="428760" y="500076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Van kinderen houden betek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op de eerste plaats dat je ni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                              </a:t>
            </a:r>
            <a:r>
              <a:rPr b="0" lang="nl-BE" sz="2400" spc="-1" strike="noStrike">
                <a:solidFill>
                  <a:srgbClr val="ffffcc"/>
                </a:solidFill>
                <a:latin typeface="Garamond"/>
                <a:ea typeface="Kokila"/>
              </a:rPr>
              <a:t>terug verlang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3"/>
          <p:cNvSpPr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16:35:45Z</dcterms:created>
  <dc:creator>Mietje</dc:creator>
  <dc:description/>
  <dc:language>en-US</dc:language>
  <cp:lastModifiedBy>Mietje</cp:lastModifiedBy>
  <dcterms:modified xsi:type="dcterms:W3CDTF">2010-06-02T19:24:02Z</dcterms:modified>
  <cp:revision>30</cp:revision>
  <dc:subject/>
  <dc:title>Dia 1</dc:title>
</cp:coreProperties>
</file>