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Oscar_Harris__-_Song_For_The_Children.wav" ContentType="audio/x-wav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23F-349B-4D1D-8EF6-F48B5E728F9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D6B-80A6-4FB4-906E-7E48D511CEAF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8B5-62D5-4F2D-ADFE-3C22633F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4D7-5232-4E2C-8CB7-016FE38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546-A896-47F0-81BB-8FA32FCF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EC7-EA97-406D-98CD-155A0A7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C94-CD84-4B47-8662-892D609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853-E7FC-46FD-BDAB-B2FEEBFB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EDA-E828-416D-9FDF-5E0F3A01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B97-4C0F-4463-AE5D-9733371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A99-E853-4654-8FA1-FABC6AB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693-8A46-47B2-ADD0-5838364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8C2-02D4-4C5E-8098-F8143A8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3A3-9AD2-4FA4-BD0B-0DEA753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1C0-B369-4C07-AC68-01FC72BEA02B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Oscar_Harris__-_Song_For_The_Childre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4" descr="untitled42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Afbeelding 5" descr="4.jpg"/>
          <p:cNvPicPr/>
          <p:nvPr/>
        </p:nvPicPr>
        <p:blipFill>
          <a:blip r:embed="rId2"/>
          <a:stretch/>
        </p:blipFill>
        <p:spPr>
          <a:xfrm>
            <a:off x="1785960" y="1214280"/>
            <a:ext cx="6357960" cy="478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Rechthoek 6"/>
          <p:cNvSpPr/>
          <p:nvPr/>
        </p:nvSpPr>
        <p:spPr>
          <a:xfrm>
            <a:off x="1428840" y="1000080"/>
            <a:ext cx="7072200" cy="5286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7"/>
          <p:cNvSpPr/>
          <p:nvPr/>
        </p:nvSpPr>
        <p:spPr>
          <a:xfrm>
            <a:off x="2928960" y="21420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000000"/>
                </a:solidFill>
                <a:latin typeface="Bradley Hand ITC"/>
              </a:rPr>
              <a:t>KINDEREN ……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8"/>
          <p:cNvSpPr/>
          <p:nvPr/>
        </p:nvSpPr>
        <p:spPr>
          <a:xfrm>
            <a:off x="7072200" y="6286680"/>
            <a:ext cx="16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c00000"/>
                </a:solidFill>
                <a:latin typeface="Bradley Hand ITC"/>
              </a:rPr>
              <a:t>pps Mi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fbeelding 10" descr="Gordijn brui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2"/>
          <p:cNvSpPr/>
          <p:nvPr/>
        </p:nvSpPr>
        <p:spPr>
          <a:xfrm>
            <a:off x="500040" y="500040"/>
            <a:ext cx="80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Het geluk van een kind begint in het hart van de mo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kstvak 2"/>
          <p:cNvSpPr/>
          <p:nvPr/>
        </p:nvSpPr>
        <p:spPr>
          <a:xfrm>
            <a:off x="428760" y="5000760"/>
            <a:ext cx="47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Kinderen moeten altijd 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an het doen zijn, anders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de volwassenen ongeru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388400" y="5715000"/>
            <a:ext cx="44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De wijsheid der kindere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                       </a:t>
            </a: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hun vrolijkhei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kstvak 2"/>
          <p:cNvSpPr/>
          <p:nvPr/>
        </p:nvSpPr>
        <p:spPr>
          <a:xfrm>
            <a:off x="1500120" y="214200"/>
            <a:ext cx="46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c00000"/>
                </a:solidFill>
                <a:latin typeface="Kokila"/>
                <a:ea typeface="Kokila"/>
              </a:rPr>
              <a:t> </a:t>
            </a: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Wat een kind op straat zeg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3"/>
          <p:cNvSpPr/>
          <p:nvPr/>
        </p:nvSpPr>
        <p:spPr>
          <a:xfrm>
            <a:off x="3929040" y="62150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zeggen de ouders th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hthoek 2"/>
          <p:cNvSpPr/>
          <p:nvPr/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25560">
            <a:solidFill>
              <a:srgbClr val="824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vak 3"/>
          <p:cNvSpPr/>
          <p:nvPr/>
        </p:nvSpPr>
        <p:spPr>
          <a:xfrm>
            <a:off x="642960" y="5716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db1e9"/>
                </a:solidFill>
                <a:latin typeface="Garamond"/>
                <a:ea typeface="Kokila"/>
              </a:rPr>
              <a:t>Ieder kind is een kunstenaar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4"/>
          <p:cNvSpPr/>
          <p:nvPr/>
        </p:nvSpPr>
        <p:spPr>
          <a:xfrm>
            <a:off x="571680" y="6000840"/>
            <a:ext cx="82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db1e9"/>
                </a:solidFill>
                <a:latin typeface="Garamond"/>
                <a:ea typeface="Kokila"/>
              </a:rPr>
              <a:t>…</a:t>
            </a:r>
            <a:r>
              <a:rPr b="0" lang="nl-BE" sz="3200" spc="-1" strike="noStrike">
                <a:solidFill>
                  <a:srgbClr val="fdb1e9"/>
                </a:solidFill>
                <a:latin typeface="Garamond"/>
                <a:ea typeface="Kokila"/>
              </a:rPr>
              <a:t>. </a:t>
            </a:r>
            <a:r>
              <a:rPr b="0" lang="nl-BE" sz="2800" spc="-1" strike="noStrike">
                <a:solidFill>
                  <a:srgbClr val="fdb1e9"/>
                </a:solidFill>
                <a:latin typeface="Garamond"/>
                <a:ea typeface="Kokila"/>
              </a:rPr>
              <a:t>de moeilijkheid is er een te blijven als je groot word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kstvak 2"/>
          <p:cNvSpPr/>
          <p:nvPr/>
        </p:nvSpPr>
        <p:spPr>
          <a:xfrm>
            <a:off x="395280" y="5857920"/>
            <a:ext cx="87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ls je kind gezond is heb je 1000 wens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ls het ziek is heb je er nog éé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1000080" y="621504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f6228"/>
                </a:solidFill>
                <a:latin typeface="Garamond"/>
                <a:ea typeface="Kokila"/>
              </a:rPr>
              <a:t>Een kind zonder moeder is een bloem zonder r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hthoek 2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3"/>
          <p:cNvSpPr/>
          <p:nvPr/>
        </p:nvSpPr>
        <p:spPr>
          <a:xfrm>
            <a:off x="50004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r is slechts één lief kind in de ganse wereld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4"/>
          <p:cNvSpPr/>
          <p:nvPr/>
        </p:nvSpPr>
        <p:spPr>
          <a:xfrm>
            <a:off x="2057760" y="5929200"/>
            <a:ext cx="75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n elke moeder bezit dat ene kin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fbeelding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kstvak 2"/>
          <p:cNvSpPr/>
          <p:nvPr/>
        </p:nvSpPr>
        <p:spPr>
          <a:xfrm>
            <a:off x="5715000" y="4786200"/>
            <a:ext cx="3483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Het beste wat een mo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aan haar kinderen kan g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is het geschenk van haar tijd </a:t>
            </a:r>
            <a:r>
              <a:rPr b="1" i="1" lang="nl-BE" sz="2400" spc="-1" strike="noStrike">
                <a:solidFill>
                  <a:srgbClr val="ffffcc"/>
                </a:solidFill>
                <a:latin typeface="Kokila"/>
                <a:ea typeface="Kokil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fbeelding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kstvak 2"/>
          <p:cNvSpPr/>
          <p:nvPr/>
        </p:nvSpPr>
        <p:spPr>
          <a:xfrm>
            <a:off x="714240" y="614376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Het leven van de ouders is het boek waarin de kinderen le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3"/>
          <p:cNvSpPr/>
          <p:nvPr/>
        </p:nvSpPr>
        <p:spPr>
          <a:xfrm>
            <a:off x="285840" y="571500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Er zijn meer volwassenen bang in het licht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                                       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kinderen in het donker .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kstvak 2"/>
          <p:cNvSpPr/>
          <p:nvPr/>
        </p:nvSpPr>
        <p:spPr>
          <a:xfrm>
            <a:off x="1143000" y="6286680"/>
            <a:ext cx="72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2035"/>
                </a:solidFill>
                <a:latin typeface="Garamond"/>
                <a:ea typeface="Kokila"/>
              </a:rPr>
              <a:t>Als je je kinderen wilt houden, kan je hen beter laten gaa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Afbeelding 1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kstvak 2"/>
          <p:cNvSpPr/>
          <p:nvPr/>
        </p:nvSpPr>
        <p:spPr>
          <a:xfrm>
            <a:off x="642960" y="6072120"/>
            <a:ext cx="85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000000"/>
                </a:solidFill>
                <a:latin typeface="Garamond"/>
                <a:ea typeface="Kokila"/>
              </a:rPr>
              <a:t>Ieder kind wil boodschappen doen, als je het maar rond bedtijd vraa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2"/>
          <p:cNvSpPr/>
          <p:nvPr/>
        </p:nvSpPr>
        <p:spPr>
          <a:xfrm>
            <a:off x="5857920" y="4643280"/>
            <a:ext cx="36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Lieve mensen houde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                            </a:t>
            </a: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kind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Kinderen houden van 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                                </a:t>
            </a: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mens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2"/>
          <p:cNvSpPr/>
          <p:nvPr/>
        </p:nvSpPr>
        <p:spPr>
          <a:xfrm>
            <a:off x="1357200" y="607212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Kinderen zijn het knoopgat dat de ouders samenhoudt </a:t>
            </a:r>
            <a:r>
              <a:rPr b="1" i="1" lang="nl-BE" sz="2800" spc="-1" strike="noStrike">
                <a:solidFill>
                  <a:srgbClr val="4f6228"/>
                </a:solidFill>
                <a:latin typeface="Kokila"/>
                <a:ea typeface="Kokil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Di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142920" y="6215040"/>
            <a:ext cx="87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Kinderen moeten soms heel veel geduld hebben met hun 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1" descr="Di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2"/>
          <p:cNvSpPr/>
          <p:nvPr/>
        </p:nvSpPr>
        <p:spPr>
          <a:xfrm>
            <a:off x="1357200" y="6143760"/>
            <a:ext cx="621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d0d0d"/>
                </a:solidFill>
                <a:latin typeface="Kokila"/>
                <a:ea typeface="Kokila"/>
              </a:rPr>
              <a:t>      </a:t>
            </a:r>
            <a:r>
              <a:rPr b="0" lang="nl-BE" sz="2400" spc="-1" strike="noStrike">
                <a:solidFill>
                  <a:srgbClr val="824074"/>
                </a:solidFill>
                <a:latin typeface="Garamond"/>
                <a:ea typeface="Kokila"/>
              </a:rPr>
              <a:t>Een huis vol kinderen is een korf vol eier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fbeelding 1" descr="Di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kstvak 2"/>
          <p:cNvSpPr/>
          <p:nvPr/>
        </p:nvSpPr>
        <p:spPr>
          <a:xfrm>
            <a:off x="571680" y="500040"/>
            <a:ext cx="83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Wat kinderen wordt aangedaan, zullen zij de samenleving aando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fbeelding 1" descr="Di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kstvak 2"/>
          <p:cNvSpPr/>
          <p:nvPr/>
        </p:nvSpPr>
        <p:spPr>
          <a:xfrm>
            <a:off x="857160" y="621504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Het zwarte en het blanke kind hebben allebei rood blo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2"/>
          <p:cNvSpPr/>
          <p:nvPr/>
        </p:nvSpPr>
        <p:spPr>
          <a:xfrm>
            <a:off x="3643200" y="6215040"/>
            <a:ext cx="59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Een kind morst nooit op een vuile vlo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fbeelding 1" descr="Di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2"/>
          <p:cNvSpPr/>
          <p:nvPr/>
        </p:nvSpPr>
        <p:spPr>
          <a:xfrm>
            <a:off x="1143000" y="5786280"/>
            <a:ext cx="62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Vrede is een kind dat glimlacht als je ernaar kijk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kstvak 2"/>
          <p:cNvSpPr/>
          <p:nvPr/>
        </p:nvSpPr>
        <p:spPr>
          <a:xfrm>
            <a:off x="428760" y="59292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Voor God moet men buigen omdat Hij zo groo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                                               </a:t>
            </a: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voor een kind omdat het zo klein 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2"/>
          <p:cNvSpPr/>
          <p:nvPr/>
        </p:nvSpPr>
        <p:spPr>
          <a:xfrm>
            <a:off x="182880" y="5786280"/>
            <a:ext cx="61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Er is geen kind zo lief of zijn mo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is blij dat het slaap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fbeelding 1" descr="Di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kstvak 2"/>
          <p:cNvSpPr/>
          <p:nvPr/>
        </p:nvSpPr>
        <p:spPr>
          <a:xfrm>
            <a:off x="785880" y="1785960"/>
            <a:ext cx="310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ffcc"/>
                </a:solidFill>
                <a:latin typeface="Garamond"/>
                <a:ea typeface="Kokila"/>
              </a:rPr>
              <a:t>Ein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kstvak 3"/>
          <p:cNvSpPr/>
          <p:nvPr/>
        </p:nvSpPr>
        <p:spPr>
          <a:xfrm>
            <a:off x="6215040" y="64292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02035"/>
                </a:solidFill>
                <a:latin typeface="Garamond"/>
                <a:ea typeface="Kokila"/>
              </a:rPr>
              <a:t>Mietje 01/06/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6357960" y="542916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Het hart blij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         </a:t>
            </a: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altijd k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kstvak 2"/>
          <p:cNvSpPr/>
          <p:nvPr/>
        </p:nvSpPr>
        <p:spPr>
          <a:xfrm>
            <a:off x="785880" y="5716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Volwassenen zijn de stenen, kinderen het 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kstvak 2"/>
          <p:cNvSpPr/>
          <p:nvPr/>
        </p:nvSpPr>
        <p:spPr>
          <a:xfrm>
            <a:off x="214200" y="5857920"/>
            <a:ext cx="907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Wanneer je je jeugd aflegt ,moet je het kind zijn niet verliezen.</a:t>
            </a:r>
            <a:r>
              <a:rPr b="0" i="1" lang="nl-BE" sz="3200" spc="-1" strike="noStrike">
                <a:solidFill>
                  <a:srgbClr val="ffffcc"/>
                </a:solidFill>
                <a:latin typeface="Kokila"/>
                <a:ea typeface="Kokil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kstvak 2"/>
          <p:cNvSpPr/>
          <p:nvPr/>
        </p:nvSpPr>
        <p:spPr>
          <a:xfrm>
            <a:off x="642960" y="5500800"/>
            <a:ext cx="823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rfelijkheid: datgene waarin men gelooft wanneer 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en intelligent kind heef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2"/>
          <p:cNvSpPr/>
          <p:nvPr/>
        </p:nvSpPr>
        <p:spPr>
          <a:xfrm>
            <a:off x="4592160" y="5429160"/>
            <a:ext cx="49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De kinderen van vand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    </a:t>
            </a: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zijn ook niet van gis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kstvak 2"/>
          <p:cNvSpPr/>
          <p:nvPr/>
        </p:nvSpPr>
        <p:spPr>
          <a:xfrm>
            <a:off x="428760" y="500076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Van kinderen houden betek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op de eerste plaats dat je n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terug verlang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16:35:45Z</dcterms:created>
  <dc:creator>Mietje</dc:creator>
  <dc:description/>
  <dc:language>en-US</dc:language>
  <cp:lastModifiedBy>Mietje</cp:lastModifiedBy>
  <dcterms:modified xsi:type="dcterms:W3CDTF">2010-06-02T19:24:02Z</dcterms:modified>
  <cp:revision>30</cp:revision>
  <dc:subject/>
  <dc:title>Dia 1</dc:title>
</cp:coreProperties>
</file>