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De%20Aethergeuzen%20-%20Zoals%20het%20vroeger%20wa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777-733C-418B-9F06-57CF7EA045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0BC-3868-4A23-B9D9-91FAC53A9C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697E-727C-47AB-8113-E6A760D9AE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3E3-D93F-4915-BEC7-3852E35E51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BEE-B9D5-4974-9B05-2C0C91C117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DE4B-FD0A-48E0-8BDE-3AC7951231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BFF3-A6B4-47A7-A803-F6F6DDECD0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A73-14BC-4867-8EBE-B1101CB621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A64F-0EDE-4ED3-8ED2-FB82F7204F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408-07A0-4C2B-BEE9-F0A9670261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357-421E-4A58-9CAE-0E6A5A9380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821-6B96-4F2F-A9CE-6950A7C34D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AEB-8F04-4F52-8AE8-3F66C8E6CF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627-DF2E-4032-B4B2-FEC5687ACF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F965-28AC-4018-9160-81FD41D9A3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8F8B-A533-49B8-95CD-609FA09238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D8FD-3643-4756-A828-E732F7D1A0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1D1-2C43-4AD3-9BFB-7F30BAFA25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2125-859E-46A7-BEAF-BA7F0FD799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1C4-88DB-42AA-903D-C8D44433D9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822E-D4A3-484D-B917-3AAFEB8971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B78-3E86-40CD-A08B-7A8B022C0C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373-53C0-4FCC-8A1E-DECC5F6E56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F52E-3109-45D0-B42B-15E5CF6C1E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9CA-C81A-46F1-933B-FEF668FCFE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415A-B99A-40F0-A48C-C10676FB98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B734-B480-4E84-9B24-FFB7B3A40C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1FD-93AB-420D-96FF-4CA6CF8684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5E0-62F9-43B5-9FBB-AAA605A9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B1F-BAAD-4345-8279-FB23C95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DEA-0850-486C-ACA1-B38D16C1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00F-3C56-4D17-982C-0BC5D5E4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134-ECD1-42FB-9AD3-5CA3920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370-210E-4B9E-97F6-0A7AE0B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2CB-7A23-4985-BD39-B273EA5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DA1-D565-4630-90B7-C6DF59F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ED1-DB2F-444B-872D-D81F901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33A-F641-4250-815C-7AEBCF7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18B-2AE6-4083-8447-BE1AF38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811-854F-443B-AD22-4B5AC3E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87D-C83A-434C-97D3-6073ACE1BB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e%20Aethergeuzen%20-%20Zoals%20het%20vroeger%20wa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476360" y="2060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Nostalg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524720" y="6643800"/>
            <a:ext cx="10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042920" y="0"/>
            <a:ext cx="698508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Zoals zoveel mensen hou ik van deze foto’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Ik denk dat jij mijn kijkplezier zult delen !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Dank aan de onbekende fotograaf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Danie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5084640"/>
            <a:ext cx="36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Daniel Black"/>
              </a:rPr>
              <a:t>Piërre, </a:t>
            </a:r>
            <a:fld id="{975811C7-3115-47D5-B17E-64DD1B856219}" type="datetime3">
              <a:rPr b="0" lang="nl-BE" sz="1800" spc="-1" strike="noStrike">
                <a:solidFill>
                  <a:srgbClr val="000000"/>
                </a:solidFill>
                <a:latin typeface="Daniel Black"/>
              </a:rPr>
              <a:t>29 juli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7"/>
          <p:cNvPicPr/>
          <p:nvPr/>
        </p:nvPicPr>
        <p:blipFill>
          <a:blip r:embed="rId1"/>
          <a:stretch/>
        </p:blipFill>
        <p:spPr>
          <a:xfrm>
            <a:off x="0" y="0"/>
            <a:ext cx="9252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29:32Z</dcterms:created>
  <dc:creator>Roger </dc:creator>
  <dc:description> </dc:description>
  <dc:language>en-US</dc:language>
  <cp:lastModifiedBy>Pierre</cp:lastModifiedBy>
  <dcterms:modified xsi:type="dcterms:W3CDTF">2008-07-31T07:18:54Z</dcterms:modified>
  <cp:revision>15</cp:revision>
  <dc:subject>Oude beroepen en kunstambachten</dc:subject>
  <dc:title>ARTISANAAT</dc:title>
</cp:coreProperties>
</file>