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De%20Aethergeuzen%20-%20Zoals%20het%20vroeger%20wa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D362-C927-444E-9790-5AA7A95B89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3D18-FEDB-4F0A-A6AC-9525AE5A69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010-243A-4017-B3F9-B1A3D91EA9E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BAA7-DF34-46B9-98B1-569765DEE4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F725-5B0B-421F-AEE9-4FBC68FAB7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1434-23F0-4D0F-894C-DE95AF02A1C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0526-8407-4ADE-A0CA-A7C3EBAC798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D09-5757-4E91-96CC-F49098376C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F01-06ED-4989-8A97-C69F0A264E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C095-4FD3-4777-ACD0-466D458430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C0E0-9A99-4F4F-9B4A-5869FBD9009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19D-F9CD-49C8-A8FF-4792F5AA32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E119-5791-471F-9F62-34A81D7FFA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A46-38CE-4169-A5CA-727DC67D91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AD5C-6502-49A5-965A-358775BEA1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D999-813A-4766-BCAC-5F3560D657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D346-392E-4F4E-AAF7-EF93957B91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3029-0C39-43D8-AE0A-D914455F07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E748-E74E-4EE3-9F20-9FE96FFD50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72B8-55BB-4B3D-848F-94D309C7A9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BD9C-64CD-4DA0-8E95-049B4B28AF7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7FB9-C38A-40A5-8603-F644898B12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964-1203-4F7C-8B5A-96542077999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91C1-9498-447C-84D5-A6C09F8A13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362D-13E2-471A-B60C-F7B987829C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1ED4-FF4A-4F1A-90F4-205389CB0B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04A4-AD3D-4834-827D-DB2253016D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0246-9138-4D13-BD2C-58C95A87E1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0D1-1C32-447D-A8B1-0B2397D5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333-ED2B-4566-9D2A-677466D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18C-9355-4042-B8FD-C4D35CA6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BBE-EB30-416B-B642-2E510436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CD9-5ECE-414C-B705-201DFE3B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15E-BCE8-4816-9B59-25F9EF50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65F-D82C-4026-8782-6DE081A7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F6F-1673-40BA-9C47-F9F38624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E90-3177-44DC-ADE0-23BFCE3E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293D-4E66-4EF4-B97D-0055E47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27C-E39B-41D0-BB4D-2514E96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9BE3-0905-4985-95C1-2FF4DDF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4697-D049-4A2C-9FD0-C18E12EABC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e%20Aethergeuzen%20-%20Zoals%20het%20vroeger%20wa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1476360" y="2060640"/>
            <a:ext cx="626436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Nostalgi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2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08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524720" y="6643800"/>
            <a:ext cx="1008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042920" y="0"/>
            <a:ext cx="698508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Zoals zoveel mensen hou ik van deze foto’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Ik denk dat jij mijn kijkplezier zult delen !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Daniel Black"/>
              </a:rPr>
              <a:t>Dank aan de onbekende fotograaf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Danie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5084640"/>
            <a:ext cx="367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Daniel Black"/>
              </a:rPr>
              <a:t>Piërre, </a:t>
            </a:r>
            <a:fld id="{FCA11D5A-2A12-4B45-AC52-1BB8F6F7ADBF}" type="datetime3">
              <a:rPr b="0" lang="nl-BE" sz="1800" spc="-1" strike="noStrike">
                <a:solidFill>
                  <a:srgbClr val="000000"/>
                </a:solidFill>
                <a:latin typeface="Daniel Black"/>
              </a:rPr>
              <a:t>28 juli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7"/>
          <p:cNvPicPr/>
          <p:nvPr/>
        </p:nvPicPr>
        <p:blipFill>
          <a:blip r:embed="rId1"/>
          <a:stretch/>
        </p:blipFill>
        <p:spPr>
          <a:xfrm>
            <a:off x="0" y="0"/>
            <a:ext cx="9252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29:32Z</dcterms:created>
  <dc:creator>Roger </dc:creator>
  <dc:description> </dc:description>
  <dc:language>en-US</dc:language>
  <cp:lastModifiedBy>Pierre</cp:lastModifiedBy>
  <dcterms:modified xsi:type="dcterms:W3CDTF">2008-07-31T07:18:54Z</dcterms:modified>
  <cp:revision>15</cp:revision>
  <dc:subject>Oude beroepen en kunstambachten</dc:subject>
  <dc:title>ARTISANAAT</dc:title>
</cp:coreProperties>
</file>