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569.wav" ContentType="audio/x-wav"/>
  <Override PartName="/ppt/media/image8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F5E647-3D9A-4F40-92B2-6B718A9D95C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C30-A5A5-41CA-A501-D69E90BA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FF0-6FA4-48CB-AC2E-18CF6360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E85-7BB7-4B26-B64D-41FA3A56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32B-F819-4E46-8890-AC02F0B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540-882B-47D2-9119-D2C4D9FD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6FE-BB4B-4CFE-BCE1-8A7F7EC6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53F-06C4-4A56-A9A7-0B54A081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ED9-8946-49BF-8DF4-B6366C9E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AEC-6D48-4040-AA8E-754FDF74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C1E-EE11-481E-B552-692216F3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E9D-63A6-4B43-80E8-BF77E3A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EC6-FAD3-431D-ADA3-34DF767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D50ECC-2631-47E3-9BD9-F2B34CBAA4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569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7208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Monotype Corsiva"/>
              </a:rPr>
              <a:t>De acht mooiste spreuken van de </a:t>
            </a:r>
            <a:br>
              <a:rPr sz="4000"/>
            </a:br>
            <a:br>
              <a:rPr sz="4000"/>
            </a:br>
            <a:r>
              <a:rPr b="1" lang="nl-BE" sz="6000" spc="-1" strike="noStrike">
                <a:solidFill>
                  <a:srgbClr val="000000"/>
                </a:solidFill>
                <a:latin typeface="Monotype Corsiva"/>
              </a:rPr>
              <a:t>“Bond zonder naam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ipe dir="r"/>
    <p:sndAc>
      <p:stSnd>
        <p:snd r:embed="rId2" name="56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0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5400" spc="-1" strike="noStrike">
                <a:solidFill>
                  <a:srgbClr val="000000"/>
                </a:solidFill>
                <a:latin typeface="Monotype Corsiva"/>
              </a:rPr>
              <a:t>Prettige dag n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klik om te sto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2920" y="563400"/>
            <a:ext cx="6912000" cy="545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84200" y="2370240"/>
            <a:ext cx="527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Geef ze een pluim en mensen</a:t>
            </a:r>
            <a:r>
              <a:rPr b="1" lang="nl-BE" sz="3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krijgen vleug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2680" y="3357720"/>
            <a:ext cx="711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Noten mag je kraken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mensen ni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912000" cy="547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32000" y="3284640"/>
            <a:ext cx="628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Geef eens een compli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op een onverwacht mo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69080" cy="571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85240" y="3294000"/>
            <a:ext cx="75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Elke kleine attenti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gro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75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81760" y="1133640"/>
            <a:ext cx="720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Wie zichzelf kent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zwijgt over ander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560" y="1628640"/>
            <a:ext cx="750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De glimlach die je geef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rijg je altijd teru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84072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0840" y="2998800"/>
            <a:ext cx="689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Wie een vuist maakt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an geen hand g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83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43760" y="3008160"/>
            <a:ext cx="66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Sterk duo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beloven en do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55:58Z</dcterms:created>
  <dc:creator/>
  <dc:description/>
  <dc:language>en-US</dc:language>
  <cp:lastModifiedBy>ptollet</cp:lastModifiedBy>
  <dcterms:modified xsi:type="dcterms:W3CDTF">2009-06-30T14:34:47Z</dcterms:modified>
  <cp:revision>18</cp:revision>
  <dc:subject/>
  <dc:title>De acht mooiste “Bond zonder naam”</dc:title>
</cp:coreProperties>
</file>