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569.wav" ContentType="audio/x-wav"/>
  <Override PartName="/ppt/media/image8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C4A7CA-6B75-4333-8D0D-4EDEEA32FC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924-8C56-4A84-9FF2-106F80CA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28D-E21D-43F0-92B2-9785F0E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0EF-2E51-487F-9654-A46F87E0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F7C-8B44-493A-B35C-BBC178C9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796-D00A-4755-B53A-774FCD4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275-294B-48ED-AE75-A4E9E9FD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784-4697-4FDF-AD1D-BD162201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A8A-F4DA-4B91-A5D5-C8F642BC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C72-DA7A-42C5-B07C-9E356059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E18-D303-4D79-A199-64CB894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AE1-A267-4AF9-A94F-1248677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7C3-6C92-4418-8677-A298B3E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58A0C1-8D39-4EBA-B7EA-A74EFDB408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569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7208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Monotype Corsiva"/>
              </a:rPr>
              <a:t>De acht mooiste spreuken van de </a:t>
            </a:r>
            <a:br>
              <a:rPr sz="4000"/>
            </a:br>
            <a:br>
              <a:rPr sz="4000"/>
            </a:br>
            <a:r>
              <a:rPr b="1" lang="nl-BE" sz="6000" spc="-1" strike="noStrike">
                <a:solidFill>
                  <a:srgbClr val="000000"/>
                </a:solidFill>
                <a:latin typeface="Monotype Corsiva"/>
              </a:rPr>
              <a:t>“Bond zonder naam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ipe dir="r"/>
    <p:sndAc>
      <p:stSnd>
        <p:snd r:embed="rId2" name="56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0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5400" spc="-1" strike="noStrike">
                <a:solidFill>
                  <a:srgbClr val="000000"/>
                </a:solidFill>
                <a:latin typeface="Monotype Corsiva"/>
              </a:rPr>
              <a:t>Prettige dag n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klik om te sto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2920" y="563400"/>
            <a:ext cx="6912000" cy="545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84200" y="2370240"/>
            <a:ext cx="527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Geef ze een pluim en mensen</a:t>
            </a:r>
            <a:r>
              <a:rPr b="1" lang="nl-BE" sz="3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krijgen vleug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2680" y="3357720"/>
            <a:ext cx="711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Noten mag je kraken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mensen ni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912000" cy="547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32000" y="3284640"/>
            <a:ext cx="628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Geef eens een compli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op een onverwacht mo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69080" cy="571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85240" y="3294000"/>
            <a:ext cx="75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Elke kleine attenti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gro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75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81760" y="1133640"/>
            <a:ext cx="720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Wie zichzelf kent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zwijgt over ander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560" y="1628640"/>
            <a:ext cx="750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De glimlach die je geef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rijg je altijd teru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84072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0840" y="2998800"/>
            <a:ext cx="689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Wie een vuist maakt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an geen hand g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83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43760" y="3008160"/>
            <a:ext cx="66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Sterk duo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beloven en do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55:58Z</dcterms:created>
  <dc:creator/>
  <dc:description/>
  <dc:language>en-US</dc:language>
  <cp:lastModifiedBy>ptollet</cp:lastModifiedBy>
  <dcterms:modified xsi:type="dcterms:W3CDTF">2009-06-30T14:34:47Z</dcterms:modified>
  <cp:revision>18</cp:revision>
  <dc:subject/>
  <dc:title>De acht mooiste “Bond zonder naam”</dc:title>
</cp:coreProperties>
</file>