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Unchained%20Melody.wav" ContentType="audio/x-wav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E50-D84C-41E9-B620-5B38119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609-540E-42A1-BD4F-5DB7FD9F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67D-0A2F-44D4-8B1F-75F293C2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257-E4D9-40B9-A7B6-E494E517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8AB-4669-4DAB-AAD7-DFBDA176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721-C7EF-44CB-A43C-5DC514C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5D0-A785-4E21-B9C6-6D0F63FC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4AB-108F-4BD2-BEF8-473A517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A3C-F4C0-4012-8A93-2EA9616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E8F-968A-4BD4-ACF7-246E089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728-766E-4B29-A66E-BF1C35F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D41-43D0-46CF-8E9C-43AB47C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8926-D6A3-4829-B2EB-64D4BED24B9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32"/>
          <p:cNvSpPr/>
          <p:nvPr/>
        </p:nvSpPr>
        <p:spPr>
          <a:xfrm>
            <a:off x="179280" y="6216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Januari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33" descr="hof 2"/>
          <p:cNvPicPr/>
          <p:nvPr/>
        </p:nvPicPr>
        <p:blipFill>
          <a:blip r:embed="rId1"/>
          <a:stretch/>
        </p:blipFill>
        <p:spPr>
          <a:xfrm>
            <a:off x="108000" y="119160"/>
            <a:ext cx="8928000" cy="5970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34"/>
          <p:cNvSpPr/>
          <p:nvPr/>
        </p:nvSpPr>
        <p:spPr>
          <a:xfrm>
            <a:off x="2050920" y="615636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 dingen zijn verand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  <p:sndAc>
      <p:stSnd>
        <p:snd r:embed="rId2" name="Unchained%20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1066680" y="5927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De gsm bestond nog nie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dorpsomroeper 2"/>
          <p:cNvPicPr/>
          <p:nvPr/>
        </p:nvPicPr>
        <p:blipFill>
          <a:blip r:embed="rId1"/>
          <a:stretch/>
        </p:blipFill>
        <p:spPr>
          <a:xfrm>
            <a:off x="826920" y="125280"/>
            <a:ext cx="7490160" cy="5724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1042920" y="6093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vaatwasser was er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boerenleven 24"/>
          <p:cNvPicPr/>
          <p:nvPr/>
        </p:nvPicPr>
        <p:blipFill>
          <a:blip r:embed="rId1"/>
          <a:stretch/>
        </p:blipFill>
        <p:spPr>
          <a:xfrm>
            <a:off x="1763640" y="0"/>
            <a:ext cx="518328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228600" y="59277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asmachines waren er ook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wassen 2"/>
          <p:cNvPicPr/>
          <p:nvPr/>
        </p:nvPicPr>
        <p:blipFill>
          <a:blip r:embed="rId1"/>
          <a:stretch/>
        </p:blipFill>
        <p:spPr>
          <a:xfrm>
            <a:off x="826920" y="260280"/>
            <a:ext cx="7070760" cy="530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179280" y="59500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hadden ook geen wasdroger, de was hing aan de lij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waslijn 1"/>
          <p:cNvPicPr/>
          <p:nvPr/>
        </p:nvPicPr>
        <p:blipFill>
          <a:blip r:embed="rId1"/>
          <a:stretch/>
        </p:blipFill>
        <p:spPr>
          <a:xfrm>
            <a:off x="755640" y="189000"/>
            <a:ext cx="7777080" cy="5176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1066680" y="5927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gingen elke zondag naar de m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mass_100_0409"/>
          <p:cNvPicPr/>
          <p:nvPr/>
        </p:nvPicPr>
        <p:blipFill>
          <a:blip r:embed="rId1"/>
          <a:srcRect l="0" t="1736" r="0" b="0"/>
          <a:stretch/>
        </p:blipFill>
        <p:spPr>
          <a:xfrm>
            <a:off x="1187280" y="378000"/>
            <a:ext cx="6769440" cy="499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1066680" y="5927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Vrijdags kwam er geen vlees op tafe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ecipes"/>
          <p:cNvPicPr/>
          <p:nvPr/>
        </p:nvPicPr>
        <p:blipFill>
          <a:blip r:embed="rId1"/>
          <a:stretch/>
        </p:blipFill>
        <p:spPr>
          <a:xfrm>
            <a:off x="611280" y="287280"/>
            <a:ext cx="7921440" cy="5289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09480" y="59277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Meesters en juffen waren priesters en nonn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school 2 kleuters 1947"/>
          <p:cNvPicPr/>
          <p:nvPr/>
        </p:nvPicPr>
        <p:blipFill>
          <a:blip r:embed="rId1"/>
          <a:stretch/>
        </p:blipFill>
        <p:spPr>
          <a:xfrm>
            <a:off x="395280" y="409680"/>
            <a:ext cx="8209080" cy="5086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609480" y="59277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De bakker leverden elke dag aan hu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akkers wagen 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38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611280" y="609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Ook de melkboer kwam aan hu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elkboer 10 ehv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54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611280" y="6165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Aardappelen haalden we bij de bo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ardappels rooien 2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645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508720" y="1989000"/>
            <a:ext cx="345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Tijdens een wandeling vroeg de kleindochter aan O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oe oud ben je op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gemeentehuis 3"/>
          <p:cNvPicPr/>
          <p:nvPr/>
        </p:nvPicPr>
        <p:blipFill>
          <a:blip r:embed="rId1"/>
          <a:stretch/>
        </p:blipFill>
        <p:spPr>
          <a:xfrm>
            <a:off x="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2860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Een creemke koste 2 fran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jscoboer 3"/>
          <p:cNvPicPr/>
          <p:nvPr/>
        </p:nvPicPr>
        <p:blipFill>
          <a:blip r:embed="rId1"/>
          <a:stretch/>
        </p:blipFill>
        <p:spPr>
          <a:xfrm>
            <a:off x="684360" y="549360"/>
            <a:ext cx="7777080" cy="520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22860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r waren nog geen discothek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cafe 8a gouden leeuw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5418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2270160" y="5907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Digitale camera’s waren er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fotograaf 2"/>
          <p:cNvPicPr/>
          <p:nvPr/>
        </p:nvPicPr>
        <p:blipFill>
          <a:blip r:embed="rId1"/>
          <a:stretch/>
        </p:blipFill>
        <p:spPr>
          <a:xfrm>
            <a:off x="755640" y="333360"/>
            <a:ext cx="7416720" cy="542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werden niet naar school gebracht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30" descr="borkel winter"/>
          <p:cNvPicPr/>
          <p:nvPr/>
        </p:nvPicPr>
        <p:blipFill>
          <a:blip r:embed="rId1"/>
          <a:stretch/>
        </p:blipFill>
        <p:spPr>
          <a:xfrm>
            <a:off x="2195640" y="0"/>
            <a:ext cx="483552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Kinderdagverblijven waren er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arderie_4"/>
          <p:cNvPicPr/>
          <p:nvPr/>
        </p:nvPicPr>
        <p:blipFill>
          <a:blip r:embed="rId1"/>
          <a:srcRect l="0" t="0" r="0" b="8293"/>
          <a:stretch/>
        </p:blipFill>
        <p:spPr>
          <a:xfrm>
            <a:off x="1187280" y="1125360"/>
            <a:ext cx="6629400" cy="4046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hoefden nooit naar de slag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lager 8"/>
          <p:cNvPicPr/>
          <p:nvPr/>
        </p:nvPicPr>
        <p:blipFill>
          <a:blip r:embed="rId1"/>
          <a:stretch/>
        </p:blipFill>
        <p:spPr>
          <a:xfrm>
            <a:off x="1919160" y="115920"/>
            <a:ext cx="4670640" cy="5834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supermarkt kenden we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of 44b de spar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535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595008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hadden geen CD of DVD,  … alleen 33 toerenplat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ortable-wildcat-gold"/>
          <p:cNvPicPr/>
          <p:nvPr/>
        </p:nvPicPr>
        <p:blipFill>
          <a:blip r:embed="rId1"/>
          <a:stretch/>
        </p:blipFill>
        <p:spPr>
          <a:xfrm>
            <a:off x="2286000" y="1371600"/>
            <a:ext cx="4495680" cy="384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Het water kwam nog niet uit de kraan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gootsteen 1"/>
          <p:cNvPicPr/>
          <p:nvPr/>
        </p:nvPicPr>
        <p:blipFill>
          <a:blip r:embed="rId1"/>
          <a:stretch/>
        </p:blipFill>
        <p:spPr>
          <a:xfrm>
            <a:off x="900000" y="260280"/>
            <a:ext cx="7056720" cy="5513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24000" y="6093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Bassin was ons zwemba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wassen 3"/>
          <p:cNvPicPr/>
          <p:nvPr/>
        </p:nvPicPr>
        <p:blipFill>
          <a:blip r:embed="rId1"/>
          <a:stretch/>
        </p:blipFill>
        <p:spPr>
          <a:xfrm>
            <a:off x="395280" y="189000"/>
            <a:ext cx="8282160" cy="5815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332000" y="595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Hij antwoorde   ’een minuutje, ik ben geboren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malpie 2"/>
          <p:cNvPicPr/>
          <p:nvPr/>
        </p:nvPicPr>
        <p:blipFill>
          <a:blip r:embed="rId1"/>
          <a:stretch/>
        </p:blipFill>
        <p:spPr>
          <a:xfrm>
            <a:off x="971640" y="189000"/>
            <a:ext cx="7200720" cy="541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900000" y="59500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kochten snoep voor een fran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Snoepwinkel 2"/>
          <p:cNvPicPr/>
          <p:nvPr/>
        </p:nvPicPr>
        <p:blipFill>
          <a:blip r:embed="rId1"/>
          <a:stretch/>
        </p:blipFill>
        <p:spPr>
          <a:xfrm>
            <a:off x="1692360" y="189000"/>
            <a:ext cx="5178240" cy="5649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Aardgas was er nog n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spinazie uitzoeken"/>
          <p:cNvPicPr/>
          <p:nvPr/>
        </p:nvPicPr>
        <p:blipFill>
          <a:blip r:embed="rId1"/>
          <a:stretch/>
        </p:blipFill>
        <p:spPr>
          <a:xfrm>
            <a:off x="755640" y="333360"/>
            <a:ext cx="7304040" cy="547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sigaretje of sigaartje kon toen no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nostalgie 6"/>
          <p:cNvPicPr/>
          <p:nvPr/>
        </p:nvPicPr>
        <p:blipFill>
          <a:blip r:embed="rId1"/>
          <a:stretch/>
        </p:blipFill>
        <p:spPr>
          <a:xfrm>
            <a:off x="1835280" y="69228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adreInterne=Arb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32000" y="9810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Hoe oud denk je dat ik be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Bijna niet te gelove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NUage=CommePour Écrire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774800" y="1663560"/>
            <a:ext cx="56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ff0066"/>
                </a:solidFill>
                <a:latin typeface="Arial"/>
              </a:rPr>
              <a:t>Ik b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ff0066"/>
                </a:solidFill>
                <a:latin typeface="Arial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ff0066"/>
                </a:solidFill>
                <a:latin typeface="Arial"/>
              </a:rPr>
              <a:t>60 jaar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berken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kat_1"/>
          <p:cNvPicPr/>
          <p:nvPr/>
        </p:nvPicPr>
        <p:blipFill>
          <a:blip r:embed="rId2"/>
          <a:stretch/>
        </p:blipFill>
        <p:spPr>
          <a:xfrm>
            <a:off x="5364000" y="5229360"/>
            <a:ext cx="1095480" cy="128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1"/>
          <p:cNvSpPr/>
          <p:nvPr/>
        </p:nvSpPr>
        <p:spPr>
          <a:xfrm>
            <a:off x="2268360" y="573408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059280" y="5084640"/>
            <a:ext cx="30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6200" y="236844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 snel gaan de ontwikk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187280" y="5877000"/>
            <a:ext cx="684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Toen bijna niemand een televisie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60680" y="1360440"/>
            <a:ext cx="550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televisie 4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59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1403280" y="5734080"/>
            <a:ext cx="6096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uro’s bestonden toen nog nie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29" descr="guldens nostalgie 1"/>
          <p:cNvPicPr/>
          <p:nvPr/>
        </p:nvPicPr>
        <p:blipFill>
          <a:blip r:embed="rId1"/>
          <a:stretch/>
        </p:blipFill>
        <p:spPr>
          <a:xfrm>
            <a:off x="1042920" y="115920"/>
            <a:ext cx="6769080" cy="580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58920" y="5791320"/>
            <a:ext cx="6437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r was nog geen centrale verwarming 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rozen-Dinner"/>
          <p:cNvPicPr/>
          <p:nvPr/>
        </p:nvPicPr>
        <p:blipFill>
          <a:blip r:embed="rId1"/>
          <a:stretch/>
        </p:blipFill>
        <p:spPr>
          <a:xfrm>
            <a:off x="2666880" y="1614600"/>
            <a:ext cx="4000680" cy="317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" name="Picture 5" descr="huiskamer 4"/>
          <p:cNvPicPr/>
          <p:nvPr/>
        </p:nvPicPr>
        <p:blipFill>
          <a:blip r:embed="rId2"/>
          <a:stretch/>
        </p:blipFill>
        <p:spPr>
          <a:xfrm>
            <a:off x="539640" y="139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152280" y="5927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koelkast of diepvries bestond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weckflessen 1"/>
          <p:cNvPicPr/>
          <p:nvPr/>
        </p:nvPicPr>
        <p:blipFill>
          <a:blip r:embed="rId1"/>
          <a:stretch/>
        </p:blipFill>
        <p:spPr>
          <a:xfrm>
            <a:off x="826920" y="192240"/>
            <a:ext cx="7490160" cy="570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1116000" y="60213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iet overal was Electric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electriciteit 2"/>
          <p:cNvPicPr/>
          <p:nvPr/>
        </p:nvPicPr>
        <p:blipFill>
          <a:blip r:embed="rId1"/>
          <a:stretch/>
        </p:blipFill>
        <p:spPr>
          <a:xfrm>
            <a:off x="1116000" y="63360"/>
            <a:ext cx="648036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971640" y="6093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iemand had een bankkaar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winkelboekje"/>
          <p:cNvPicPr/>
          <p:nvPr/>
        </p:nvPicPr>
        <p:blipFill>
          <a:blip r:embed="rId1"/>
          <a:stretch/>
        </p:blipFill>
        <p:spPr>
          <a:xfrm>
            <a:off x="1908000" y="115920"/>
            <a:ext cx="49244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30:08Z</dcterms:created>
  <dc:creator>G D B</dc:creator>
  <dc:description/>
  <dc:language>en-US</dc:language>
  <cp:lastModifiedBy>Robert</cp:lastModifiedBy>
  <dcterms:modified xsi:type="dcterms:W3CDTF">2011-01-17T11:02:46Z</dcterms:modified>
  <cp:revision>5</cp:revision>
  <dc:subject/>
  <dc:title>Dia 1</dc:title>
</cp:coreProperties>
</file>