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13-Till.wav" ContentType="audio/x-wav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D828-68FF-4C43-82A7-CE84CA9B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BE47-6EB1-4AE4-A5DA-AE0ACA89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4E0-9882-4DA0-80AA-EA564DDDD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FDA9-E984-4E91-A86E-7C0EEF5F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D4C1-7505-4FEC-9C2F-E95EEAD6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D15B-B783-46F1-B7CB-B8EC3C24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B4B7-76EB-4FB8-838F-2FDA2986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63D0-7EFB-4B15-8FA9-8E97EC87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8B1A-8824-47B0-B5BF-461AF994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2E27-1A8A-4F09-B6AF-2E75F966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CA36-44B5-4022-9DF7-F7D3EA11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7F61-A6C1-429D-A0D6-F41843F4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8791-06A6-4C7E-8CA5-383C7F59D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3-Til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114300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000000"/>
                </a:solidFill>
                <a:latin typeface="Times New Roman"/>
              </a:rPr>
              <a:t>Wat is gelukkig zijn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random/>
    <p:sndAc>
      <p:stSnd>
        <p:snd r:embed="rId2" name="13-Ti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304920"/>
            <a:ext cx="7810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Gelukkig zijn is genieten van de stralende zon,                                 van de ijskoude lucht,                        van de regen en het onwe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267080"/>
            <a:ext cx="815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Gelukkig zijn is vriendelijk zijn tegenover iedereen, ook tegen degene die je tegenkom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38080" y="1371600"/>
            <a:ext cx="75060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Gelukkig zijn is van het leven één groot avontuur maken.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Soms gekke dingen doen, gewoon omdat je het graag doet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304920"/>
            <a:ext cx="8456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Maar bovenal, gelukkig zijn houdt in : Goed handelen in alles wat je doet,                                                      dat je niets doet waar jij je slecht bij voelt,  dat je niemand pijn doet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4648320"/>
            <a:ext cx="66294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Gelukkig zijn is,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goede vrienden hebben .</a:t>
            </a: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Gelukkig zijn is :</a:t>
            </a:r>
            <a:br>
              <a:rPr sz="4000"/>
            </a:br>
            <a:br>
              <a:rPr sz="4000"/>
            </a:b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Wanneer datgene wat je denkt ,</a:t>
            </a:r>
            <a:br>
              <a:rPr sz="4000"/>
            </a:b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wat je zegt en wat je doet,</a:t>
            </a:r>
            <a:br>
              <a:rPr sz="4000"/>
            </a:b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in harmonie zijn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76360" y="1413000"/>
            <a:ext cx="59436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Heel juist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Gelukkig zijn is niets anders dan 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IN  VREDE  ZIJN  MET JEZELF !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534520" y="6324480"/>
            <a:ext cx="380880" cy="355680"/>
          </a:xfrm>
          <a:prstGeom prst="rect">
            <a:avLst/>
          </a:prstGeom>
          <a:ln w="0">
            <a:noFill/>
          </a:ln>
        </p:spPr>
      </p:pic>
    </p:spTree>
  </p:cSld>
  <p:transition advTm="12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2120" y="358128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Voor sommigen is gelukkig zijn : Geld in de portemonnee .              Een goede pint in het café .           Nieuwe kleren in de kleerkast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426708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Voor anderen is gelukkig zijn,              een successvolle carrière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1905120"/>
            <a:ext cx="83059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Voor sommige, is gelukkig zijn :</a:t>
            </a: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De wereld zien. </a:t>
            </a: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Een zeer grote kennis hebb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over vele dingen .</a:t>
            </a: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1523880"/>
            <a:ext cx="8088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Maar voor mij, om gelukkig te zijn is             het heel anders .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Gelukkig zijn is een goed mens zijn ,   is genieten van het leven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1981080"/>
            <a:ext cx="871704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Gelukkig zijn is als je famili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bij elkaar is .                                               Is leven zonder je te haasten, zonder zorgen .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Is dromen, is wenen, is glimlachen is liefhebben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1143000"/>
            <a:ext cx="850104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Gelukkig zijn is leven omringd door liefd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Is vriendschap zaaien, de warmte van een omarming van een vriend(in), die je, alhoewel hij/zij veraf i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hallo” hoort zeggen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2895480"/>
            <a:ext cx="8589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Gelukkig zijn is ‘s morgens wakker worden, en naar je partner kijken ,   enkel om te zien of alles in orde is met hem/haar, gewoon om hem/haar te zien slapen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4000" y="907920"/>
            <a:ext cx="838188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Gelukkig zijn is een warme thuis .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Is een eenvoudig gedekte tafel .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Is een lekkere kop koffie bij je ontbij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Is de zoete melodie van een CD ,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om je hart te inspireren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17:10:12Z</dcterms:created>
  <dc:creator>Rotier Cecile</dc:creator>
  <dc:description/>
  <dc:language>en-US</dc:language>
  <cp:lastModifiedBy>Rotier Cecile</cp:lastModifiedBy>
  <dcterms:modified xsi:type="dcterms:W3CDTF">2008-06-11T17:16:00Z</dcterms:modified>
  <cp:revision>1</cp:revision>
  <dc:subject/>
  <dc:title>Dia 1</dc:title>
</cp:coreProperties>
</file>