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4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3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12%20-%20Life's%20Storybook%20Cover.wav" ContentType="audio/x-wav"/>
  <Override PartName="/ppt/media/image2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8027988" cy="5003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725-E62A-4A47-AA28-E2D81AB2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5B13-0671-4C51-8073-0F5BCB4F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79F-E727-4B11-8DD2-5D2809F1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1404-8AE7-4B1D-848A-665955FC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C716-1F7B-478A-BE09-B7E8B05C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D962-5DC0-451E-8183-BAE66387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E2EC-4465-4CBC-934E-23BF5443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2292-1564-4DF8-9BA2-56498149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45D2-479B-4DB5-973B-E8C6D184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C39E-7A9E-4AA2-A31C-4C7C07AA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B713-3C67-4138-B886-A3B2F271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5157-696B-4B19-9C34-7085AC65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35DB-A94D-472B-8031-667DD130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17BF-28EA-4603-9442-D1EA2254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8D5B-5608-4304-B6A3-5D468973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FC6B-3167-4200-9A20-11869A03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7156-7C8A-405A-822B-836DDD63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7B56C-1CBA-438A-99E7-E0905BEB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97CB-F980-4C15-8C22-6BA5D6A2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8954F-5222-40F3-AFDD-F3384E25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B2B96-B506-4C6F-BFB2-FA37BA7F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D3810-558A-4186-9DBD-56F2FAC4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BEA4-EC3B-4A25-874D-4B48380A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C4F3A-A130-45ED-A817-10C6ADA0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3C313-A2F5-49CC-A942-2CDD8EF0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7C6CB-7FFC-49E9-B0B9-4C7AE538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C472D-308B-42E4-8677-CEBDC5D8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21B83-5127-4254-BC6D-BD07D662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FE3E6-87B4-4017-A09D-151A8B7C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6B11E-D40F-4D21-9FC1-0DA4F737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7DA97-4B27-4D2C-A2F5-3DEB0E12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74362-1D56-4FAE-A729-20F22810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169D3-422A-46C6-97CD-42FF3D66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DCA-748C-425D-BF61-322466AD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BBD5C-B977-4031-A157-C7CADE4A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A5C50-8B17-4F67-A721-205B4A2B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C9A55-A3FB-495E-B0F2-2BD36334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1781F-A7D2-4BC6-8C8D-37114B73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563C4-84E5-4D80-B776-E0431D58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0428A-346B-46AA-91D7-BA13FC60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C9784-950D-4A1D-88D4-D7EA1016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1A1F1-B509-461A-BDBB-D425B46C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EA2D6-294B-4751-AC94-5C378156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C4780-EFB9-4CE2-9D09-CCEC428C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67F1-2E57-469B-847F-25D3EBD0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83F75-6438-4A78-91A6-04D588B7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630D9-1C9B-4365-9684-6217ECB8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71DEB-F07F-4EAB-BAAC-ED0DDAAF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5BA3B-3487-4AB8-8C0F-244E09CF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00060-41B2-439C-883B-0C10611D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27087-547F-4AEC-A259-FFCB6FFB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9EDBB-A574-498C-9E63-26AAFF75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2A858-B7DD-42AE-A1F4-7B177479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48B10-6199-47E9-8868-C3DF7FD5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F7650-3E0D-4CB1-B240-A3DE439A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4FC8-2180-49BE-B55C-9F631E02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6CAD3-A595-4528-A16E-31723D81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824D2-7401-4EDC-BF6A-9E46D0A9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70D83-9676-4A32-BE6A-23A77CCF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3EC44-3DFB-4225-B430-06135F60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8EDDA-A3BF-4372-9917-2D6A1A4E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DA78F-9DA7-4073-8D9F-A1EC8C33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5AD9A-E4F3-4769-A610-0ED0B43D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16F2B-625A-44A3-B223-D0DE2156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CEA53-A5D3-4FE7-A3B0-FC6F2A69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84C74-CAFF-4E7C-8FB8-6B19F3B7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F6B-F543-466A-BE0A-D357B1A3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C4ED6-2719-4B50-B09D-C339FBE0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13C5C-EB6C-41AF-9BCE-36DD3F22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69262-E6DA-4DD2-8A9B-0BBE91CC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FEEA9-7153-4F98-ADA1-18B41D2C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40077-25ED-48E3-98CB-A6B6219C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F3BA5-833B-4774-9124-8ACA148D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AD0BE-1E93-4BE2-A4A5-D486C21A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33A60-1F3E-4C4B-8963-06275213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AB220-5C43-450A-B30E-A4FA49F4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7630C-2A3A-41B5-9356-F2D9FDDB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AD17-D362-4301-91FD-847C2418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E769A-8EBF-4870-A5A9-51815F91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EF41A-00CC-47C6-A1F1-E82EA45D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84DAF-35C9-4F66-ADF6-2C0E5A83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1A630-BAD7-40E5-A498-400734CD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8463D-ED7F-4E0B-871D-73F0F52B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7C7-ED9C-4D05-935B-418BCEF6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92560" indent="-22716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1520" indent="-1818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275480" indent="-1818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640880" indent="-1818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640880" indent="-1818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640880" indent="-1818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1400" y="4636800"/>
            <a:ext cx="1873080" cy="266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4636800"/>
            <a:ext cx="2543040" cy="266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54600" y="4636800"/>
            <a:ext cx="1873440" cy="266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4D6C-3869-46D5-90FE-212F0AC2FA5D}" type="slidenum">
              <a:rPr b="0" lang="nl-NL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CF8B-DAA9-41B2-8DE0-ADCD90DB7E68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A4C4-F760-4AD3-926A-3E4A53CAD46E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598A-339D-4A09-A52E-EF37CB440968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44D7-DB70-404F-A0C9-A7C147DD2805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8468-FE7E-4A85-8C54-114CF17C8160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61A4-B651-49C4-A244-AAF0B4EC3894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12%20-%20Life&apos;s%20Storybook%20Cover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hyperlink" Target="http://blog.seniorennet.be/lidia_powerpointblog/" TargetMode="External"/><Relationship Id="rId4" Type="http://schemas.openxmlformats.org/officeDocument/2006/relationships/image" Target="../media/image21.png"/><Relationship Id="rId5" Type="http://schemas.openxmlformats.org/officeDocument/2006/relationships/hyperlink" Target="mailto:lidiav9@gmail.com" TargetMode="External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itel 1" descr=""/>
          <p:cNvPicPr/>
          <p:nvPr/>
        </p:nvPicPr>
        <p:blipFill>
          <a:blip r:embed="rId2"/>
          <a:stretch/>
        </p:blipFill>
        <p:spPr>
          <a:xfrm>
            <a:off x="585720" y="2176560"/>
            <a:ext cx="6973920" cy="1090440"/>
          </a:xfrm>
          <a:prstGeom prst="rect">
            <a:avLst/>
          </a:prstGeom>
          <a:ln w="0">
            <a:noFill/>
          </a:ln>
        </p:spPr>
      </p:pic>
      <p:pic>
        <p:nvPicPr>
          <p:cNvPr id="288" name="Ondertitel 2" descr=""/>
          <p:cNvPicPr/>
          <p:nvPr/>
        </p:nvPicPr>
        <p:blipFill>
          <a:blip r:embed="rId3"/>
          <a:stretch/>
        </p:blipFill>
        <p:spPr>
          <a:xfrm>
            <a:off x="4108320" y="-6480"/>
            <a:ext cx="3926160" cy="1359000"/>
          </a:xfrm>
          <a:prstGeom prst="rect">
            <a:avLst/>
          </a:prstGeom>
          <a:ln w="0">
            <a:noFill/>
          </a:ln>
        </p:spPr>
      </p:pic>
      <p:sp>
        <p:nvSpPr>
          <p:cNvPr id="289" name="Tekstvak 3"/>
          <p:cNvSpPr/>
          <p:nvPr/>
        </p:nvSpPr>
        <p:spPr>
          <a:xfrm>
            <a:off x="241920" y="130320"/>
            <a:ext cx="4540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uziek: Isla Grant – Life’s Storybook C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wedge/>
    <p:sndAc>
      <p:stSnd>
        <p:snd r:embed="rId4" name="12%20-%20Life's%20Storybook%20Cov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image006667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07" name="Tekstvak 3"/>
          <p:cNvSpPr/>
          <p:nvPr/>
        </p:nvSpPr>
        <p:spPr>
          <a:xfrm>
            <a:off x="-166680" y="295200"/>
            <a:ext cx="8089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geweend bij het luisteren naar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muziek en het bekijken van foto’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Afbeelding 2" descr="492944-ce022fd77ee2450ba4b4ffc005a4fae8.jpg"/>
          <p:cNvPicPr/>
          <p:nvPr/>
        </p:nvPicPr>
        <p:blipFill>
          <a:blip r:embed="rId1"/>
          <a:stretch/>
        </p:blipFill>
        <p:spPr>
          <a:xfrm>
            <a:off x="0" y="1440"/>
            <a:ext cx="8062920" cy="5002200"/>
          </a:xfrm>
          <a:prstGeom prst="rect">
            <a:avLst/>
          </a:prstGeom>
          <a:ln w="0">
            <a:noFill/>
          </a:ln>
        </p:spPr>
      </p:pic>
      <p:sp>
        <p:nvSpPr>
          <p:cNvPr id="309" name="Tekstvak 4"/>
          <p:cNvSpPr/>
          <p:nvPr/>
        </p:nvSpPr>
        <p:spPr>
          <a:xfrm>
            <a:off x="-149760" y="138240"/>
            <a:ext cx="808992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getelefoneer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kel om een stem te hor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werd al verliefd bij het zien van e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  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glimlach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blinds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9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2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5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8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Afbeelding 1" descr="492941-286dbcc01bb4f94af1c1a6a527883171.jp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11" name="Tekstvak 2"/>
          <p:cNvSpPr/>
          <p:nvPr/>
        </p:nvSpPr>
        <p:spPr>
          <a:xfrm>
            <a:off x="-95040" y="3973680"/>
            <a:ext cx="8204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dacht te sterven van heimwee  en…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split dir="out" orient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Afbeelding 1" descr="393823-b54ebcf8fd48cd4d7bd1d43fba7816a0.jpg"/>
          <p:cNvPicPr/>
          <p:nvPr/>
        </p:nvPicPr>
        <p:blipFill>
          <a:blip r:embed="rId1"/>
          <a:stretch/>
        </p:blipFill>
        <p:spPr>
          <a:xfrm>
            <a:off x="-25560" y="0"/>
            <a:ext cx="8055000" cy="5003640"/>
          </a:xfrm>
          <a:prstGeom prst="rect">
            <a:avLst/>
          </a:prstGeom>
          <a:ln w="0">
            <a:noFill/>
          </a:ln>
        </p:spPr>
      </p:pic>
      <p:sp>
        <p:nvSpPr>
          <p:cNvPr id="313" name="Rechthoek 2"/>
          <p:cNvSpPr/>
          <p:nvPr/>
        </p:nvSpPr>
        <p:spPr>
          <a:xfrm>
            <a:off x="474840" y="138240"/>
            <a:ext cx="7175160" cy="26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... ik had schrik om een heel bijzonder   iemand te verliezen,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(die ik uiteindelijk verloren heb)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maar ik heb het overleefd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plus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jdelijke aanduiding voor inhoud 6" descr="578725-53d64b42236d49c5e19097c3ae4954c6.jp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15" name="Rechthoek 2"/>
          <p:cNvSpPr/>
          <p:nvPr/>
        </p:nvSpPr>
        <p:spPr>
          <a:xfrm>
            <a:off x="220680" y="452520"/>
            <a:ext cx="752472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ik leef nog steed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ik laat het leven niet links ligg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dat moet jij ook niet do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hthoek 3"/>
          <p:cNvSpPr/>
          <p:nvPr/>
        </p:nvSpPr>
        <p:spPr>
          <a:xfrm>
            <a:off x="860400" y="3657600"/>
            <a:ext cx="2607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900" spc="-1" strike="noStrike">
                <a:solidFill>
                  <a:srgbClr val="ffffff"/>
                </a:solidFill>
                <a:latin typeface="Bradley Hand ITC"/>
              </a:rPr>
              <a:t>LEEF!!!!!!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blinds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Afbeelding 1" descr="418645-02bfbe93d700db72e421c4e057e28a32.jp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18" name="Rechthoek 2"/>
          <p:cNvSpPr/>
          <p:nvPr/>
        </p:nvSpPr>
        <p:spPr>
          <a:xfrm>
            <a:off x="284040" y="138240"/>
            <a:ext cx="7524720" cy="57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080" bIns="37080" anchor="t">
            <a:spAutoFit/>
          </a:bodyPr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wat echt goed i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dat is vechten met overtuiging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het leven koesteren en passioneel lev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met klasse verliezen en overwinnen door te durven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want de wereld behoort aan de durvers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HET LEVEN IS TE BELANGRIJK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OM ONBETEKENEND TE ZIJN !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comb dir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800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3100"/>
                            </p:stCondLst>
                            <p:childTnLst>
                              <p:par>
                                <p:cTn id="2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ekstvak 1" descr=""/>
          <p:cNvPicPr/>
          <p:nvPr/>
        </p:nvPicPr>
        <p:blipFill>
          <a:blip r:embed="rId2"/>
          <a:stretch/>
        </p:blipFill>
        <p:spPr>
          <a:xfrm>
            <a:off x="-49320" y="-49320"/>
            <a:ext cx="3462480" cy="1603440"/>
          </a:xfrm>
          <a:prstGeom prst="rect">
            <a:avLst/>
          </a:prstGeom>
          <a:ln w="0">
            <a:noFill/>
          </a:ln>
        </p:spPr>
      </p:pic>
      <p:pic>
        <p:nvPicPr>
          <p:cNvPr id="320" name="Afbeelding 2" descr="9d2e356db1ad.png">
            <a:hlinkClick r:id="rId3"/>
          </p:cNvPr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0" y="3451320"/>
            <a:ext cx="2554200" cy="1552320"/>
          </a:xfrm>
          <a:prstGeom prst="rect">
            <a:avLst/>
          </a:prstGeom>
          <a:ln w="0">
            <a:noFill/>
          </a:ln>
        </p:spPr>
      </p:pic>
      <p:pic>
        <p:nvPicPr>
          <p:cNvPr id="321" name="Afbeelding 3" descr="4ca1ae6307d0.png">
            <a:hlinkClick r:id="rId5"/>
          </p:cNvPr>
          <p:cNvPicPr/>
          <p:nvPr/>
        </p:nvPicPr>
        <p:blipFill>
          <a:blip r:embed="rId6">
            <a:lum contrast="10000"/>
          </a:blip>
          <a:stretch/>
        </p:blipFill>
        <p:spPr>
          <a:xfrm>
            <a:off x="6543720" y="3867120"/>
            <a:ext cx="1257120" cy="789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7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7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Afbeelding 1" descr="839ff8c7a710.png"/>
          <p:cNvPicPr/>
          <p:nvPr/>
        </p:nvPicPr>
        <p:blipFill>
          <a:blip r:embed="rId1"/>
          <a:stretch/>
        </p:blipFill>
        <p:spPr>
          <a:xfrm>
            <a:off x="220680" y="165240"/>
            <a:ext cx="7397640" cy="4838400"/>
          </a:xfrm>
          <a:prstGeom prst="rect">
            <a:avLst/>
          </a:prstGeom>
          <a:ln w="0">
            <a:noFill/>
          </a:ln>
        </p:spPr>
      </p:pic>
      <p:sp>
        <p:nvSpPr>
          <p:cNvPr id="291" name="Tekstvak 2"/>
          <p:cNvSpPr/>
          <p:nvPr/>
        </p:nvSpPr>
        <p:spPr>
          <a:xfrm>
            <a:off x="1418040" y="485640"/>
            <a:ext cx="609336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bijna onvergeeflijk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fouten vergev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geprobeerd o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onvervangbare person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te vervang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om onvergetelijk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personen te verget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8000"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Afbeelding 1" descr="839ff8c7a710.png"/>
          <p:cNvPicPr/>
          <p:nvPr/>
        </p:nvPicPr>
        <p:blipFill>
          <a:blip r:embed="rId1"/>
          <a:stretch/>
        </p:blipFill>
        <p:spPr>
          <a:xfrm>
            <a:off x="-4680" y="0"/>
            <a:ext cx="8034120" cy="5003640"/>
          </a:xfrm>
          <a:prstGeom prst="rect">
            <a:avLst/>
          </a:prstGeom>
          <a:ln w="0">
            <a:noFill/>
          </a:ln>
        </p:spPr>
      </p:pic>
      <p:sp>
        <p:nvSpPr>
          <p:cNvPr id="293" name="Rechthoek 2"/>
          <p:cNvSpPr/>
          <p:nvPr/>
        </p:nvSpPr>
        <p:spPr>
          <a:xfrm>
            <a:off x="0" y="190440"/>
            <a:ext cx="641844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080" bIns="37080" anchor="t">
            <a:spAutoFit/>
          </a:bodyPr>
          <a:p>
            <a:pPr marL="277920" indent="-27792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ik heb impulsief gehandel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ik werd ontgoocheld door mensen van wie ik het niet verwachte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maar ik heb zelf ook mensen ontgoocheld</a:t>
            </a:r>
            <a:br>
              <a:rPr sz="3300"/>
            </a:b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   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60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800"/>
                            </p:stCondLst>
                            <p:childTnLst>
                              <p:par>
                                <p:cTn id="56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Afbeelding 1" descr="839ff8c7a710.png"/>
          <p:cNvPicPr/>
          <p:nvPr/>
        </p:nvPicPr>
        <p:blipFill>
          <a:blip r:embed="rId1"/>
          <a:stretch/>
        </p:blipFill>
        <p:spPr>
          <a:xfrm>
            <a:off x="0" y="0"/>
            <a:ext cx="8066160" cy="5003640"/>
          </a:xfrm>
          <a:prstGeom prst="rect">
            <a:avLst/>
          </a:prstGeom>
          <a:ln w="0">
            <a:noFill/>
          </a:ln>
        </p:spPr>
      </p:pic>
      <p:sp>
        <p:nvSpPr>
          <p:cNvPr id="295" name="Rechthoek 2"/>
          <p:cNvSpPr/>
          <p:nvPr/>
        </p:nvSpPr>
        <p:spPr>
          <a:xfrm>
            <a:off x="0" y="3294000"/>
            <a:ext cx="5564160" cy="15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080" bIns="37080" anchor="t">
            <a:spAutoFit/>
          </a:bodyPr>
          <a:p>
            <a:pPr marL="277920" indent="-2779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ik heb iemand in mijn armen gehouden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om hem te bescherm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wheel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Afbeelding 1" descr="839ff8c7a710.png"/>
          <p:cNvPicPr/>
          <p:nvPr/>
        </p:nvPicPr>
        <p:blipFill>
          <a:blip r:embed="rId1"/>
          <a:stretch/>
        </p:blipFill>
        <p:spPr>
          <a:xfrm>
            <a:off x="3240" y="0"/>
            <a:ext cx="8023320" cy="5003640"/>
          </a:xfrm>
          <a:prstGeom prst="rect">
            <a:avLst/>
          </a:prstGeom>
          <a:ln w="0">
            <a:noFill/>
          </a:ln>
        </p:spPr>
      </p:pic>
      <p:sp>
        <p:nvSpPr>
          <p:cNvPr id="297" name="Rechthoek 2"/>
          <p:cNvSpPr/>
          <p:nvPr/>
        </p:nvSpPr>
        <p:spPr>
          <a:xfrm>
            <a:off x="1564200" y="504720"/>
            <a:ext cx="46742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 marL="277920" indent="-2779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ik heb gelach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toen ik niet moch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200"/>
                            </p:stCondLst>
                            <p:childTnLst>
                              <p:par>
                                <p:cTn id="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Afbeelding 1" descr="839ff8c7a710.pn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299" name="Rechthoek 2"/>
          <p:cNvSpPr/>
          <p:nvPr/>
        </p:nvSpPr>
        <p:spPr>
          <a:xfrm>
            <a:off x="3994920" y="295200"/>
            <a:ext cx="4082760" cy="17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ik heb vrienden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gemaakt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voor het lev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amond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Afbeelding 1" descr="839ff8c7a710.pn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01" name="Tekstvak 4"/>
          <p:cNvSpPr/>
          <p:nvPr/>
        </p:nvSpPr>
        <p:spPr>
          <a:xfrm>
            <a:off x="2268720" y="3222720"/>
            <a:ext cx="5957640" cy="15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bemin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werd terugbemind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maar ik werd ook verstot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split dir="out" orient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Afbeelding 1" descr="492608-1a9306f7980f077359deda548c5332bb.jp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03" name="Tekstvak 2"/>
          <p:cNvSpPr/>
          <p:nvPr/>
        </p:nvSpPr>
        <p:spPr>
          <a:xfrm>
            <a:off x="-300600" y="3710160"/>
            <a:ext cx="6032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werd bemind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kon niet  terugbeminn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wipe dir="u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30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3771"/>
          <p:cNvPicPr/>
          <p:nvPr/>
        </p:nvPicPr>
        <p:blipFill>
          <a:blip r:embed="rId1"/>
          <a:stretch/>
        </p:blipFill>
        <p:spPr>
          <a:xfrm>
            <a:off x="6480" y="0"/>
            <a:ext cx="8016840" cy="5003640"/>
          </a:xfrm>
          <a:prstGeom prst="rect">
            <a:avLst/>
          </a:prstGeom>
          <a:ln w="0">
            <a:noFill/>
          </a:ln>
        </p:spPr>
      </p:pic>
      <p:sp>
        <p:nvSpPr>
          <p:cNvPr id="305" name="Tekstvak 3"/>
          <p:cNvSpPr/>
          <p:nvPr/>
        </p:nvSpPr>
        <p:spPr>
          <a:xfrm>
            <a:off x="101160" y="2789280"/>
            <a:ext cx="798012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dikwijls geroepen van vreugd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de liefde geken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eeuwige beloften gedaan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maar vaak werd mijn hart gebrok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randomBar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08:26:05Z</dcterms:created>
  <dc:creator>vanzuuren</dc:creator>
  <dc:description/>
  <cp:keywords>Lidia</cp:keywords>
  <dc:language>en-US</dc:language>
  <cp:lastModifiedBy>vanzuuren</cp:lastModifiedBy>
  <dcterms:modified xsi:type="dcterms:W3CDTF">2010-09-27T09:13:59Z</dcterms:modified>
  <cp:revision>40</cp:revision>
  <dc:subject/>
  <dc:title>Leven</dc:title>
</cp:coreProperties>
</file>