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4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3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12%20-%20Life's%20Storybook%20Cover.wav" ContentType="audio/x-wav"/>
  <Override PartName="/ppt/media/image2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8027988" cy="5003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395-F87D-4370-997B-B3DF976E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2E2B-3E61-40A3-9731-2C3FB760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4BD8-2869-4271-B730-6F7C0FDB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C1E4-A0FD-4CF9-B77D-811B0777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5C16-1B7A-46AD-B17B-A837BCA8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A99D-C677-4885-AA1A-FA1F9B8B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C1F9-7696-4DCA-947C-DADB9BC4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1AD7-2F15-41BB-A348-6BE3B903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EE93-3B44-4797-A75B-EDD7D158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1140-F6B7-4AF7-9F56-828D258D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E172-124A-4D3E-83CE-D1F1D591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D399-CF68-44FA-81D8-EC842B7D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29BA-D8C7-44CA-981C-FDEE7621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8FC2-F680-4DA7-B67E-790E5F52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4A81-14D1-4D2A-B03A-1CCE5C7E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AAF2-BCE3-4425-8052-016878CA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CE28-4CE1-4E81-9298-4F9714DD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3B87A-4BF2-48B7-B4A9-B113F8E8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431FA-F7D4-408B-AF53-85AE3009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01CD2-A767-4510-B8F7-39C2F354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FC100-AD31-465A-B36B-5F2EF690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642A7-26B5-4858-BF69-05F005ED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EAA-18C7-4511-94C3-E545C056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1C620-AB34-43CA-9479-F44F5A8F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DBC35-5C9F-457A-B38E-AF2CFE11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3682D-3AAC-42EF-85F2-DDCA1CBD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C1C76-36A5-402A-9A34-DE8CD1BD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74042-0124-48C7-AEB5-FC9ED4C2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07308-8CE3-4A21-AB3B-5F9BA7CF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5EE50-4B37-4184-B96E-DA8191B2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B5F55-FB72-439F-904A-364CBD97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B4A09-8C46-4090-BAEA-FFC8953D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88544-42F0-433B-9623-7510E0CD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5B2-E2D6-4AB1-B28C-273558D7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1A80E-C8C6-431D-B745-8990E8B1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88212-5F5E-4021-8801-4645E88A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1B466-61F6-44BD-92CA-84D9985F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C9916-4C7E-4358-B9CD-F588F81C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9726B-8FAD-48B2-9009-2699963B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B4387-7814-42BB-A386-DB675801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C6F69-79A4-4B2B-8A9D-6DF7CDF1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1D58F-90A7-41D9-975A-15BA5AE2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6C670-753F-4A6D-A2B6-E05392D1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57191-583E-4214-B4C0-34084D6D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B0A0-66CA-4A10-90A7-2CF93F10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548B3-DB5D-4736-842C-34470FFD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372B7-6252-4846-B882-01AEB9D5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F07D7-B92D-465B-920D-4B0FCD0F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8FBFD-DFAA-46E8-AAAA-90D45BD4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65F4D-8689-4157-B8ED-B590AE2F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D1A9F-C63C-4D66-99AB-F6FC1C9C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1321B-A586-4B29-BF53-8154279F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58EE1-33A9-4683-9459-9BED60AA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4B320-7DEE-4611-B8C4-F47F3E08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26358-6BF5-42EB-BEB3-3A2D5431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75A3-9EBA-4BFC-A567-2294BC92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23CB4-11A1-47A8-B2CF-9BE7D903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0DD48-2F33-487E-A092-468715B0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F2A0F-A31B-4EC5-8070-7405B981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9EB8C-03E7-4DB6-91D5-C77D4C82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0564E-35C1-4CAB-8B45-180D0FF2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70F9F-34C3-4A9A-AB2A-EEFE2E12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0652B-24D1-4BAF-B5B0-23378686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A046A-A7F3-475E-B475-0F2B9A92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C45D3-4631-423A-95DD-82933411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CA1EC-5F1B-4400-A3A6-CFB128F6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0D61-8BD9-4E35-BCAC-F085EC92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5CB75-10F4-47B4-A989-16F2EE69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7CF3B-0F81-4358-953E-1B43BA63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1A5C0-AC74-440C-891D-6A9376A6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4B756-B5EC-44A0-AC60-20F7B894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9E337-D743-414B-B106-DED08F49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CEB7B-C2ED-4A9A-98E7-F9C1A3DF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0F5C2-DBFE-49E3-B136-3B20EC01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8B6DF-AF1E-42AB-8C64-6B8D59BD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24725-F4BC-44C4-8E1F-5CBE9D3C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91B6F-16C6-422A-9FF1-97A549AD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7C9C-32A3-46F0-A834-C702B45D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1ED90-31FD-4E8F-AFBF-BBB0A867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60BC1-CE49-4C04-85BB-34C62216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A31F9-1E41-440B-BFC5-412E3907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0A9A6-16B0-4E66-BEEA-03781E23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7F7EE-FB14-4B8C-B667-4D3356F9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048-E3FE-4F3D-9B0E-6FA046A2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92560" indent="-22716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1520" indent="-1818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275480" indent="-1818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640880" indent="-1818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640880" indent="-1818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640880" indent="-1818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1400" y="4636800"/>
            <a:ext cx="1873080" cy="266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4636800"/>
            <a:ext cx="2543040" cy="266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54600" y="4636800"/>
            <a:ext cx="1873440" cy="266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89A0-BDD7-4766-9E3C-68EEEB79280D}" type="slidenum">
              <a:rPr b="0" lang="nl-NL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6F51-4AB7-4DFB-9E69-D5213908AD03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471E-EC3B-49CC-8E3F-E2E6DE5150DE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4F2D-07A7-4D8B-A32E-DCCAEF724DF2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9BA6-B810-43A7-BDA7-7C7DE3ACD352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FCCA-7F4A-4315-9F77-6889575CB83C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B490-169D-4F26-9DC0-98474B4363D5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12%20-%20Life&apos;s%20Storybook%20Cover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hyperlink" Target="http://blog.seniorennet.be/lidia_powerpointblog/" TargetMode="External"/><Relationship Id="rId4" Type="http://schemas.openxmlformats.org/officeDocument/2006/relationships/image" Target="../media/image21.png"/><Relationship Id="rId5" Type="http://schemas.openxmlformats.org/officeDocument/2006/relationships/hyperlink" Target="mailto:lidiav9@gmail.com" TargetMode="External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itel 1" descr=""/>
          <p:cNvPicPr/>
          <p:nvPr/>
        </p:nvPicPr>
        <p:blipFill>
          <a:blip r:embed="rId2"/>
          <a:stretch/>
        </p:blipFill>
        <p:spPr>
          <a:xfrm>
            <a:off x="585720" y="2176560"/>
            <a:ext cx="6973920" cy="1090440"/>
          </a:xfrm>
          <a:prstGeom prst="rect">
            <a:avLst/>
          </a:prstGeom>
          <a:ln w="0">
            <a:noFill/>
          </a:ln>
        </p:spPr>
      </p:pic>
      <p:pic>
        <p:nvPicPr>
          <p:cNvPr id="288" name="Ondertitel 2" descr=""/>
          <p:cNvPicPr/>
          <p:nvPr/>
        </p:nvPicPr>
        <p:blipFill>
          <a:blip r:embed="rId3"/>
          <a:stretch/>
        </p:blipFill>
        <p:spPr>
          <a:xfrm>
            <a:off x="4108320" y="-6480"/>
            <a:ext cx="3926160" cy="1359000"/>
          </a:xfrm>
          <a:prstGeom prst="rect">
            <a:avLst/>
          </a:prstGeom>
          <a:ln w="0">
            <a:noFill/>
          </a:ln>
        </p:spPr>
      </p:pic>
      <p:sp>
        <p:nvSpPr>
          <p:cNvPr id="289" name="Tekstvak 3"/>
          <p:cNvSpPr/>
          <p:nvPr/>
        </p:nvSpPr>
        <p:spPr>
          <a:xfrm>
            <a:off x="241920" y="130320"/>
            <a:ext cx="4540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uziek: Isla Grant – Life’s Storybook C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wedge/>
    <p:sndAc>
      <p:stSnd>
        <p:snd r:embed="rId4" name="12%20-%20Life's%20Storybook%20Cov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image006667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07" name="Tekstvak 3"/>
          <p:cNvSpPr/>
          <p:nvPr/>
        </p:nvSpPr>
        <p:spPr>
          <a:xfrm>
            <a:off x="-166680" y="295200"/>
            <a:ext cx="8089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geweend bij het luisteren naar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muziek en het bekijken van foto’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Afbeelding 2" descr="492944-ce022fd77ee2450ba4b4ffc005a4fae8.jpg"/>
          <p:cNvPicPr/>
          <p:nvPr/>
        </p:nvPicPr>
        <p:blipFill>
          <a:blip r:embed="rId1"/>
          <a:stretch/>
        </p:blipFill>
        <p:spPr>
          <a:xfrm>
            <a:off x="0" y="1440"/>
            <a:ext cx="8062920" cy="5002200"/>
          </a:xfrm>
          <a:prstGeom prst="rect">
            <a:avLst/>
          </a:prstGeom>
          <a:ln w="0">
            <a:noFill/>
          </a:ln>
        </p:spPr>
      </p:pic>
      <p:sp>
        <p:nvSpPr>
          <p:cNvPr id="309" name="Tekstvak 4"/>
          <p:cNvSpPr/>
          <p:nvPr/>
        </p:nvSpPr>
        <p:spPr>
          <a:xfrm>
            <a:off x="-149760" y="138240"/>
            <a:ext cx="808992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getelefoneer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kel om een stem te hor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werd al verliefd bij het zien van e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  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glimlach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blinds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9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2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5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8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Afbeelding 1" descr="492941-286dbcc01bb4f94af1c1a6a527883171.jp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11" name="Tekstvak 2"/>
          <p:cNvSpPr/>
          <p:nvPr/>
        </p:nvSpPr>
        <p:spPr>
          <a:xfrm>
            <a:off x="-95040" y="3973680"/>
            <a:ext cx="8204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dacht te sterven van heimwee  en…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split dir="out" orient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Afbeelding 1" descr="393823-b54ebcf8fd48cd4d7bd1d43fba7816a0.jpg"/>
          <p:cNvPicPr/>
          <p:nvPr/>
        </p:nvPicPr>
        <p:blipFill>
          <a:blip r:embed="rId1"/>
          <a:stretch/>
        </p:blipFill>
        <p:spPr>
          <a:xfrm>
            <a:off x="-25560" y="0"/>
            <a:ext cx="8055000" cy="5003640"/>
          </a:xfrm>
          <a:prstGeom prst="rect">
            <a:avLst/>
          </a:prstGeom>
          <a:ln w="0">
            <a:noFill/>
          </a:ln>
        </p:spPr>
      </p:pic>
      <p:sp>
        <p:nvSpPr>
          <p:cNvPr id="313" name="Rechthoek 2"/>
          <p:cNvSpPr/>
          <p:nvPr/>
        </p:nvSpPr>
        <p:spPr>
          <a:xfrm>
            <a:off x="474840" y="138240"/>
            <a:ext cx="7175160" cy="26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... ik had schrik om een heel bijzonder   iemand te verliezen,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(die ik uiteindelijk verloren heb)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maar ik heb het overleefd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plus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jdelijke aanduiding voor inhoud 6" descr="578725-53d64b42236d49c5e19097c3ae4954c6.jp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15" name="Rechthoek 2"/>
          <p:cNvSpPr/>
          <p:nvPr/>
        </p:nvSpPr>
        <p:spPr>
          <a:xfrm>
            <a:off x="220680" y="452520"/>
            <a:ext cx="752472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ik leef nog steed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ik laat het leven niet links ligg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dat moet jij ook niet do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hthoek 3"/>
          <p:cNvSpPr/>
          <p:nvPr/>
        </p:nvSpPr>
        <p:spPr>
          <a:xfrm>
            <a:off x="860400" y="3657600"/>
            <a:ext cx="2607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900" spc="-1" strike="noStrike">
                <a:solidFill>
                  <a:srgbClr val="ffffff"/>
                </a:solidFill>
                <a:latin typeface="Bradley Hand ITC"/>
              </a:rPr>
              <a:t>LEEF!!!!!!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blinds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Afbeelding 1" descr="418645-02bfbe93d700db72e421c4e057e28a32.jp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18" name="Rechthoek 2"/>
          <p:cNvSpPr/>
          <p:nvPr/>
        </p:nvSpPr>
        <p:spPr>
          <a:xfrm>
            <a:off x="284040" y="138240"/>
            <a:ext cx="7524720" cy="57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080" bIns="37080" anchor="t">
            <a:spAutoFit/>
          </a:bodyPr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wat echt goed i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dat is vechten met overtuiging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het leven koesteren en passioneel lev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met klasse verliezen en overwinnen door te durven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want de wereld behoort aan de durvers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HET LEVEN IS TE BELANGRIJK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OM ONBETEKENEND TE ZIJN !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comb dir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800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3100"/>
                            </p:stCondLst>
                            <p:childTnLst>
                              <p:par>
                                <p:cTn id="2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ekstvak 1" descr=""/>
          <p:cNvPicPr/>
          <p:nvPr/>
        </p:nvPicPr>
        <p:blipFill>
          <a:blip r:embed="rId2"/>
          <a:stretch/>
        </p:blipFill>
        <p:spPr>
          <a:xfrm>
            <a:off x="-49320" y="-49320"/>
            <a:ext cx="3462480" cy="1603440"/>
          </a:xfrm>
          <a:prstGeom prst="rect">
            <a:avLst/>
          </a:prstGeom>
          <a:ln w="0">
            <a:noFill/>
          </a:ln>
        </p:spPr>
      </p:pic>
      <p:pic>
        <p:nvPicPr>
          <p:cNvPr id="320" name="Afbeelding 2" descr="9d2e356db1ad.png">
            <a:hlinkClick r:id="rId3"/>
          </p:cNvPr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0" y="3451320"/>
            <a:ext cx="2554200" cy="1552320"/>
          </a:xfrm>
          <a:prstGeom prst="rect">
            <a:avLst/>
          </a:prstGeom>
          <a:ln w="0">
            <a:noFill/>
          </a:ln>
        </p:spPr>
      </p:pic>
      <p:pic>
        <p:nvPicPr>
          <p:cNvPr id="321" name="Afbeelding 3" descr="4ca1ae6307d0.png">
            <a:hlinkClick r:id="rId5"/>
          </p:cNvPr>
          <p:cNvPicPr/>
          <p:nvPr/>
        </p:nvPicPr>
        <p:blipFill>
          <a:blip r:embed="rId6">
            <a:lum contrast="10000"/>
          </a:blip>
          <a:stretch/>
        </p:blipFill>
        <p:spPr>
          <a:xfrm>
            <a:off x="6543720" y="3867120"/>
            <a:ext cx="1257120" cy="789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7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7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Afbeelding 1" descr="839ff8c7a710.png"/>
          <p:cNvPicPr/>
          <p:nvPr/>
        </p:nvPicPr>
        <p:blipFill>
          <a:blip r:embed="rId1"/>
          <a:stretch/>
        </p:blipFill>
        <p:spPr>
          <a:xfrm>
            <a:off x="220680" y="165240"/>
            <a:ext cx="7397640" cy="4838400"/>
          </a:xfrm>
          <a:prstGeom prst="rect">
            <a:avLst/>
          </a:prstGeom>
          <a:ln w="0">
            <a:noFill/>
          </a:ln>
        </p:spPr>
      </p:pic>
      <p:sp>
        <p:nvSpPr>
          <p:cNvPr id="291" name="Tekstvak 2"/>
          <p:cNvSpPr/>
          <p:nvPr/>
        </p:nvSpPr>
        <p:spPr>
          <a:xfrm>
            <a:off x="1418040" y="485640"/>
            <a:ext cx="609336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bijna onvergeeflijk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fouten vergev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geprobeerd o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onvervangbare person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te vervang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om onvergetelijk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personen te verget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8000"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Afbeelding 1" descr="839ff8c7a710.png"/>
          <p:cNvPicPr/>
          <p:nvPr/>
        </p:nvPicPr>
        <p:blipFill>
          <a:blip r:embed="rId1"/>
          <a:stretch/>
        </p:blipFill>
        <p:spPr>
          <a:xfrm>
            <a:off x="-4680" y="0"/>
            <a:ext cx="8034120" cy="5003640"/>
          </a:xfrm>
          <a:prstGeom prst="rect">
            <a:avLst/>
          </a:prstGeom>
          <a:ln w="0">
            <a:noFill/>
          </a:ln>
        </p:spPr>
      </p:pic>
      <p:sp>
        <p:nvSpPr>
          <p:cNvPr id="293" name="Rechthoek 2"/>
          <p:cNvSpPr/>
          <p:nvPr/>
        </p:nvSpPr>
        <p:spPr>
          <a:xfrm>
            <a:off x="0" y="190440"/>
            <a:ext cx="641844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080" bIns="37080" anchor="t">
            <a:spAutoFit/>
          </a:bodyPr>
          <a:p>
            <a:pPr marL="277920" indent="-27792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ik heb impulsief gehandel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ik werd ontgoocheld door mensen van wie ik het niet verwachte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maar ik heb zelf ook mensen ontgoocheld</a:t>
            </a:r>
            <a:br>
              <a:rPr sz="3300"/>
            </a:b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   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60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800"/>
                            </p:stCondLst>
                            <p:childTnLst>
                              <p:par>
                                <p:cTn id="56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Afbeelding 1" descr="839ff8c7a710.png"/>
          <p:cNvPicPr/>
          <p:nvPr/>
        </p:nvPicPr>
        <p:blipFill>
          <a:blip r:embed="rId1"/>
          <a:stretch/>
        </p:blipFill>
        <p:spPr>
          <a:xfrm>
            <a:off x="0" y="0"/>
            <a:ext cx="8066160" cy="5003640"/>
          </a:xfrm>
          <a:prstGeom prst="rect">
            <a:avLst/>
          </a:prstGeom>
          <a:ln w="0">
            <a:noFill/>
          </a:ln>
        </p:spPr>
      </p:pic>
      <p:sp>
        <p:nvSpPr>
          <p:cNvPr id="295" name="Rechthoek 2"/>
          <p:cNvSpPr/>
          <p:nvPr/>
        </p:nvSpPr>
        <p:spPr>
          <a:xfrm>
            <a:off x="0" y="3294000"/>
            <a:ext cx="5564160" cy="15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080" bIns="37080" anchor="t">
            <a:spAutoFit/>
          </a:bodyPr>
          <a:p>
            <a:pPr marL="277920" indent="-2779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ik heb iemand in mijn armen gehouden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om hem te bescherm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wheel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Afbeelding 1" descr="839ff8c7a710.png"/>
          <p:cNvPicPr/>
          <p:nvPr/>
        </p:nvPicPr>
        <p:blipFill>
          <a:blip r:embed="rId1"/>
          <a:stretch/>
        </p:blipFill>
        <p:spPr>
          <a:xfrm>
            <a:off x="3240" y="0"/>
            <a:ext cx="8023320" cy="5003640"/>
          </a:xfrm>
          <a:prstGeom prst="rect">
            <a:avLst/>
          </a:prstGeom>
          <a:ln w="0">
            <a:noFill/>
          </a:ln>
        </p:spPr>
      </p:pic>
      <p:sp>
        <p:nvSpPr>
          <p:cNvPr id="297" name="Rechthoek 2"/>
          <p:cNvSpPr/>
          <p:nvPr/>
        </p:nvSpPr>
        <p:spPr>
          <a:xfrm>
            <a:off x="1564200" y="504720"/>
            <a:ext cx="46742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 marL="277920" indent="-2779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ik heb gelach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toen ik niet moch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200"/>
                            </p:stCondLst>
                            <p:childTnLst>
                              <p:par>
                                <p:cTn id="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Afbeelding 1" descr="839ff8c7a710.pn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299" name="Rechthoek 2"/>
          <p:cNvSpPr/>
          <p:nvPr/>
        </p:nvSpPr>
        <p:spPr>
          <a:xfrm>
            <a:off x="3994920" y="295200"/>
            <a:ext cx="4082760" cy="17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ik heb vrienden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gemaakt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voor het lev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amond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Afbeelding 1" descr="839ff8c7a710.pn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01" name="Tekstvak 4"/>
          <p:cNvSpPr/>
          <p:nvPr/>
        </p:nvSpPr>
        <p:spPr>
          <a:xfrm>
            <a:off x="2268720" y="3222720"/>
            <a:ext cx="5957640" cy="15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bemin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werd terugbemind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maar ik werd ook verstot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split dir="out" orient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Afbeelding 1" descr="492608-1a9306f7980f077359deda548c5332bb.jp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03" name="Tekstvak 2"/>
          <p:cNvSpPr/>
          <p:nvPr/>
        </p:nvSpPr>
        <p:spPr>
          <a:xfrm>
            <a:off x="-300600" y="3710160"/>
            <a:ext cx="6032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werd bemind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kon niet  terugbeminn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wipe dir="u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30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3771"/>
          <p:cNvPicPr/>
          <p:nvPr/>
        </p:nvPicPr>
        <p:blipFill>
          <a:blip r:embed="rId1"/>
          <a:stretch/>
        </p:blipFill>
        <p:spPr>
          <a:xfrm>
            <a:off x="6480" y="0"/>
            <a:ext cx="8016840" cy="5003640"/>
          </a:xfrm>
          <a:prstGeom prst="rect">
            <a:avLst/>
          </a:prstGeom>
          <a:ln w="0">
            <a:noFill/>
          </a:ln>
        </p:spPr>
      </p:pic>
      <p:sp>
        <p:nvSpPr>
          <p:cNvPr id="305" name="Tekstvak 3"/>
          <p:cNvSpPr/>
          <p:nvPr/>
        </p:nvSpPr>
        <p:spPr>
          <a:xfrm>
            <a:off x="101160" y="2789280"/>
            <a:ext cx="798012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dikwijls geroepen van vreugd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de liefde geken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eeuwige beloften gedaan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maar vaak werd mijn hart gebrok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randomBar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08:26:05Z</dcterms:created>
  <dc:creator>vanzuuren</dc:creator>
  <dc:description/>
  <cp:keywords>Lidia</cp:keywords>
  <dc:language>en-US</dc:language>
  <cp:lastModifiedBy>vanzuuren</cp:lastModifiedBy>
  <dcterms:modified xsi:type="dcterms:W3CDTF">2010-09-27T09:13:59Z</dcterms:modified>
  <cp:revision>40</cp:revision>
  <dc:subject/>
  <dc:title>Leven</dc:title>
</cp:coreProperties>
</file>