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Abel_Je%20pense%20%C3%A0%20toi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F4EA-97AA-4C6D-B8CF-BE7BA832AE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4EF7-93DB-44C3-B9C3-03AF1066D1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BBF-0B59-4F8D-9C66-4AE6E1F7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4CC-D33C-4F6B-94E5-3E1ADCA0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7E889-9886-4859-B097-80FD1838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06060-9B48-4D2F-8FF8-7A701EF7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0E480-ADB8-4C9C-A339-D7F70F21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2187D-1611-4FA5-8B6B-34082045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ACE73-03D5-4B0B-B65A-39CAC8E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A9485-2BAF-4204-B486-D74A7E90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19808-61D6-490E-B754-48072A88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49126-DD66-41CB-B29A-E9CB1983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9AF2D-C4D1-4BDB-8705-C4EC7CD0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144FE-741F-4FD5-A727-E12A8593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138-9A6C-49A6-B8D9-B6B51D6F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0B178-1D1D-4F6B-8573-5392FB3A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AE734-FBC7-4A88-B8C3-C6C1EEA9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F4516-5EAE-4E67-ABF2-C92D302B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D14F3-D5A6-44D8-811C-DE69E753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5666F-D7C9-45B1-9050-B663ABBD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A15F2-A3C8-40B9-AAFF-D8D59629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D0CFF-AD7C-4D30-9F28-608F237D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C7C88-658E-4098-BAFB-A401B305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78C06-AB1B-409F-8B44-55C220D0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6C3C6-090D-45E2-8341-A1A6CB5E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FB9-48C3-4385-BDA2-5927977F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451DC-A05A-471A-8719-F75374D6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5FD3F-03F6-44CC-8D73-A81EB600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6A518-839C-44A3-BFAE-A62FAC29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2D892-ED7A-4122-B814-62A6BB94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5AB81-23DF-450F-B07A-AA548FD4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BB050-DB0B-4770-9E43-B38A0692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484D7-3934-401F-ABC2-26CE6669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0D754-2D2B-4725-84FE-2A5A5223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3071D-7A30-4EB6-965A-20DF2AE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1BBD4-9FDE-43C7-8469-70D3D54A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F022-3120-473D-80DA-93770973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1761B-536F-4D53-B0E1-FC811FB4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A8F6D-AB82-4BFE-958B-6B382305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0075B-74B2-4AE1-A36E-72C0776E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213D3-BD78-4502-B120-047F9DCC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3DD44-B869-4E64-9DE1-1BFF1CE4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FEC80-C6F4-4E7C-86EC-04171BCF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2478F-58EA-4355-9DBB-5F8E47E8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42663-AB95-4439-A055-47B320C8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84871-1BFB-4E92-BE0C-114403B6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6913A-3503-4CE7-BD4A-DF56C422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C969-EBF2-47FC-96DF-94778B59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3CE27-70CD-44F8-9361-40054C2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8A8A9-88B4-4F0F-9DB5-622D481F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830FF-AC60-4807-84D4-53989308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6B108-DED3-4D7D-99CA-FAAFE9C2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9BFDC-3F3A-4B5B-A35E-661935EE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B4A2-C080-40D4-B103-AE72493F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D37D-592D-4E66-9824-BB6AD3A0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06FA-1BBB-4D58-9EF0-0895224D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CDFC-589F-4139-9C99-8995F607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E099-5558-4497-932B-B0EA783F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955-E837-4C12-81B2-6CD0EFD1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C65D-177E-490B-B731-B755C9E4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07D1-04E6-40B6-904B-D0FCE55C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BF83-6DD5-4E9B-A5B0-6A0FF014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19D2-4491-412A-A68B-F290393C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7426-2153-4054-879F-B040EDD0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929E-C1ED-43BE-B861-5D075E82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2BC4-324B-4FE0-AA2C-19321041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C288-8BA8-4672-BA3F-E4F237CC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B893F-6D11-41CD-BE5A-0F142B1F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B78A1-6361-401E-8007-DAE9CD0F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43D-19AE-4D51-B5AA-E85E923E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CE155-293B-41BE-A19D-59198D0D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ADD5-5D0C-4211-9785-81B2D06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F6DE4-9368-49F0-978F-A46A889A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75A8-09AC-4051-A1FB-E54233CF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9617-40D0-474F-93D6-76C89782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35E2-96C4-44FB-A774-5CFD8EDD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1DFA-934C-4796-B033-C68F45FB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DCE1-00D4-482F-8920-63FC0479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40E09-5192-45FB-A177-80432555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D755B-73C6-430F-91A5-6E24B57C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5D5-642C-4DB9-A612-8F04EEE6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E3E4D-7372-44F4-9D58-53392400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8567A-F758-4E10-88A9-8C794F30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04BC-AA0C-43AE-9E3F-C2D68722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56B7E-E1C9-45C8-9AC8-1A8BF7DC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C7CD-035C-44AC-B9DC-479E6AF4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BD3BC-3C3E-44EF-A186-A4FA8F77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2B20-EB17-48F8-97E8-F2302B85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8AC3-8C1F-4E88-8FAE-EA7DC4E1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BABAB-42B4-4E6A-A72E-ACFF2835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7F544-C580-46EF-A5DA-E2C3A8AA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C5F-D403-41EF-8CF1-9FCD04DD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81A4C-A90C-425A-B777-FA7EED63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CB54D-24F3-4B14-970A-DAAF697C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09301-D3B2-42D1-A05D-839E677B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65855-F20B-4CAC-80B3-3C3039A5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58E94-0A9F-4689-80C8-C8194FEE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7369F-99AE-4A9C-9752-25F8006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095DB-EB48-44A0-9E43-9AF04564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35E87-6197-459B-BB74-554F624F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F09FC-87C8-4699-9FAF-29297A5D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547AC-085B-4FBA-AB46-5BA99A62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A9D-1C61-4FC3-87F2-735126C6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B84E6-A53E-438F-AAD9-93DBEF8A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3120D-D9B3-476A-A3A5-87CF827D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A7352-6C12-45AE-87EF-43793B7F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D54F0-F53D-49A6-B489-80907B15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D5F9-A181-4B30-8AE7-F49EDF36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CFA07-71DB-43C0-A718-45AB9674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B7800-E0E5-489B-BCB8-AB7E80A4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1CDCF-1D81-4B42-A4E3-C338A977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B273E-0065-4728-B9FB-E79005C5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19000-2E25-4D4A-B34A-1967DA39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CE0-778B-4FA0-916A-481E3F9D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1E2A5-9E89-4E55-8CB1-2EA24BD5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F6292-7325-42A1-8ECB-0AB3F0DA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863A-5C25-49BA-A9AE-19584469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3E883-4D1C-4D2C-98C1-9CC1F3A0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319CE-8D58-4FAF-AE4B-4874F81E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1AE34-DF4E-4E2D-BC58-F5185A5B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EB0B9-093C-4CC1-9A00-F9C0CCF0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BC032-7219-4F48-B8E0-535BFCFB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C8472-554E-472C-8220-D8AAFBA7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5DC9-178F-49B2-BE14-B846431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3A7-ED93-492B-9EEA-71E6F997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4466D-8A7B-4C20-9B4D-38C2E1B7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F52C6-C7E3-463F-BF0D-79140FB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1C729-2BA3-46C5-9BB3-402DF026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49925-6764-473D-BCB7-93DB3422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A1F1E-032B-4D56-BD6F-905AE8F7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664C0-A674-4973-9849-6D861B43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0B234-FDDF-4FE7-873D-D9056D3A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3E27F-A4BF-422E-B4C7-B6FB466A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A3B0E-B114-4EA8-A31E-09206ED6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C7D7D-020B-4487-806E-63D3D377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554-F2AE-4046-8D7B-EF7908AF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44E07-7A5D-4E95-A1DD-19587F43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A187A-F25D-4E9E-B232-B71F2CBD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4A636-5B09-41FF-996A-DF113E7E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2C3B7-7269-44FE-B162-CE36E06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2B473-1D56-42E4-9108-69E11C82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DC626-86EB-4791-ACB5-345597E8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DEBA3-A980-4479-8A30-13627276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580A5-E763-43DB-B062-FEE9E431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8301D-38C0-48B7-A206-46785771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6CCD7-C131-4A92-B4D5-55285AF9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0202-1887-44C8-BB9F-C6AE428AFA31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8DF0-B2A0-4CA3-B554-2787593BFB3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A05F-F5FF-468B-8761-F58A272D3EF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CAF1-CEA9-47C7-A31B-791EEBFC270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C13-C884-4759-92F6-C167469CA71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FF86-C380-411E-9A4D-EB60CFDB6529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7EFF-96AC-4EF4-8732-912315D8C6CE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823A-50B6-4BC0-9154-B84BE9DF4FA1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5E93-7DD3-45FB-8529-13F7D7D40EF2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DD35-82CB-43D2-A8A6-D6417195CA9A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A8CC-508B-4F70-9F97-92258E0EDFA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FB6-7933-4DC6-ADF0-55C3CD73DE5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bel_Je%20pense%20&#224;%20toi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C:\Documents and Settings\Lise\My Documents\My Pictures\Fond début ou fin\fond caresse de la vi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179280" y="5950080"/>
            <a:ext cx="252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cc"/>
                </a:solidFill>
                <a:latin typeface="Times New Roman"/>
              </a:rPr>
              <a:t>Muziek: Je pense à t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CA" sz="1800" spc="-1" strike="noStrike">
                <a:solidFill>
                  <a:srgbClr val="ffffcc"/>
                </a:solidFill>
                <a:latin typeface="Times New Roman"/>
              </a:rPr>
              <a:t>Richard 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ZoneTexte 3"/>
          <p:cNvSpPr/>
          <p:nvPr/>
        </p:nvSpPr>
        <p:spPr>
          <a:xfrm flipV="1" rot="10800000">
            <a:off x="611280" y="962640"/>
            <a:ext cx="78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Strelingen van het Le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/>
    <p:sndAc>
      <p:stSnd>
        <p:snd r:embed="rId2" name="Abel_Je%20pense%20%C3%A0%20to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C:\Documents and Settings\Lise\My Documents\My Pictures\Photos\Fleurs\Roses\rose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026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4000680" y="549360"/>
            <a:ext cx="481932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naar de ander kijken, met de ogen van je h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Je kan liegen met woorden, maar niet met je oge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3" descr="C:\Documents and Settings\Lise\My Documents\My Pictures\Photos\Fleurs\Roses\rose oran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3780000" y="-963720"/>
            <a:ext cx="5184720" cy="52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kunnen zegge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« Ik hou van je 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Waarom wachten tot iemand sterft, om te zeggen dat je van hem/haar houdt.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C:\Documents and Settings\Lise\My Documents\My Pictures\Photos\Fleurs\Roses\rosegouttelett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5"/>
          <p:cNvSpPr/>
          <p:nvPr/>
        </p:nvSpPr>
        <p:spPr>
          <a:xfrm>
            <a:off x="4000680" y="0"/>
            <a:ext cx="50353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niet oordelen,niet bekritiseren, niet veroordelen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Het is kunnen zegge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«Als ik in je plaats was geweest, had ik het niet beter kunnen doen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Het is kunnen zeg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« Het is mooi wat je gedaan hebt 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charles_austin-600"/>
          <p:cNvPicPr/>
          <p:nvPr/>
        </p:nvPicPr>
        <p:blipFill>
          <a:blip r:embed="rId1"/>
          <a:stretch/>
        </p:blipFill>
        <p:spPr>
          <a:xfrm>
            <a:off x="468360" y="331920"/>
            <a:ext cx="8280360" cy="619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5"/>
          <p:cNvSpPr/>
          <p:nvPr/>
        </p:nvSpPr>
        <p:spPr>
          <a:xfrm>
            <a:off x="3929040" y="428760"/>
            <a:ext cx="510696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Houden va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heel gewoon zij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ongedwong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ls de liefde niet in ons hart woon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missen we heel veel in het lev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MAHARISHI™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5"/>
          <p:cNvSpPr/>
          <p:nvPr/>
        </p:nvSpPr>
        <p:spPr>
          <a:xfrm>
            <a:off x="3571920" y="428760"/>
            <a:ext cx="5356080" cy="52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emand die het geluk heeft te beminnen, en bemind te word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vindt het leven pracht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De warmte van je hart weerspiegelt het licht in je oge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27" descr="C:\Documents and Settings\Lise\My Documents\My Pictures\Photos\Fleurs\Roses\belle ros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ROMANTIC DREAMS (PPAF)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3"/>
          <p:cNvSpPr/>
          <p:nvPr/>
        </p:nvSpPr>
        <p:spPr>
          <a:xfrm>
            <a:off x="4357800" y="500040"/>
            <a:ext cx="4429080" cy="55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HOUDEN VA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de ander aanvaarden zoals hij/zij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 gewoonweg   ‘’ er zijn ‘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Niet alleen met je lichaam, maar ook met je h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C:\Users\William\Desktop\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3"/>
          <p:cNvSpPr/>
          <p:nvPr/>
        </p:nvSpPr>
        <p:spPr>
          <a:xfrm>
            <a:off x="4357800" y="500040"/>
            <a:ext cx="4429080" cy="55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Stuur dit naa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l je vrienden die iets betekenen in je leve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an iedereen die `n glimlach op je gezicht tovert als je er nood  aan he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an iedereen die je de zonnige kant  van het leven wil laten zien als het even wat minder 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n aan iedereen, aan wie je wil laten weten dat je hun vriendschap op prijs ste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4" descr="ellen-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5"/>
          <p:cNvSpPr/>
          <p:nvPr/>
        </p:nvSpPr>
        <p:spPr>
          <a:xfrm>
            <a:off x="3924360" y="1197000"/>
            <a:ext cx="479088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ls je dit niet doet…maak je geen zorgen, er zal je niks overkom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Je mist alleen `n kans om met deze boodschap, `n lichtstraaltje  van blijdschap te toveren op iemands gelaat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5" descr="C:\Users\William\Desktop\kerst.gif"/>
          <p:cNvPicPr/>
          <p:nvPr/>
        </p:nvPicPr>
        <p:blipFill>
          <a:blip r:embed="rId1"/>
          <a:stretch/>
        </p:blipFill>
        <p:spPr>
          <a:xfrm>
            <a:off x="2268360" y="1268280"/>
            <a:ext cx="4607280" cy="4449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7"/>
          <p:cNvSpPr/>
          <p:nvPr/>
        </p:nvSpPr>
        <p:spPr>
          <a:xfrm>
            <a:off x="395280" y="64296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emand graag zien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6"/>
          <p:cNvSpPr/>
          <p:nvPr/>
        </p:nvSpPr>
        <p:spPr>
          <a:xfrm>
            <a:off x="4211640" y="207180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geen grote verklaringen afleggen,het zijn kleine gewone dingen die je voor elkaar doe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C:\Documents and Settings\Lise\My Documents\My Pictures\Photos\Fleurs\Roses\Copie_de_rose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9"/>
          <p:cNvSpPr/>
          <p:nvPr/>
        </p:nvSpPr>
        <p:spPr>
          <a:xfrm>
            <a:off x="4714920" y="836640"/>
            <a:ext cx="400032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Zoals vrage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Wil je `n koffie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Ben je moe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Kan ik iets voor je doen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028" descr="C:\Documents and Settings\Lise\My Documents\My Pictures\Photos\Fleurs\Roses\rose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3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1"/>
          <p:cNvSpPr/>
          <p:nvPr/>
        </p:nvSpPr>
        <p:spPr>
          <a:xfrm>
            <a:off x="4143240" y="404640"/>
            <a:ext cx="457200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even telefoner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`n briefje schrijve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`n Kleine verra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Aandacht schenk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Samen wandel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C:\Documents and Settings\Lise\My Documents\My Pictures\Photos\Fleurs\Roses\Metairiebook09.jpg"/>
          <p:cNvPicPr/>
          <p:nvPr/>
        </p:nvPicPr>
        <p:blipFill>
          <a:blip r:embed="rId1"/>
          <a:stretch/>
        </p:blipFill>
        <p:spPr>
          <a:xfrm>
            <a:off x="-152280" y="-228600"/>
            <a:ext cx="9524880" cy="7238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14"/>
          <p:cNvSpPr/>
          <p:nvPr/>
        </p:nvSpPr>
        <p:spPr>
          <a:xfrm>
            <a:off x="4429080" y="404640"/>
            <a:ext cx="43578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  <a:ea typeface="新細明體"/>
              </a:rPr>
              <a:t>Is dingen voor de ander doen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  <a:ea typeface="新細明體"/>
              </a:rPr>
              <a:t>zonder bereken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  <a:ea typeface="新細明體"/>
              </a:rPr>
              <a:t>Is luisteren met je h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  <a:ea typeface="新細明體"/>
              </a:rPr>
              <a:t>Is zich niet opdring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13:56:08Z</dcterms:created>
  <dc:creator>Tardif</dc:creator>
  <dc:description/>
  <dc:language>en-US</dc:language>
  <cp:lastModifiedBy>William R Boyle</cp:lastModifiedBy>
  <dcterms:modified xsi:type="dcterms:W3CDTF">2010-12-05T15:35:44Z</dcterms:modified>
  <cp:revision>46</cp:revision>
  <dc:subject/>
  <dc:title>Présentation PowerPoint</dc:title>
</cp:coreProperties>
</file>