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Abel_Je%20pense%20%C3%A0%20toi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970B-54AA-4D08-9FCF-9763C58A7E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460A-9C16-47BD-AFE4-34C2BF168C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EFB-B1AB-4EB5-8B6C-78D9B7EA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8C2C-DE3F-45FF-90B1-EC98FA41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6EB72-C363-4BD7-8E4E-7807894E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16FE3-742D-451B-A5CB-7B85D89E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CB0F7-C78C-4107-890B-CCBE5C26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51591-426F-43D5-A303-1118F48D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1074D-1F91-4C09-9CEE-F0CF03A7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D60DB-DA5C-4532-A0AC-D97E61D2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26F56-123D-4BFE-AE84-97BE2B2C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1D2D4-B3E6-4904-8B45-5052620A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8B58A-2135-4F2B-9F14-530C55D3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25AEE-1D29-44FC-91E8-A46290FB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6F5-B145-43D8-ABF3-F8F39D32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C3EE7-6120-4154-9567-C47F4A48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54D67-FD52-4630-BBAA-362D24F7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BD6F8-8BA5-4301-B8CC-9833B247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630AB-C7A0-4D45-AFA7-460770B5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76F5F-26E4-4BD0-B9B0-E07832D0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A037B-87C9-421A-ABF1-022824AF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A61D7-C4EA-4195-A581-88F1A999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68FBE-3C52-47AF-9F0B-382AF8F0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38055-6326-4682-AAF8-9A6923BF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927A0-B568-4AA4-8FFF-EAF6CD06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68C-A37F-447A-AB0F-1CCA1445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9BED8-171E-4CD6-ACC2-CF78127C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1A02A-9D59-4BE3-8277-22DC92B2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E132D-2F02-420C-BBF9-DEAFEEAB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6641F-D852-4CC4-AE13-B166A846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CC1A3-C59D-4CE3-AD30-1081F4BC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1B4C7-A720-45F0-914F-8568EA2F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3E75E-8DDB-425E-8FDE-FD6E681B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952E4-E10E-4963-A9EF-7DA1DDFF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68F69-CD01-4AAB-9921-370CEDCF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AD107-E0B5-4581-BDFB-AEE1739F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50ED-6971-462D-ADFC-0506FB47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242FB-7987-4450-A338-25BF4735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31F93-90E0-4637-92CF-39E57567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9772C-9A4B-452A-966A-60375FB7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3902D-6B82-4CF6-8C74-06F6D0A8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40085-F35B-4E30-93F2-03AA3720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155A3-D646-4A02-B03A-1F324862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7991A-FBDE-4210-B010-473E3EA0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10A7F-6BDF-4FE8-A7F8-6789C406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D2003-5024-42C1-929C-98DBF810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B0B20-FA46-4825-B50C-44CA694E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4284-2083-46B0-B03A-96DBFC20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3FD36-18A4-4AB0-B673-585258BC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3AA82-77D5-4E70-9A74-A8C77A36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AD05A-EAE7-4650-8368-953955E6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8EA76-CDDA-4D24-A5C2-EEAE5E370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2BA58-4667-4C16-9507-94F4B9FC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31F6-4207-4939-894B-78EED0B9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D98B-6A06-4E06-9EC5-76C1E1A0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ACC3-6A3E-48E9-B6B9-19E3CB27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2F02-9696-47B8-B7AF-08FCFEE0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20AD-EE7C-43D1-BA7B-630B5EAC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2FE-EB43-4A2B-A01A-ADB5BC42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B4B0-A9A4-442E-AA23-21D3112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9E69-69E8-4438-8063-8999A869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92B0-1F0A-4099-B0C2-146525C9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1C97-9B05-4913-B90D-C29AF77A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97CE-E8D1-4F39-BEFA-70B4BFEE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8937-120C-4633-92E2-C40F93C1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57F84-1661-4B39-B99E-0DB4976C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48D6F-FF15-4A0C-8C27-FAA3441C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BF50-A7AB-4EDA-AA03-D5F8CBBB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27FC-060B-4BAA-B1F6-5BA767E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C7F-DEF6-45B4-889F-B14CAB2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DD6B-7944-439C-BA84-D2FE975A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A469-1D3E-4E24-BDFF-746C7AAD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4E70-D65A-44F4-9F60-686F5108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4965-49C6-4AD5-9952-BCCCE71D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26C88-8B3E-4ABA-A8CE-ADBD9314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D217-F3CD-45EE-941B-C62426B7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A2477-FA66-4F0F-9FC3-072F27C7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2848A-8DBB-4CC1-BFEA-AF4B96B8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29FB3-F636-4F8B-B9AF-9034AEF2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3C32-5D69-46B6-84C1-0F2353BF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8D8-999E-4A91-8C70-B5091929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E67B5-AD1A-494B-BF8B-A836F0C7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E6886-57C5-4D51-842C-3D68EBCD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5F81-EEFA-4197-BB75-849D4565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5B02-3BF0-4A75-9449-9C025F4F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36CB4-478E-4396-90C6-B9745ED0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E9776-4920-4C56-B973-5E9533C6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57BEB-6B65-4DE6-9CED-727AFABB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41672-F0FA-4AA5-ABD1-DE6526F0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636AD-C9F4-4FD7-BF36-EA5F99CE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7A006-A4E0-4F2A-A0CF-48E63BF1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B73-F5CB-4D6A-B088-D0EA532C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40F37-073D-4440-926B-95454DF6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D9C90-52C8-47BA-9B71-05C5EEF1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A3477-3853-48A2-B987-71352A1B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57E02-5025-4A33-835A-FFCBE879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FFDED-C07E-40C6-8F49-80D3C525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529D1-CE94-4126-9444-1C068E05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7B26E-6028-482F-8F1B-B62382AE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5EFF-C10F-41D3-90E1-CC92B610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797EB-887F-458D-A9D1-3244B27E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4FA82-8855-413C-84E4-23A338EA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056-1BC6-4C22-B1F7-99EA2602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91067-61DD-4F9D-9653-7D26BD25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8543D-9805-47B0-A5AB-902BC6F2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7F842-EDAA-42C7-9986-0D61C235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E6C6E-DA9D-4F87-888F-C5110294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7B98-267D-4EA3-989D-82FEA441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B2D4C-50E3-4534-B6CB-7E4E61D2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ED6D5-A4E9-4C2D-8CE6-5782D81A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A44C0-FA1D-49CA-B9F8-10E4C8F5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99A41-EB14-4816-AB1C-6DC306A9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36046-A1F2-4314-B2A3-5770D9A1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80A5-CB49-4616-9CDB-B7F82F5B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CD3F6-BC90-4322-8B86-B630E9D2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0B7B2-3A76-4AE6-A517-43541024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FD67-DA43-472B-938D-A86DEC63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F25AF-BB58-4E1F-84CA-069EEB23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147AF-6346-4466-ABF6-B73498CF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2014D-350D-4CBB-9E5D-3DD86417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76135-B8E5-4270-885E-AA1A198D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2B4C1-35D4-4EC8-B494-88E70F2D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D928-1591-41C0-BB19-013C234F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AAEEA-F7AA-4A4E-9826-3E418AC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0E7E-2504-43DB-9E16-A94A4C25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DBFDC-AC87-4F9A-B5F4-E84DAF4F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2CE34-943E-4304-A9C8-63A5ECB9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D1B03-62A3-49AF-97E2-6C38368C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0053F-56B9-4C57-82DE-23FCA048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2356E-6929-440E-85DF-B3AB1D99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C0424-D304-458F-9946-61111757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4D87A-EAEB-48BC-BDB6-3984BF5D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128CF-1D82-4BDF-9D71-E451EEB4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FB4A5-72B9-4CD9-B526-B54EF479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726CC-E330-4166-92A7-1424252F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232-D869-48D2-B5D6-5842D29A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45C76-F575-4B7D-A389-60A5B947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6BFAC-6AAE-40F3-BF2E-9D098337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129C3-9F80-497E-837F-6F2DF5C4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368F0-3425-4D1E-B18F-71DDA9F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3452F-5D98-4B4D-82D1-C16C2008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9794D-E28A-4A9C-B06D-18C97874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DF016-80FB-4B5F-8AE3-22F640D7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D64DA-8D85-4197-915B-817F0FA6A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4ADA4-484F-4CA7-843D-C28E9EA7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78FAD-1537-4417-9625-9E7D1773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76A6-ADD7-4AE0-8A08-A1193619421C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18EE-33FD-4C36-A3DB-F13DA21ECE9E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6ACA-9831-4B1A-AB7E-87B53233DAB2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E113-C51B-4AD3-ABF2-CCC9FF0766A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2078-CBE1-47DC-82E0-2649C176DA3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199E-9FD0-4472-8016-0461144FDAD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C65B-140A-4DF1-93E1-5FC7B1508C3E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0DC9-576B-4BD3-8061-AE3CE7389874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C721-AC16-45B6-ACAF-855B6CE0329B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204F-D538-4E26-A52C-2CB50622539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F032-6F45-43E1-8119-221493D53261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5816-C1D3-499B-84CA-C01A5A733F6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bel_Je%20pense%20&#224;%20toi.wav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C:\Documents and Settings\Lise\My Documents\My Pictures\Fond début ou fin\fond caresse de la vi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179280" y="5950080"/>
            <a:ext cx="252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cc"/>
                </a:solidFill>
                <a:latin typeface="Times New Roman"/>
              </a:rPr>
              <a:t>Muziek: Je pense à t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CA" sz="1800" spc="-1" strike="noStrike">
                <a:solidFill>
                  <a:srgbClr val="ffffcc"/>
                </a:solidFill>
                <a:latin typeface="Times New Roman"/>
              </a:rPr>
              <a:t>Richard 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ZoneTexte 3"/>
          <p:cNvSpPr/>
          <p:nvPr/>
        </p:nvSpPr>
        <p:spPr>
          <a:xfrm flipV="1" rot="10800000">
            <a:off x="611280" y="962640"/>
            <a:ext cx="78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Strelingen van het Lev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/>
    <p:sndAc>
      <p:stSnd>
        <p:snd r:embed="rId2" name="Abel_Je%20pense%20%C3%A0%20to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C:\Documents and Settings\Lise\My Documents\My Pictures\Photos\Fleurs\Roses\rose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026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4000680" y="549360"/>
            <a:ext cx="481932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naar de ander kijken, met de ogen van je h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Je kan liegen met woorden, maar niet met je oge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3" descr="C:\Documents and Settings\Lise\My Documents\My Pictures\Photos\Fleurs\Roses\rose oran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5"/>
          <p:cNvSpPr/>
          <p:nvPr/>
        </p:nvSpPr>
        <p:spPr>
          <a:xfrm>
            <a:off x="3780000" y="-963720"/>
            <a:ext cx="5184720" cy="52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kunnen zegge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« Ik hou van je »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Waarom wachten tot iemand sterft, om te zeggen dat je van hem/haar houdt.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C:\Documents and Settings\Lise\My Documents\My Pictures\Photos\Fleurs\Roses\rosegouttelett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5"/>
          <p:cNvSpPr/>
          <p:nvPr/>
        </p:nvSpPr>
        <p:spPr>
          <a:xfrm>
            <a:off x="4000680" y="0"/>
            <a:ext cx="503532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niet oordelen,niet bekritiseren, niet veroordelen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Het is kunnen zegge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«Als ik in je plaats was geweest, had ik het niet beter kunnen doen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Het is kunnen zeg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« Het is mooi wat je gedaan hebt 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charles_austin-600"/>
          <p:cNvPicPr/>
          <p:nvPr/>
        </p:nvPicPr>
        <p:blipFill>
          <a:blip r:embed="rId1"/>
          <a:stretch/>
        </p:blipFill>
        <p:spPr>
          <a:xfrm>
            <a:off x="468360" y="331920"/>
            <a:ext cx="8280360" cy="6192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5"/>
          <p:cNvSpPr/>
          <p:nvPr/>
        </p:nvSpPr>
        <p:spPr>
          <a:xfrm>
            <a:off x="3929040" y="428760"/>
            <a:ext cx="5106960" cy="49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Houden va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heel gewoon zij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ongedwong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ls de liefde niet in ons hart woon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Comic Sans MS"/>
                <a:ea typeface="新細明體"/>
              </a:rPr>
              <a:t>missen we heel veel in het lev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MAHARISHI™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97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5"/>
          <p:cNvSpPr/>
          <p:nvPr/>
        </p:nvSpPr>
        <p:spPr>
          <a:xfrm>
            <a:off x="3571920" y="428760"/>
            <a:ext cx="5356080" cy="52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emand die het geluk heeft te beminnen, en bemind te word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vindt het leven pracht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De warmte van je hart weerspiegelt het licht in je oge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27" descr="C:\Documents and Settings\Lise\My Documents\My Pictures\Photos\Fleurs\Roses\belle ros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ROMANTIC DREAMS (PPAF)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3"/>
          <p:cNvSpPr/>
          <p:nvPr/>
        </p:nvSpPr>
        <p:spPr>
          <a:xfrm>
            <a:off x="4357800" y="500040"/>
            <a:ext cx="4429080" cy="55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HOUDEN VAN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de ander aanvaarden zoals hij/zij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 gewoonweg   ‘’ er zijn ‘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Niet alleen met je lichaam, maar ook met je h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C:\Users\William\Desktop\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3"/>
          <p:cNvSpPr/>
          <p:nvPr/>
        </p:nvSpPr>
        <p:spPr>
          <a:xfrm>
            <a:off x="4357800" y="500040"/>
            <a:ext cx="4429080" cy="55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Stuur dit naa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l je vrienden die iets betekenen in je leve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an iedereen die `n glimlach op je gezicht tovert als je er nood  aan he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an iedereen die je de zonnige kant  van het leven wil laten zien als het even wat minder 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n aan iedereen, aan wie je wil laten weten dat je hun vriendschap op prijs ste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8000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4" descr="ellen-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5"/>
          <p:cNvSpPr/>
          <p:nvPr/>
        </p:nvSpPr>
        <p:spPr>
          <a:xfrm>
            <a:off x="3924360" y="1197000"/>
            <a:ext cx="479088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ls je dit niet doet…maak je geen zorgen, er zal je niks overkom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Je mist alleen `n kans om met deze boodschap, `n lichtstraaltje  van blijdschap te toveren op iemands gelaat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5" descr="C:\Users\William\Desktop\kerst.gif"/>
          <p:cNvPicPr/>
          <p:nvPr/>
        </p:nvPicPr>
        <p:blipFill>
          <a:blip r:embed="rId1"/>
          <a:stretch/>
        </p:blipFill>
        <p:spPr>
          <a:xfrm>
            <a:off x="2268360" y="1268280"/>
            <a:ext cx="4607280" cy="4449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17"/>
          <p:cNvSpPr/>
          <p:nvPr/>
        </p:nvSpPr>
        <p:spPr>
          <a:xfrm>
            <a:off x="395280" y="64296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emand graag zien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6"/>
          <p:cNvSpPr/>
          <p:nvPr/>
        </p:nvSpPr>
        <p:spPr>
          <a:xfrm>
            <a:off x="4211640" y="2071800"/>
            <a:ext cx="41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geen grote verklaringen afleggen,het zijn kleine gewone dingen die je voor elkaar doe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C:\Documents and Settings\Lise\My Documents\My Pictures\Photos\Fleurs\Roses\Copie_de_rose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19"/>
          <p:cNvSpPr/>
          <p:nvPr/>
        </p:nvSpPr>
        <p:spPr>
          <a:xfrm>
            <a:off x="4714920" y="836640"/>
            <a:ext cx="400032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Zoals vrage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Wil je `n koffie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Ben je moe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Kan ik iets voor je doen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1028" descr="C:\Documents and Settings\Lise\My Documents\My Pictures\Photos\Fleurs\Roses\rose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3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1"/>
          <p:cNvSpPr/>
          <p:nvPr/>
        </p:nvSpPr>
        <p:spPr>
          <a:xfrm>
            <a:off x="4143240" y="404640"/>
            <a:ext cx="4572000" cy="612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even telefoner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`n briefje schrijve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`n Kleine verra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Is Aandacht schenk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Samen wandel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C:\Documents and Settings\Lise\My Documents\My Pictures\Photos\Fleurs\Roses\Metairiebook09.jpg"/>
          <p:cNvPicPr/>
          <p:nvPr/>
        </p:nvPicPr>
        <p:blipFill>
          <a:blip r:embed="rId1"/>
          <a:stretch/>
        </p:blipFill>
        <p:spPr>
          <a:xfrm>
            <a:off x="-152280" y="-228600"/>
            <a:ext cx="9524880" cy="7238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14"/>
          <p:cNvSpPr/>
          <p:nvPr/>
        </p:nvSpPr>
        <p:spPr>
          <a:xfrm>
            <a:off x="4429080" y="404640"/>
            <a:ext cx="43578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  <a:ea typeface="新細明體"/>
              </a:rPr>
              <a:t>Is dingen voor de ander doen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  <a:ea typeface="新細明體"/>
              </a:rPr>
              <a:t>zonder bereken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  <a:ea typeface="新細明體"/>
              </a:rPr>
              <a:t>Is luisteren met je h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  <a:ea typeface="新細明體"/>
              </a:rPr>
              <a:t>Is zich niet opdring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13:56:08Z</dcterms:created>
  <dc:creator>Tardif</dc:creator>
  <dc:description/>
  <dc:language>en-US</dc:language>
  <cp:lastModifiedBy>William R Boyle</cp:lastModifiedBy>
  <dcterms:modified xsi:type="dcterms:W3CDTF">2010-12-05T15:35:44Z</dcterms:modified>
  <cp:revision>46</cp:revision>
  <dc:subject/>
  <dc:title>Présentation PowerPoint</dc:title>
</cp:coreProperties>
</file>