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time_to_say_goodbye.wav" ContentType="audio/x-wav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B97A-3E4C-4A2A-AEFF-1BBF6A8E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D12A-5142-4F26-BFF6-48A9E3EB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D92B-F5C7-4513-9758-136F8A4E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C3D6-38D7-4976-B52D-346FBE8E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97FA-2F13-4B16-9D4D-EE2FAFF4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E3F9-0B24-45DF-9BB0-CC08B0C3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6288-509D-4CB8-BD74-D39AC7AE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9A07-BFF7-4FB5-AED3-DB770B59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5159-0964-4DAA-9710-010E0EAA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C77D-47EC-4565-BFDA-33EFEE2E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6DF-733C-4C6D-838C-166A86E6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BF4B-D606-4906-8021-5065B235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0B77-671D-4F43-9E22-7F820A606769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ime_to_say_goodbye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522936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200" spc="-1" strike="noStrike">
                <a:solidFill>
                  <a:srgbClr val="800000"/>
                </a:solidFill>
                <a:latin typeface="Monotype Corsiva"/>
                <a:ea typeface="Aharoni"/>
              </a:rPr>
              <a:t>Zang : Sarah Brightman  &amp;  Andrea Bocelli.                                                            Time to say goodb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2064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5400" spc="-1" strike="noStrike">
                <a:solidFill>
                  <a:srgbClr val="800000"/>
                </a:solidFill>
                <a:latin typeface="Monotype Corsiva"/>
              </a:rPr>
              <a:t>Herinneringen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781360"/>
            <a:ext cx="7848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1C27-FB9E-40FC-9AEB-4EF7710B2702}" type="datetime2">
              <a:rPr b="0" lang="nl-BE" sz="4000" spc="-1" strike="noStrike">
                <a:solidFill>
                  <a:srgbClr val="800000"/>
                </a:solidFill>
                <a:latin typeface="Monotype Corsiva"/>
              </a:rPr>
              <a:t>dinsdag 28 juli 2026</a:t>
            </a:fld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35280" y="3429000"/>
            <a:ext cx="5472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4D4D-ED8E-46CD-AA19-6490F9F097CC}" type="datetime10">
              <a:rPr b="0" lang="nl-BE" sz="4000" spc="-1" strike="noStrike">
                <a:solidFill>
                  <a:srgbClr val="800000"/>
                </a:solidFill>
                <a:latin typeface="Monotype Corsiva"/>
              </a:rPr>
              <a:t>13:37</a:t>
            </a:fld>
            <a:r>
              <a:rPr b="0" lang="nl-BE" sz="4000" spc="-1" strike="noStrike">
                <a:solidFill>
                  <a:srgbClr val="800000"/>
                </a:solidFill>
                <a:latin typeface="Monotype Corsiva"/>
              </a:rPr>
              <a:t> uu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2000">
    <p:wheel spokes="8"/>
    <p:sndAc>
      <p:stSnd>
        <p:snd r:embed="rId2" name="time_to_say_goodby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6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80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3200"/>
                            </p:stCondLst>
                            <p:childTnLst>
                              <p:par>
                                <p:cTn id="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516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De herinnering is een kerkhof ,                                                                                 waarop meer kruisen dan bloemen sta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22936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Uiteindelijk zullen we ons de woorden ,                                                                van onze vijanden niet herinneren,                                                                                                            maar wel het zwijgen van onze vriend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randomBar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589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Een mens moet niet zorgen dat hij in de hemel komt,                                                                  maar dat de hemel in hem kom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1000">
    <p:wheel spokes="8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522936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De eenzaamheid is een stille storm                                                                     die al onze dode takken afbreek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6000">
    <p:wheel spokes="8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4724280"/>
            <a:ext cx="8064720" cy="1944720"/>
          </a:xfrm>
          <a:custGeom>
            <a:avLst/>
            <a:gdLst>
              <a:gd name="textAreaLeft" fmla="*/ 1841040 w 8064720"/>
              <a:gd name="textAreaRight" fmla="*/ 6223680 w 8064720"/>
              <a:gd name="textAreaTop" fmla="*/ 443880 h 1944720"/>
              <a:gd name="textAreaBottom" fmla="*/ 15008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3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522936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Monotype Corsiva"/>
              </a:rPr>
              <a:t>Herinneringen zijn als littekens,                                                              ze verzachten langzaam,                                                                                 maar verdwijnen noo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4000">
    <p:wheel spokes="8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5013360"/>
            <a:ext cx="5904000" cy="1368360"/>
          </a:xfrm>
          <a:prstGeom prst="horizontalScroll">
            <a:avLst>
              <a:gd name="adj" fmla="val 12500"/>
            </a:avLst>
          </a:prstGeom>
          <a:solidFill>
            <a:srgbClr val="ffff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530064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Veel is schoner in de maneschijn der herinnering,                                                           dan in het zonlicht der werkelijkhe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wedg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5445000"/>
            <a:ext cx="6912000" cy="792360"/>
          </a:xfrm>
          <a:prstGeom prst="plus">
            <a:avLst>
              <a:gd name="adj" fmla="val 25000"/>
            </a:avLst>
          </a:prstGeom>
          <a:solidFill>
            <a:srgbClr val="6666ff">
              <a:alpha val="26000"/>
            </a:srgbClr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544500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Herinnering :                                                                                                                           Het enige paradijs waaruit men ons nooit kan verdrijv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hecker dir="horz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8000" y="2205000"/>
            <a:ext cx="5400720" cy="1224000"/>
          </a:xfrm>
          <a:custGeom>
            <a:avLst/>
            <a:gdLst>
              <a:gd name="textAreaLeft" fmla="*/ 1187640 w 5400720"/>
              <a:gd name="textAreaRight" fmla="*/ 4213080 w 5400720"/>
              <a:gd name="textAreaTop" fmla="*/ 268920 h 1224000"/>
              <a:gd name="textAreaBottom" fmla="*/ 95508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0099">
              <a:alpha val="14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220500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De herinnering is een straat met deuren,                                                                               en achter iedere deur die opengaat ,                                                                              zijn er weer 10 deur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mb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360"/>
                            </p:stCondLst>
                            <p:childTnLst>
                              <p:par>
                                <p:cTn id="21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234936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fffff"/>
                </a:solidFill>
                <a:latin typeface="Monotype Corsiva"/>
              </a:rPr>
              <a:t>Als je door de nacht gaat zonder één ster,                                                          doodmoe en alleen,                                                                                                        denk er dan aan dat boven de wolken ,                                                     iemand naar je glimlac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heel spokes="8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981000"/>
            <a:ext cx="8424720" cy="57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800000"/>
                </a:solidFill>
                <a:latin typeface="Monotype Corsiva"/>
              </a:rPr>
              <a:t>Vele groetjes en nog een prettige da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800000"/>
                </a:solidFill>
                <a:latin typeface="Monotype Corsiva"/>
              </a:rPr>
              <a:t>    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800000"/>
                </a:solidFill>
                <a:latin typeface="Monotype Corsiva"/>
              </a:rPr>
              <a:t>                               </a:t>
            </a:r>
            <a:r>
              <a:rPr b="0" lang="nl-BE" sz="4800" spc="-1" strike="noStrike">
                <a:solidFill>
                  <a:srgbClr val="800000"/>
                </a:solidFill>
                <a:latin typeface="Monotype Corsiva"/>
              </a:rPr>
              <a:t>Maria </a:t>
            </a:r>
            <a:r>
              <a:rPr b="0" lang="nl-BE" sz="2400" spc="-1" strike="noStrike">
                <a:solidFill>
                  <a:srgbClr val="800000"/>
                </a:solidFill>
                <a:latin typeface="Monotype Corsiva"/>
              </a:rPr>
              <a:t>(van de F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5877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Elk  afscheid  betekent de geboorte van herinner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544500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Wij herinneren ons geen dagen,                                                                                     maar moment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strips dir="l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5589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U kunt Uw ogen sluiten voor feiten ,                                                                        maar niet voor herinner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9000">
    <p:wheel spokes="1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5373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Als de klokken der herinnering luiden,                                                                         wordt het Zondag in het ha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9000">
    <p:wheel spokes="3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0920" y="4941720"/>
            <a:ext cx="5399280" cy="1727280"/>
          </a:xfrm>
          <a:custGeom>
            <a:avLst/>
            <a:gdLst>
              <a:gd name="textAreaLeft" fmla="*/ 1232640 w 5399280"/>
              <a:gd name="textAreaRight" fmla="*/ 4166640 w 5399280"/>
              <a:gd name="textAreaTop" fmla="*/ 394200 h 1727280"/>
              <a:gd name="textAreaBottom" fmla="*/ 133308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35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3737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Monotype Corsiva"/>
              </a:rPr>
              <a:t>Wat moeilijk te dragen was,                                                                                                                      is heerlijk om zich te herinner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92360" y="5229360"/>
            <a:ext cx="5905440" cy="1081080"/>
          </a:xfrm>
          <a:prstGeom prst="hexagon">
            <a:avLst>
              <a:gd name="adj" fmla="val 136563"/>
              <a:gd name="vf" fmla="val 115470"/>
            </a:avLst>
          </a:prstGeom>
          <a:solidFill>
            <a:srgbClr val="333399">
              <a:alpha val="30000"/>
            </a:srgbClr>
          </a:solidFill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5445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Herinneringen zijn dagboekbladzijden,                                                                              die we altijd bij ons drag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heel spokes="1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4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55897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Een van de vele vormen van eenzaamheid                                                                                   is een herinnering hebben en er niet kunnen over prat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noFill/>
          <a:ln w="30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61657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Monotype Corsiva"/>
              </a:rPr>
              <a:t>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5516640"/>
            <a:ext cx="6985080" cy="1081080"/>
          </a:xfrm>
          <a:prstGeom prst="flowChartDecision">
            <a:avLst/>
          </a:prstGeom>
          <a:solidFill>
            <a:srgbClr val="669900">
              <a:alpha val="37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58053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Monotype Corsiva"/>
              </a:rPr>
              <a:t>Herinnering is een vorm van ontmoe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pull dir="l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15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5:00:00Z</dcterms:created>
  <dc:creator/>
  <dc:description>Niets aan veranderen a.u.b.( Maria)</dc:description>
  <dc:language>en-US</dc:language>
  <cp:lastModifiedBy/>
  <dcterms:modified xsi:type="dcterms:W3CDTF">2009-07-10T10:11:03Z</dcterms:modified>
  <cp:revision>8</cp:revision>
  <dc:subject>Herinneringen</dc:subject>
  <dc:title>Time to say goodbay</dc:title>
</cp:coreProperties>
</file>