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time_to_say_goodbye.wav" ContentType="audio/x-wav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E078-55FC-4905-B702-366C9718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9D66-728F-436D-BE21-564B6136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CC34-171A-4334-8178-D9D9641B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867-5A16-41DC-91CC-4FD51BC6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BE6E-1EAA-4832-BAE9-8EF49C64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A858-99CE-4FDF-8B10-EE808573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6674-E04A-4117-9CFB-07CCE44E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82B9-FEF2-46D4-A49B-CCCE2299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0099-007E-4E09-8A1E-E32EE939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64F8-7FBF-4327-BD37-B94A751E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9E77-9A25-4C54-9522-326ED71D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1503-21E5-493C-8B63-5568EA33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B7D8-BFEA-426D-ABE2-A27C7AFFFA1D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ime_to_say_goodbye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522936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200" spc="-1" strike="noStrike">
                <a:solidFill>
                  <a:srgbClr val="800000"/>
                </a:solidFill>
                <a:latin typeface="Monotype Corsiva"/>
                <a:ea typeface="Aharoni"/>
              </a:rPr>
              <a:t>Zang : Sarah Brightman  &amp;  Andrea Bocelli.                                                            Time to say goodb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2064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800000"/>
                </a:solidFill>
                <a:latin typeface="Monotype Corsiva"/>
              </a:rPr>
              <a:t>Herinneringen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781360"/>
            <a:ext cx="7848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E42B-09D4-4D1D-B3B4-F326F3202415}" type="datetime2">
              <a:rPr b="0" lang="nl-BE" sz="4000" spc="-1" strike="noStrike">
                <a:solidFill>
                  <a:srgbClr val="800000"/>
                </a:solidFill>
                <a:latin typeface="Monotype Corsiva"/>
              </a:rPr>
              <a:t>woensdag 29 juli 2026</a:t>
            </a:fld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35280" y="3429000"/>
            <a:ext cx="5472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E7A4-6651-4A40-8DFB-177F1F70734C}" type="datetime10">
              <a:rPr b="0" lang="nl-BE" sz="4000" spc="-1" strike="noStrike">
                <a:solidFill>
                  <a:srgbClr val="800000"/>
                </a:solidFill>
                <a:latin typeface="Monotype Corsiva"/>
              </a:rPr>
              <a:t>18:14</a:t>
            </a:fld>
            <a:r>
              <a:rPr b="0" lang="nl-BE" sz="4000" spc="-1" strike="noStrike">
                <a:solidFill>
                  <a:srgbClr val="800000"/>
                </a:solidFill>
                <a:latin typeface="Monotype Corsiva"/>
              </a:rPr>
              <a:t> uu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wheel spokes="8"/>
    <p:sndAc>
      <p:stSnd>
        <p:snd r:embed="rId2" name="time_to_say_goodby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6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80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320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516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De herinnering is een kerkhof ,                                                                                 waarop meer kruisen dan bloemen sta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22936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Uiteindelijk zullen we ons de woorden ,                                                                van onze vijanden niet herinneren,                                                                                                            maar wel het zwijgen van onze vriend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randomBar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589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Een mens moet niet zorgen dat hij in de hemel komt,                                                                  maar dat de hemel in hem ko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1000">
    <p:wheel spokes="8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522936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De eenzaamheid is een stille storm                                                                     die al onze dode takken afbreek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wheel spokes="8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4724280"/>
            <a:ext cx="8064720" cy="1944720"/>
          </a:xfrm>
          <a:custGeom>
            <a:avLst/>
            <a:gdLst>
              <a:gd name="textAreaLeft" fmla="*/ 1841040 w 8064720"/>
              <a:gd name="textAreaRight" fmla="*/ 6223680 w 8064720"/>
              <a:gd name="textAreaTop" fmla="*/ 443880 h 1944720"/>
              <a:gd name="textAreaBottom" fmla="*/ 15008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3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522936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Monotype Corsiva"/>
              </a:rPr>
              <a:t>Herinneringen zijn als littekens,                                                              ze verzachten langzaam,                                                                                 maar verdwijnen noo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4000">
    <p:wheel spokes="8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5013360"/>
            <a:ext cx="5904000" cy="1368360"/>
          </a:xfrm>
          <a:prstGeom prst="horizontalScroll">
            <a:avLst>
              <a:gd name="adj" fmla="val 12500"/>
            </a:avLst>
          </a:prstGeom>
          <a:solidFill>
            <a:srgbClr val="ffff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530064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Veel is schoner in de maneschijn der herinnering,                                                           dan in het zonlicht der werkelijkhe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wedg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5445000"/>
            <a:ext cx="6912000" cy="792360"/>
          </a:xfrm>
          <a:prstGeom prst="plus">
            <a:avLst>
              <a:gd name="adj" fmla="val 25000"/>
            </a:avLst>
          </a:prstGeom>
          <a:solidFill>
            <a:srgbClr val="6666ff">
              <a:alpha val="26000"/>
            </a:srgbClr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544500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Herinnering :                                                                                                                           Het enige paradijs waaruit men ons nooit kan verdrijv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hecker dir="horz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8000" y="2205000"/>
            <a:ext cx="5400720" cy="1224000"/>
          </a:xfrm>
          <a:custGeom>
            <a:avLst/>
            <a:gdLst>
              <a:gd name="textAreaLeft" fmla="*/ 1187640 w 5400720"/>
              <a:gd name="textAreaRight" fmla="*/ 4213080 w 5400720"/>
              <a:gd name="textAreaTop" fmla="*/ 268920 h 1224000"/>
              <a:gd name="textAreaBottom" fmla="*/ 9550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0099">
              <a:alpha val="14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220500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De herinnering is een straat met deuren,                                                                               en achter iedere deur die opengaat ,                                                                              zijn er weer 10 deur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mb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360"/>
                            </p:stCondLst>
                            <p:childTnLst>
                              <p:par>
                                <p:cTn id="21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234936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Monotype Corsiva"/>
              </a:rPr>
              <a:t>Als je door de nacht gaat zonder één ster,                                                          doodmoe en alleen,                                                                                                        denk er dan aan dat boven de wolken ,                                                     iemand naar je glimlac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heel spokes="8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981000"/>
            <a:ext cx="8424720" cy="57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800000"/>
                </a:solidFill>
                <a:latin typeface="Monotype Corsiva"/>
              </a:rPr>
              <a:t>Vele groetjes en nog een prettige da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800000"/>
                </a:solidFill>
                <a:latin typeface="Monotype Corsiva"/>
              </a:rPr>
              <a:t>    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800000"/>
                </a:solidFill>
                <a:latin typeface="Monotype Corsiva"/>
              </a:rPr>
              <a:t>                               </a:t>
            </a:r>
            <a:r>
              <a:rPr b="0" lang="nl-BE" sz="4800" spc="-1" strike="noStrike">
                <a:solidFill>
                  <a:srgbClr val="800000"/>
                </a:solidFill>
                <a:latin typeface="Monotype Corsiva"/>
              </a:rPr>
              <a:t>Maria </a:t>
            </a:r>
            <a:r>
              <a:rPr b="0" lang="nl-BE" sz="2400" spc="-1" strike="noStrike">
                <a:solidFill>
                  <a:srgbClr val="800000"/>
                </a:solidFill>
                <a:latin typeface="Monotype Corsiva"/>
              </a:rPr>
              <a:t>(van de F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5877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Elk  afscheid  betekent de geboorte van herinner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544500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Wij herinneren ons geen dagen,                                                                                     maar moment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strips dir="l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5589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U kunt Uw ogen sluiten voor feiten ,                                                                        maar niet voor herinner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9000">
    <p:wheel spokes="1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537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Als de klokken der herinnering luiden,                                                                         wordt het Zondag in het ha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9000">
    <p:wheel spokes="3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0920" y="4941720"/>
            <a:ext cx="5399280" cy="1727280"/>
          </a:xfrm>
          <a:custGeom>
            <a:avLst/>
            <a:gdLst>
              <a:gd name="textAreaLeft" fmla="*/ 1232640 w 5399280"/>
              <a:gd name="textAreaRight" fmla="*/ 4166640 w 5399280"/>
              <a:gd name="textAreaTop" fmla="*/ 394200 h 1727280"/>
              <a:gd name="textAreaBottom" fmla="*/ 13330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35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3737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Monotype Corsiva"/>
              </a:rPr>
              <a:t>Wat moeilijk te dragen was,                                                                                                                      is heerlijk om zich te herinner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92360" y="5229360"/>
            <a:ext cx="5905440" cy="1081080"/>
          </a:xfrm>
          <a:prstGeom prst="hexagon">
            <a:avLst>
              <a:gd name="adj" fmla="val 136563"/>
              <a:gd name="vf" fmla="val 115470"/>
            </a:avLst>
          </a:prstGeom>
          <a:solidFill>
            <a:srgbClr val="333399">
              <a:alpha val="30000"/>
            </a:srgbClr>
          </a:solidFill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5445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Herinneringen zijn dagboekbladzijden,                                                                              die we altijd bij ons drag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1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4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55897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Een van de vele vormen van eenzaamheid                                                                                   is een herinnering hebben en er niet kunnen over prat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5516640"/>
            <a:ext cx="6985080" cy="1081080"/>
          </a:xfrm>
          <a:prstGeom prst="flowChartDecision">
            <a:avLst/>
          </a:prstGeom>
          <a:solidFill>
            <a:srgbClr val="669900">
              <a:alpha val="37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58053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Herinnering is een vorm van ontmoe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pull dir="l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15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5:00:00Z</dcterms:created>
  <dc:creator/>
  <dc:description>Niets aan veranderen a.u.b.( Maria)</dc:description>
  <dc:language>en-US</dc:language>
  <cp:lastModifiedBy/>
  <dcterms:modified xsi:type="dcterms:W3CDTF">2009-07-10T10:11:03Z</dcterms:modified>
  <cp:revision>8</cp:revision>
  <dc:subject>Herinneringen</dc:subject>
  <dc:title>Time to say goodbay</dc:title>
</cp:coreProperties>
</file>