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7.jpeg" ContentType="image/jpeg"/>
  <Override PartName="/ppt/media/03%20-%20Santa%20Lucia%20(Italien).wav" ContentType="audio/x-wav"/>
  <Override PartName="/ppt/media/image34.jpeg" ContentType="image/jpeg"/>
  <Override PartName="/ppt/media/image28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E7A-9658-4A8A-8BDD-3D66189D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3A9-002D-44BE-B5AC-0518F70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E77-5B2B-45FD-9C2A-24FF4FCE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A9E-3D22-4686-89F1-172A1ACC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4E2-94B4-4DD0-834F-0B3A576F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8C7-35F9-4FDA-B363-C8C29D85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12B-BFBB-45F4-90B7-E784BB79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4F5-D239-48FD-895B-CF2BCD6F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E6E-3B88-41F3-A015-BCE9F774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831-F636-48FD-9048-E95A63AF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5A1-77D1-4D80-B369-777BFAC7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A0F-2681-40E4-A7DB-8F87AC45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41F2-181C-4839-BA34-DDE061814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gif"/><Relationship Id="rId6" Type="http://schemas.openxmlformats.org/officeDocument/2006/relationships/audio" Target="../media/03%20-%20Santa%20Lucia%20(Italien)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3810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De pps is zelfscroll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92360" y="2052720"/>
            <a:ext cx="5975280" cy="118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55640" y="333360"/>
            <a:ext cx="7581960" cy="3809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55640" y="4869000"/>
            <a:ext cx="7561440" cy="122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63640" y="5300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natuur, tijd en geduld zijn de drie beste dok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28640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486900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24000" y="515772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luk is de kunst een boeket te maken met de bloemen waar je bij k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056360" cy="361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4653000"/>
            <a:ext cx="820908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501336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ledigingen moeten in zand geschreven worden en complimenten in steen gegrave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7201080" cy="3672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9640" y="4724280"/>
            <a:ext cx="8064720" cy="1368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515772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oeder worden is een wonder, moeder zijn een heel gedo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4360" y="4653000"/>
            <a:ext cx="7775280" cy="1224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33640" y="5084640"/>
            <a:ext cx="70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t geloof is een stok om op te steunen, niet om anderen mee te sla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677232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42920" y="476280"/>
            <a:ext cx="7037280" cy="360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26920" y="4653000"/>
            <a:ext cx="7561440" cy="129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84360" y="515772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en kus die het hart niet raakt verveelt alleen de mond.      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-18108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211640" y="18900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3640" y="6093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Om af te sluiten druk op E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2492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990000"/>
                </a:solidFill>
                <a:latin typeface="Arial"/>
              </a:rPr>
              <a:t>Ein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40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4360" y="6093000"/>
            <a:ext cx="30193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t muziek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219640" y="6093000"/>
            <a:ext cx="3429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Zelfscroll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1280" y="26028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411280" y="3622680"/>
            <a:ext cx="5185080" cy="16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692280"/>
            <a:ext cx="6624720" cy="331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87280" y="549360"/>
            <a:ext cx="6913800" cy="36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908000" y="5084640"/>
            <a:ext cx="5545440" cy="7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51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 laat komen is gebrek aan respect, niet aan tijd.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619280" y="4869000"/>
            <a:ext cx="60483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71640" y="549360"/>
            <a:ext cx="6912000" cy="3743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55640" y="404640"/>
            <a:ext cx="7345440" cy="403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84360" y="5013360"/>
            <a:ext cx="7632720" cy="122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5445000"/>
            <a:ext cx="51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De kunst van te leven is: thuis te zijn alsof men op reis i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87280" y="692280"/>
            <a:ext cx="648180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286760" cy="3809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16000" y="4941720"/>
            <a:ext cx="6985080" cy="1008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11280" y="5229360"/>
            <a:ext cx="56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et is aardig belangrijk te zijn, het is belangrijker aardig te zij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796000" y="2205000"/>
            <a:ext cx="2809800" cy="272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75"/>
            </a:gs>
            <a:gs pos="50000">
              <a:srgbClr val="3366ff"/>
            </a:gs>
            <a:gs pos="100000">
              <a:srgbClr val="172f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50005" b="0"/>
          <a:stretch/>
        </p:blipFill>
        <p:spPr>
          <a:xfrm>
            <a:off x="890640" y="404640"/>
            <a:ext cx="3681360" cy="3810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50005" t="0" r="0" b="0"/>
          <a:stretch/>
        </p:blipFill>
        <p:spPr>
          <a:xfrm>
            <a:off x="4572000" y="404640"/>
            <a:ext cx="36813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0000" y="5013360"/>
            <a:ext cx="7417080" cy="100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76360" y="530064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s nooit op als recht wat je als een gunst kunt vrage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912000" cy="3490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8208720" cy="1657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79640" y="5229360"/>
            <a:ext cx="57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j die denkt altijd gelijk te hebben, heeft alvast ongelijk wat dat betre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00"/>
            </a:gs>
            <a:gs pos="50000">
              <a:srgbClr val="669900"/>
            </a:gs>
            <a:gs pos="100000">
              <a:srgbClr val="2f4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82160" cy="3810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4797360"/>
            <a:ext cx="7561440" cy="129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40000" y="530064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Jeugd is een voorschot, ouderdom is de afrek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345440" cy="370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8280360" cy="122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08000" y="522936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iemand is perfect maar bij sommigen valt dat meer op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95280" y="4724280"/>
            <a:ext cx="8424720" cy="13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20:36:40Z</dcterms:created>
  <dc:creator>Gilbert</dc:creator>
  <dc:description/>
  <dc:language>en-US</dc:language>
  <cp:lastModifiedBy>Gerard</cp:lastModifiedBy>
  <dcterms:modified xsi:type="dcterms:W3CDTF">2009-06-20T11:49:14Z</dcterms:modified>
  <cp:revision>29</cp:revision>
  <dc:subject/>
  <dc:title>Dia 1</dc:title>
</cp:coreProperties>
</file>