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gif" ContentType="image/gif"/>
  <Override PartName="/ppt/media/image21.jpeg" ContentType="image/jpeg"/>
  <Override PartName="/ppt/media/image22.gif" ContentType="image/gif"/>
  <Override PartName="/ppt/media/image4.jpeg" ContentType="image/jpeg"/>
  <Override PartName="/ppt/media/image25.jpeg" ContentType="image/jpeg"/>
  <Override PartName="/ppt/media/image7.jpeg" ContentType="image/jpeg"/>
  <Override PartName="/ppt/media/Jim%20reeves%20-%20Roses%20are%20red%20my%20love.wav" ContentType="audio/x-wav"/>
  <Override PartName="/ppt/media/image5.jpeg" ContentType="image/jpeg"/>
  <Override PartName="/ppt/media/image10.jpeg" ContentType="image/jpeg"/>
  <Override PartName="/ppt/media/image29.jpeg" ContentType="image/jpeg"/>
  <Override PartName="/ppt/media/image8.gif" ContentType="image/gif"/>
  <Override PartName="/ppt/media/image27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30.gif" ContentType="image/gif"/>
  <Override PartName="/ppt/media/image14.jpeg" ContentType="image/jpeg"/>
  <Override PartName="/ppt/media/image28.gif" ContentType="image/gif"/>
  <Override PartName="/ppt/media/image3.gif" ContentType="image/gif"/>
  <Override PartName="/ppt/media/image1.jpeg" ContentType="image/jpeg"/>
  <Override PartName="/ppt/media/image13.jpeg" ContentType="image/jpeg"/>
  <Override PartName="/ppt/media/image18.gif" ContentType="image/gif"/>
  <Override PartName="/ppt/media/image15.jpeg" ContentType="image/jpeg"/>
  <Override PartName="/ppt/media/image16.gif" ContentType="image/gif"/>
  <Override PartName="/ppt/media/image12.gif" ContentType="image/gif"/>
  <Override PartName="/ppt/media/image17.jpeg" ContentType="image/jpeg"/>
  <Override PartName="/ppt/media/image23.gif" ContentType="image/gif"/>
  <Override PartName="/ppt/media/image2.gif" ContentType="image/gif"/>
  <Override PartName="/ppt/media/image19.jpeg" ContentType="image/jpeg"/>
  <Override PartName="/ppt/media/image26.gif" ContentType="image/gif"/>
  <Override PartName="/ppt/media/image2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041EB-98C3-4593-A5D3-363B3B574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CE696-7F98-4110-BB49-0E9C54B18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8E45C-AC77-4080-92C0-ACD6A2D5D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6C561-FB0E-4DB9-A639-689F72306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F6AE8-E2F5-467F-BEEB-8310E1F78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EA5D7-F57B-4A7C-A264-B30932FB7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728A0-26C2-4C7A-8789-8B0E4C01D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1AE9A-52F2-43EC-9980-5129E2DA1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A9B87-8E2C-4A68-AEDD-AE82E4BCD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2A632-D68D-4B3F-8F2E-3A5BB6292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5D552-37C8-40CA-AE05-FC3A41492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E138D-D4AE-407A-8DBE-E25296CE0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B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B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B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43976-C328-4881-A12E-2D61F4718B45}" type="slidenum">
              <a:rPr b="0" lang="nl-B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4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gif"/><Relationship Id="rId3" Type="http://schemas.openxmlformats.org/officeDocument/2006/relationships/image" Target="../media/image16.gif"/><Relationship Id="rId4" Type="http://schemas.openxmlformats.org/officeDocument/2006/relationships/image" Target="../media/image16.gif"/><Relationship Id="rId5" Type="http://schemas.openxmlformats.org/officeDocument/2006/relationships/image" Target="../media/image16.gif"/><Relationship Id="rId6" Type="http://schemas.openxmlformats.org/officeDocument/2006/relationships/image" Target="../media/image16.gif"/><Relationship Id="rId7" Type="http://schemas.openxmlformats.org/officeDocument/2006/relationships/image" Target="../media/image16.gif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gif"/><Relationship Id="rId3" Type="http://schemas.openxmlformats.org/officeDocument/2006/relationships/image" Target="../media/image22.gif"/><Relationship Id="rId4" Type="http://schemas.openxmlformats.org/officeDocument/2006/relationships/image" Target="../media/image22.gif"/><Relationship Id="rId5" Type="http://schemas.openxmlformats.org/officeDocument/2006/relationships/image" Target="../media/image23.gif"/><Relationship Id="rId6" Type="http://schemas.openxmlformats.org/officeDocument/2006/relationships/image" Target="../media/image24.gif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gi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gif"/><Relationship Id="rId3" Type="http://schemas.openxmlformats.org/officeDocument/2006/relationships/image" Target="../media/image28.gif"/><Relationship Id="rId4" Type="http://schemas.openxmlformats.org/officeDocument/2006/relationships/image" Target="../media/image28.gif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Jim%20reeves%20-%20Roses%20are%20red%20my%20love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7382" t="0" r="0" b="0"/>
          <a:stretch/>
        </p:blipFill>
        <p:spPr>
          <a:xfrm>
            <a:off x="150840" y="404640"/>
            <a:ext cx="4249800" cy="6120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076720" y="4437000"/>
            <a:ext cx="36007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ff66cc"/>
                </a:solidFill>
                <a:latin typeface="Poor Richard"/>
              </a:rPr>
              <a:t>Muziek: Jim Reeves: Roses are r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232680" y="6093000"/>
            <a:ext cx="245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ff66cc"/>
                </a:solidFill>
                <a:latin typeface="Poor Richard"/>
              </a:rPr>
              <a:t>PowerPoint Je@aaa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6877080" y="5157720"/>
            <a:ext cx="934920" cy="9352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4859280" y="609480"/>
            <a:ext cx="374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Poor Richard"/>
              </a:rPr>
              <a:t>Eenvou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859280" y="1330200"/>
            <a:ext cx="489744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ff66cc"/>
                </a:solidFill>
                <a:latin typeface="Parade"/>
              </a:rPr>
              <a:t>Eenvoud i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ff66cc"/>
                </a:solidFill>
                <a:latin typeface="Parade"/>
              </a:rPr>
              <a:t>       </a:t>
            </a:r>
            <a:r>
              <a:rPr b="1" lang="nl-BE" sz="3600" spc="-1" strike="noStrike">
                <a:solidFill>
                  <a:srgbClr val="ff66cc"/>
                </a:solidFill>
                <a:latin typeface="Parade"/>
              </a:rPr>
              <a:t>levend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ff66cc"/>
                </a:solidFill>
                <a:latin typeface="Parade"/>
              </a:rPr>
              <a:t>          </a:t>
            </a:r>
            <a:r>
              <a:rPr b="1" lang="nl-BE" sz="3600" spc="-1" strike="noStrike">
                <a:solidFill>
                  <a:srgbClr val="ff66cc"/>
                </a:solidFill>
                <a:latin typeface="Parade"/>
              </a:rPr>
              <a:t>schoonhei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4114800" y="4419720"/>
            <a:ext cx="942840" cy="34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611280" y="476280"/>
            <a:ext cx="3809880" cy="57150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24000" y="2276640"/>
            <a:ext cx="2849760" cy="427356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3851280" y="3429000"/>
            <a:ext cx="2033640" cy="304956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6012000" y="476280"/>
            <a:ext cx="2808000" cy="729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ff66cc"/>
                </a:solidFill>
                <a:latin typeface="Parade"/>
              </a:rPr>
              <a:t>Als j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ff66cc"/>
                </a:solidFill>
                <a:latin typeface="Parade"/>
              </a:rPr>
              <a:t>   </a:t>
            </a:r>
            <a:r>
              <a:rPr b="1" lang="nl-BE" sz="3600" spc="-1" strike="noStrike">
                <a:solidFill>
                  <a:srgbClr val="ff66cc"/>
                </a:solidFill>
                <a:latin typeface="Parade"/>
              </a:rPr>
              <a:t>begrep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ff66cc"/>
                </a:solidFill>
                <a:latin typeface="Parade"/>
              </a:rPr>
              <a:t>wilt worden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ff66cc"/>
                </a:solidFill>
                <a:latin typeface="Parade"/>
              </a:rPr>
              <a:t>zeg da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ff66cc"/>
                </a:solidFill>
                <a:latin typeface="Parade"/>
              </a:rPr>
              <a:t>    </a:t>
            </a:r>
            <a:r>
              <a:rPr b="1" lang="nl-BE" sz="3600" spc="-1" strike="noStrike">
                <a:solidFill>
                  <a:srgbClr val="ff66cc"/>
                </a:solidFill>
                <a:latin typeface="Parade"/>
              </a:rPr>
              <a:t>prec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ff66cc"/>
                </a:solidFill>
                <a:latin typeface="Parade"/>
              </a:rPr>
              <a:t>wat je  bedo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ff66cc"/>
                </a:solidFill>
                <a:latin typeface="Parade"/>
              </a:rPr>
              <a:t>     </a:t>
            </a:r>
            <a:r>
              <a:rPr b="1" lang="nl-BE" sz="3600" spc="-1" strike="noStrike">
                <a:solidFill>
                  <a:srgbClr val="ff66cc"/>
                </a:solidFill>
                <a:latin typeface="Parade"/>
              </a:rPr>
              <a:t>bedoelt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4859280" y="404640"/>
            <a:ext cx="3954600" cy="595008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468360" y="0"/>
            <a:ext cx="43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50920" y="1413000"/>
            <a:ext cx="331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258920" y="2060640"/>
            <a:ext cx="1728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4360" y="765000"/>
            <a:ext cx="482436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ff66cc"/>
                </a:solidFill>
                <a:latin typeface="Parade"/>
              </a:rPr>
              <a:t>Humor is ee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ff66cc"/>
                </a:solidFill>
                <a:latin typeface="Parade"/>
              </a:rPr>
              <a:t>prachtige  waterleli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ff66cc"/>
                </a:solidFill>
                <a:latin typeface="Parade"/>
              </a:rPr>
              <a:t>    </a:t>
            </a:r>
            <a:r>
              <a:rPr b="1" lang="nl-BE" sz="3600" spc="-1" strike="noStrike">
                <a:solidFill>
                  <a:srgbClr val="ff66cc"/>
                </a:solidFill>
                <a:latin typeface="Parade"/>
              </a:rPr>
              <a:t>die wortel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ff66cc"/>
                </a:solidFill>
                <a:latin typeface="Parade"/>
              </a:rPr>
              <a:t>    </a:t>
            </a:r>
            <a:r>
              <a:rPr b="1" lang="nl-BE" sz="3600" spc="-1" strike="noStrike">
                <a:solidFill>
                  <a:srgbClr val="ff66cc"/>
                </a:solidFill>
                <a:latin typeface="Parade"/>
              </a:rPr>
              <a:t>in het troebel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ff66cc"/>
                </a:solidFill>
                <a:latin typeface="Parade"/>
              </a:rPr>
              <a:t>water van verdri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yfleur09" descr="yfleur09.gif (9782 octets)"/>
          <p:cNvPicPr/>
          <p:nvPr/>
        </p:nvPicPr>
        <p:blipFill>
          <a:blip r:embed="rId2"/>
          <a:stretch/>
        </p:blipFill>
        <p:spPr>
          <a:xfrm>
            <a:off x="6553080" y="5257800"/>
            <a:ext cx="1143000" cy="1085760"/>
          </a:xfrm>
          <a:prstGeom prst="rect">
            <a:avLst/>
          </a:prstGeom>
          <a:ln w="0">
            <a:noFill/>
          </a:ln>
        </p:spPr>
      </p:pic>
      <p:pic>
        <p:nvPicPr>
          <p:cNvPr id="88" name="yfleur09" descr="yfleur09.gif (9782 octets)"/>
          <p:cNvPicPr/>
          <p:nvPr/>
        </p:nvPicPr>
        <p:blipFill>
          <a:blip r:embed="rId3"/>
          <a:stretch/>
        </p:blipFill>
        <p:spPr>
          <a:xfrm>
            <a:off x="6705720" y="5715000"/>
            <a:ext cx="1143000" cy="1085760"/>
          </a:xfrm>
          <a:prstGeom prst="rect">
            <a:avLst/>
          </a:prstGeom>
          <a:ln w="0">
            <a:noFill/>
          </a:ln>
        </p:spPr>
      </p:pic>
      <p:pic>
        <p:nvPicPr>
          <p:cNvPr id="89" name="yfleur09" descr="yfleur09.gif (9782 octets)"/>
          <p:cNvPicPr/>
          <p:nvPr/>
        </p:nvPicPr>
        <p:blipFill>
          <a:blip r:embed="rId4"/>
          <a:stretch/>
        </p:blipFill>
        <p:spPr>
          <a:xfrm>
            <a:off x="4876920" y="5562720"/>
            <a:ext cx="1143000" cy="1085760"/>
          </a:xfrm>
          <a:prstGeom prst="rect">
            <a:avLst/>
          </a:prstGeom>
          <a:ln w="0">
            <a:noFill/>
          </a:ln>
        </p:spPr>
      </p:pic>
      <p:pic>
        <p:nvPicPr>
          <p:cNvPr id="90" name="yfleur09" descr="yfleur09.gif (9782 octets)"/>
          <p:cNvPicPr/>
          <p:nvPr/>
        </p:nvPicPr>
        <p:blipFill>
          <a:blip r:embed="rId5"/>
          <a:stretch/>
        </p:blipFill>
        <p:spPr>
          <a:xfrm>
            <a:off x="5791320" y="5486400"/>
            <a:ext cx="1143000" cy="1085760"/>
          </a:xfrm>
          <a:prstGeom prst="rect">
            <a:avLst/>
          </a:prstGeom>
          <a:ln w="0">
            <a:noFill/>
          </a:ln>
        </p:spPr>
      </p:pic>
      <p:pic>
        <p:nvPicPr>
          <p:cNvPr id="91" name="yfleur09" descr="yfleur09.gif (9782 octets)"/>
          <p:cNvPicPr/>
          <p:nvPr/>
        </p:nvPicPr>
        <p:blipFill>
          <a:blip r:embed="rId6"/>
          <a:stretch/>
        </p:blipFill>
        <p:spPr>
          <a:xfrm>
            <a:off x="7467480" y="5943600"/>
            <a:ext cx="1143000" cy="1085760"/>
          </a:xfrm>
          <a:prstGeom prst="rect">
            <a:avLst/>
          </a:prstGeom>
          <a:ln w="0">
            <a:noFill/>
          </a:ln>
        </p:spPr>
      </p:pic>
      <p:pic>
        <p:nvPicPr>
          <p:cNvPr id="92" name="yfleur09" descr="yfleur09.gif (9782 octets)"/>
          <p:cNvPicPr/>
          <p:nvPr/>
        </p:nvPicPr>
        <p:blipFill>
          <a:blip r:embed="rId7"/>
          <a:stretch/>
        </p:blipFill>
        <p:spPr>
          <a:xfrm>
            <a:off x="5181480" y="4724280"/>
            <a:ext cx="1143000" cy="1086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-28440"/>
            <a:ext cx="9144000" cy="688644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468360" y="333360"/>
            <a:ext cx="237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443640" y="4869000"/>
            <a:ext cx="244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43280" y="4941720"/>
            <a:ext cx="50403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ff66cc"/>
                </a:solidFill>
                <a:latin typeface="Poor Richard"/>
              </a:rPr>
              <a:t>                    </a:t>
            </a:r>
            <a:r>
              <a:rPr b="1" lang="nl-BE" sz="3600" spc="-1" strike="noStrike">
                <a:solidFill>
                  <a:srgbClr val="ff66cc"/>
                </a:solidFill>
                <a:latin typeface="Parade"/>
              </a:rPr>
              <a:t>Trane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ff66cc"/>
                </a:solidFill>
                <a:latin typeface="Parade"/>
              </a:rPr>
              <a:t> </a:t>
            </a:r>
            <a:r>
              <a:rPr b="1" lang="nl-BE" sz="3600" spc="-1" strike="noStrike">
                <a:solidFill>
                  <a:srgbClr val="ff66cc"/>
                </a:solidFill>
                <a:latin typeface="Parade"/>
              </a:rPr>
              <a:t>verdunnen verdri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druppels_gldblauw" descr=""/>
          <p:cNvPicPr/>
          <p:nvPr/>
        </p:nvPicPr>
        <p:blipFill>
          <a:blip r:embed="rId2"/>
          <a:stretch/>
        </p:blipFill>
        <p:spPr>
          <a:xfrm>
            <a:off x="7010280" y="685800"/>
            <a:ext cx="1714680" cy="42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468360" y="765000"/>
            <a:ext cx="3889440" cy="518508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5148360" y="476280"/>
            <a:ext cx="4248000" cy="56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ff66cc"/>
                </a:solidFill>
                <a:latin typeface="Parade"/>
              </a:rPr>
              <a:t>Geluk i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ff66cc"/>
                </a:solidFill>
                <a:latin typeface="Parade"/>
              </a:rPr>
              <a:t>    </a:t>
            </a:r>
            <a:r>
              <a:rPr b="1" lang="nl-BE" sz="3600" spc="-1" strike="noStrike">
                <a:solidFill>
                  <a:srgbClr val="ff66cc"/>
                </a:solidFill>
                <a:latin typeface="Parade"/>
              </a:rPr>
              <a:t>de  kun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ff66cc"/>
                </a:solidFill>
                <a:latin typeface="Parade"/>
              </a:rPr>
              <a:t> </a:t>
            </a:r>
            <a:r>
              <a:rPr b="1" lang="nl-BE" sz="3600" spc="-1" strike="noStrike">
                <a:solidFill>
                  <a:srgbClr val="ff66cc"/>
                </a:solidFill>
                <a:latin typeface="Parade"/>
              </a:rPr>
              <a:t>een boeke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ff66cc"/>
                </a:solidFill>
                <a:latin typeface="Parade"/>
              </a:rPr>
              <a:t>     </a:t>
            </a:r>
            <a:r>
              <a:rPr b="1" lang="nl-BE" sz="3600" spc="-1" strike="noStrike">
                <a:solidFill>
                  <a:srgbClr val="ff66cc"/>
                </a:solidFill>
                <a:latin typeface="Parade"/>
              </a:rPr>
              <a:t>te mak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ff66cc"/>
                </a:solidFill>
                <a:latin typeface="Parade"/>
              </a:rPr>
              <a:t>         </a:t>
            </a:r>
            <a:r>
              <a:rPr b="1" lang="nl-BE" sz="3600" spc="-1" strike="noStrike">
                <a:solidFill>
                  <a:srgbClr val="ff66cc"/>
                </a:solidFill>
                <a:latin typeface="Parade"/>
              </a:rPr>
              <a:t>van d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ff66cc"/>
                </a:solidFill>
                <a:latin typeface="Parade"/>
              </a:rPr>
              <a:t>  </a:t>
            </a:r>
            <a:r>
              <a:rPr b="1" lang="nl-BE" sz="3600" spc="-1" strike="noStrike">
                <a:solidFill>
                  <a:srgbClr val="ff66cc"/>
                </a:solidFill>
                <a:latin typeface="Parade"/>
              </a:rPr>
              <a:t>bloemen waar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ff66cc"/>
                </a:solidFill>
                <a:latin typeface="Parade"/>
              </a:rPr>
              <a:t>   </a:t>
            </a:r>
            <a:r>
              <a:rPr b="1" lang="nl-BE" sz="3600" spc="-1" strike="noStrike">
                <a:solidFill>
                  <a:srgbClr val="ff66cc"/>
                </a:solidFill>
                <a:latin typeface="Parade"/>
              </a:rPr>
              <a:t>je bij kan…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076720" y="836640"/>
            <a:ext cx="4067280" cy="56610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179280" y="260280"/>
            <a:ext cx="532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71640" y="1484280"/>
            <a:ext cx="194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68360" y="1052640"/>
            <a:ext cx="2735280" cy="367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68360" y="981000"/>
            <a:ext cx="395928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ff66cc"/>
                </a:solidFill>
                <a:latin typeface="Parade"/>
              </a:rPr>
              <a:t>Wie blij i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ff66cc"/>
                </a:solidFill>
                <a:latin typeface="Parade"/>
              </a:rPr>
              <a:t>met kleine dingen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ff66cc"/>
                </a:solidFill>
                <a:latin typeface="Parade"/>
              </a:rPr>
              <a:t>kan zich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ff66cc"/>
                </a:solidFill>
                <a:latin typeface="Parade"/>
              </a:rPr>
              <a:t>de hele da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ff66cc"/>
                </a:solidFill>
                <a:latin typeface="Parade"/>
              </a:rPr>
              <a:t>verheugen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rcRect l="7308" t="8462" r="19231" b="8462"/>
          <a:stretch/>
        </p:blipFill>
        <p:spPr>
          <a:xfrm>
            <a:off x="4305240" y="0"/>
            <a:ext cx="4838760" cy="54720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324000" y="3429000"/>
            <a:ext cx="532764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ff66cc"/>
                </a:solidFill>
                <a:latin typeface="Parade"/>
              </a:rPr>
              <a:t>Zoek gee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ff66cc"/>
                </a:solidFill>
                <a:latin typeface="Parade"/>
              </a:rPr>
              <a:t>   </a:t>
            </a:r>
            <a:r>
              <a:rPr b="1" lang="nl-BE" sz="3600" spc="-1" strike="noStrike">
                <a:solidFill>
                  <a:srgbClr val="ff66cc"/>
                </a:solidFill>
                <a:latin typeface="Parade"/>
              </a:rPr>
              <a:t>grote woord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ff66cc"/>
                </a:solidFill>
                <a:latin typeface="Parade"/>
              </a:rPr>
              <a:t>Als een klei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ff66cc"/>
                </a:solidFill>
                <a:latin typeface="Parade"/>
              </a:rPr>
              <a:t>      </a:t>
            </a:r>
            <a:r>
              <a:rPr b="1" lang="nl-BE" sz="3600" spc="-1" strike="noStrike">
                <a:solidFill>
                  <a:srgbClr val="ff66cc"/>
                </a:solidFill>
                <a:latin typeface="Parade"/>
              </a:rPr>
              <a:t>gebaar volstaa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vlinder_024" descr=""/>
          <p:cNvPicPr/>
          <p:nvPr/>
        </p:nvPicPr>
        <p:blipFill>
          <a:blip r:embed="rId2"/>
          <a:stretch/>
        </p:blipFill>
        <p:spPr>
          <a:xfrm>
            <a:off x="1523880" y="8380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08" name="vlinder_024" descr=""/>
          <p:cNvPicPr/>
          <p:nvPr/>
        </p:nvPicPr>
        <p:blipFill>
          <a:blip r:embed="rId3"/>
          <a:stretch/>
        </p:blipFill>
        <p:spPr>
          <a:xfrm>
            <a:off x="533520" y="5335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09" name="vlinder_024" descr=""/>
          <p:cNvPicPr/>
          <p:nvPr/>
        </p:nvPicPr>
        <p:blipFill>
          <a:blip r:embed="rId4"/>
          <a:stretch/>
        </p:blipFill>
        <p:spPr>
          <a:xfrm>
            <a:off x="990720" y="19051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10" name="vlinder09" descr=""/>
          <p:cNvPicPr/>
          <p:nvPr/>
        </p:nvPicPr>
        <p:blipFill>
          <a:blip r:embed="rId5"/>
          <a:stretch/>
        </p:blipFill>
        <p:spPr>
          <a:xfrm>
            <a:off x="7086600" y="1219320"/>
            <a:ext cx="1028880" cy="1199880"/>
          </a:xfrm>
          <a:prstGeom prst="rect">
            <a:avLst/>
          </a:prstGeom>
          <a:ln w="0">
            <a:noFill/>
          </a:ln>
        </p:spPr>
      </p:pic>
      <p:pic>
        <p:nvPicPr>
          <p:cNvPr id="111" name="anim445" descr=""/>
          <p:cNvPicPr/>
          <p:nvPr/>
        </p:nvPicPr>
        <p:blipFill>
          <a:blip r:embed="rId6"/>
          <a:stretch/>
        </p:blipFill>
        <p:spPr>
          <a:xfrm>
            <a:off x="3505320" y="2895480"/>
            <a:ext cx="1965240" cy="152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228600" y="457200"/>
            <a:ext cx="4665600" cy="583236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4932360" y="228600"/>
            <a:ext cx="5111640" cy="48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ff66cc"/>
                </a:solidFill>
                <a:latin typeface="Parade"/>
              </a:rPr>
              <a:t>Een vrien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ff66cc"/>
                </a:solidFill>
                <a:latin typeface="Parade"/>
              </a:rPr>
              <a:t>    </a:t>
            </a:r>
            <a:r>
              <a:rPr b="1" lang="nl-BE" sz="3600" spc="-1" strike="noStrike">
                <a:solidFill>
                  <a:srgbClr val="ff66cc"/>
                </a:solidFill>
                <a:latin typeface="Parade"/>
              </a:rPr>
              <a:t>is iemand die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ff66cc"/>
                </a:solidFill>
                <a:latin typeface="Parade"/>
              </a:rPr>
              <a:t>  </a:t>
            </a:r>
            <a:r>
              <a:rPr b="1" lang="nl-BE" sz="3600" spc="-1" strike="noStrike">
                <a:solidFill>
                  <a:srgbClr val="ff66cc"/>
                </a:solidFill>
                <a:latin typeface="Parade"/>
              </a:rPr>
              <a:t>als hij j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ff66cc"/>
                </a:solidFill>
                <a:latin typeface="Parade"/>
              </a:rPr>
              <a:t>   </a:t>
            </a:r>
            <a:r>
              <a:rPr b="1" lang="nl-BE" sz="3600" spc="-1" strike="noStrike">
                <a:solidFill>
                  <a:srgbClr val="ff66cc"/>
                </a:solidFill>
                <a:latin typeface="Parade"/>
              </a:rPr>
              <a:t>een hand geeft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ff66cc"/>
                </a:solidFill>
                <a:latin typeface="Parade"/>
              </a:rPr>
              <a:t>     </a:t>
            </a:r>
            <a:r>
              <a:rPr b="1" lang="nl-BE" sz="3600" spc="-1" strike="noStrike">
                <a:solidFill>
                  <a:srgbClr val="ff66cc"/>
                </a:solidFill>
                <a:latin typeface="Parade"/>
              </a:rPr>
              <a:t>eigenlijk j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ff66cc"/>
                </a:solidFill>
                <a:latin typeface="Parade"/>
              </a:rPr>
              <a:t>   </a:t>
            </a:r>
            <a:r>
              <a:rPr b="1" lang="nl-BE" sz="3600" spc="-1" strike="noStrike">
                <a:solidFill>
                  <a:srgbClr val="ff66cc"/>
                </a:solidFill>
                <a:latin typeface="Parade"/>
              </a:rPr>
              <a:t>hart aanraakt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hart203" descr=""/>
          <p:cNvPicPr/>
          <p:nvPr/>
        </p:nvPicPr>
        <p:blipFill>
          <a:blip r:embed="rId2"/>
          <a:stretch/>
        </p:blipFill>
        <p:spPr>
          <a:xfrm>
            <a:off x="7238880" y="5064120"/>
            <a:ext cx="1714680" cy="179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1052640"/>
            <a:ext cx="5651640" cy="43974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5724360" y="1773360"/>
            <a:ext cx="2592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796000" y="1268280"/>
            <a:ext cx="388764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ff66cc"/>
                </a:solidFill>
                <a:latin typeface="Parade"/>
              </a:rPr>
              <a:t>Het aardigs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ff66cc"/>
                </a:solidFill>
                <a:latin typeface="Parade"/>
              </a:rPr>
              <a:t>      </a:t>
            </a:r>
            <a:r>
              <a:rPr b="1" lang="nl-BE" sz="3600" spc="-1" strike="noStrike">
                <a:solidFill>
                  <a:srgbClr val="ff66cc"/>
                </a:solidFill>
                <a:latin typeface="Parade"/>
              </a:rPr>
              <a:t>va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ff66cc"/>
                </a:solidFill>
                <a:latin typeface="Parade"/>
              </a:rPr>
              <a:t>plezierig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ff66cc"/>
                </a:solidFill>
                <a:latin typeface="Parade"/>
              </a:rPr>
              <a:t>  </a:t>
            </a:r>
            <a:r>
              <a:rPr b="1" lang="nl-BE" sz="3600" spc="-1" strike="noStrike">
                <a:solidFill>
                  <a:srgbClr val="ff66cc"/>
                </a:solidFill>
                <a:latin typeface="Parade"/>
              </a:rPr>
              <a:t>dingen is d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ff66cc"/>
                </a:solidFill>
                <a:latin typeface="Parade"/>
              </a:rPr>
              <a:t>  </a:t>
            </a:r>
            <a:r>
              <a:rPr b="1" lang="nl-BE" sz="3600" spc="-1" strike="noStrike">
                <a:solidFill>
                  <a:srgbClr val="ff66cc"/>
                </a:solidFill>
                <a:latin typeface="Parade"/>
              </a:rPr>
              <a:t>herinnering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0flower332" descr=""/>
          <p:cNvPicPr/>
          <p:nvPr/>
        </p:nvPicPr>
        <p:blipFill>
          <a:blip r:embed="rId2"/>
          <a:stretch/>
        </p:blipFill>
        <p:spPr>
          <a:xfrm>
            <a:off x="3733920" y="3505320"/>
            <a:ext cx="1520640" cy="1143000"/>
          </a:xfrm>
          <a:prstGeom prst="rect">
            <a:avLst/>
          </a:prstGeom>
          <a:ln w="0">
            <a:noFill/>
          </a:ln>
        </p:spPr>
      </p:pic>
      <p:pic>
        <p:nvPicPr>
          <p:cNvPr id="119" name="0flower332" descr=""/>
          <p:cNvPicPr/>
          <p:nvPr/>
        </p:nvPicPr>
        <p:blipFill>
          <a:blip r:embed="rId3"/>
          <a:stretch/>
        </p:blipFill>
        <p:spPr>
          <a:xfrm>
            <a:off x="4495680" y="4419720"/>
            <a:ext cx="1521000" cy="1143000"/>
          </a:xfrm>
          <a:prstGeom prst="rect">
            <a:avLst/>
          </a:prstGeom>
          <a:ln w="0">
            <a:noFill/>
          </a:ln>
        </p:spPr>
      </p:pic>
      <p:pic>
        <p:nvPicPr>
          <p:cNvPr id="120" name="0flower332" descr=""/>
          <p:cNvPicPr/>
          <p:nvPr/>
        </p:nvPicPr>
        <p:blipFill>
          <a:blip r:embed="rId4"/>
          <a:stretch/>
        </p:blipFill>
        <p:spPr>
          <a:xfrm>
            <a:off x="5181480" y="5410080"/>
            <a:ext cx="1521000" cy="114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-8190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1547640" y="981000"/>
            <a:ext cx="604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4648320"/>
            <a:ext cx="914400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ff66cc"/>
                </a:solidFill>
                <a:latin typeface="Parade"/>
              </a:rPr>
              <a:t>    </a:t>
            </a:r>
            <a:r>
              <a:rPr b="1" lang="nl-BE" sz="3600" spc="-1" strike="noStrike">
                <a:solidFill>
                  <a:srgbClr val="ff66cc"/>
                </a:solidFill>
                <a:latin typeface="Parade"/>
              </a:rPr>
              <a:t>Spreek slechts van liefde als je we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ff66cc"/>
                </a:solidFill>
                <a:latin typeface="Parade"/>
              </a:rPr>
              <a:t>                         </a:t>
            </a:r>
            <a:r>
              <a:rPr b="1" lang="nl-BE" sz="3600" spc="-1" strike="noStrike">
                <a:solidFill>
                  <a:srgbClr val="ff66cc"/>
                </a:solidFill>
                <a:latin typeface="Parade"/>
              </a:rPr>
              <a:t>wat tederheid is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ff66cc"/>
                </a:solidFill>
                <a:latin typeface="Parade"/>
              </a:rPr>
              <a:t>      </a:t>
            </a:r>
            <a:r>
              <a:rPr b="1" lang="nl-BE" sz="3600" spc="-1" strike="noStrike">
                <a:solidFill>
                  <a:srgbClr val="ff66cc"/>
                </a:solidFill>
                <a:latin typeface="Parade"/>
              </a:rPr>
              <a:t>PPS Je@aaa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6934320" y="5943600"/>
            <a:ext cx="587160" cy="76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-181080" y="-307800"/>
            <a:ext cx="10080720" cy="7472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0" y="-316080"/>
            <a:ext cx="896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1280" y="0"/>
            <a:ext cx="7632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258920" y="189000"/>
            <a:ext cx="5977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020000" y="6237360"/>
            <a:ext cx="1944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6491160"/>
            <a:ext cx="4319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659640" y="6515280"/>
            <a:ext cx="3097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95280" y="476280"/>
            <a:ext cx="439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ff66cc"/>
                </a:solidFill>
                <a:latin typeface="Parade"/>
              </a:rPr>
              <a:t>De hoogste wijshei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219640" y="5257800"/>
            <a:ext cx="417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ff66cc"/>
                </a:solidFill>
                <a:latin typeface="Parade"/>
              </a:rPr>
              <a:t>Is vriendelijkheid…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rcRect l="0" t="0" r="0" b="5906"/>
          <a:stretch/>
        </p:blipFill>
        <p:spPr>
          <a:xfrm>
            <a:off x="297000" y="333360"/>
            <a:ext cx="4935240" cy="61912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5724360" y="2133720"/>
            <a:ext cx="2735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724360" y="1700280"/>
            <a:ext cx="31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580000" y="1268280"/>
            <a:ext cx="287964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ff66cc"/>
                </a:solidFill>
                <a:latin typeface="Parade"/>
              </a:rPr>
              <a:t>Weglope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ff66cc"/>
                </a:solidFill>
                <a:latin typeface="Parade"/>
              </a:rPr>
              <a:t>van d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ff66cc"/>
                </a:solidFill>
                <a:latin typeface="Parade"/>
              </a:rPr>
              <a:t> </a:t>
            </a:r>
            <a:r>
              <a:rPr b="1" lang="nl-BE" sz="3600" spc="-1" strike="noStrike">
                <a:solidFill>
                  <a:srgbClr val="ff66cc"/>
                </a:solidFill>
                <a:latin typeface="Parade"/>
              </a:rPr>
              <a:t>waarhei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ff66cc"/>
                </a:solidFill>
                <a:latin typeface="Parade"/>
              </a:rPr>
              <a:t>is weglope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ff66cc"/>
                </a:solidFill>
                <a:latin typeface="Parade"/>
              </a:rPr>
              <a:t>van jezelf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-63360"/>
            <a:ext cx="9144000" cy="69847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324000" y="333360"/>
            <a:ext cx="403200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ff66cc"/>
                </a:solidFill>
                <a:latin typeface="Parade"/>
              </a:rPr>
              <a:t>Het verlede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ff66cc"/>
                </a:solidFill>
                <a:latin typeface="Parade"/>
              </a:rPr>
              <a:t>   </a:t>
            </a:r>
            <a:r>
              <a:rPr b="1" lang="nl-BE" sz="3600" spc="-1" strike="noStrike">
                <a:solidFill>
                  <a:srgbClr val="ff66cc"/>
                </a:solidFill>
                <a:latin typeface="Parade"/>
              </a:rPr>
              <a:t>is he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ff66cc"/>
                </a:solidFill>
                <a:latin typeface="Parade"/>
              </a:rPr>
              <a:t>  </a:t>
            </a:r>
            <a:r>
              <a:rPr b="1" lang="nl-BE" sz="3600" spc="-1" strike="noStrike">
                <a:solidFill>
                  <a:srgbClr val="ff66cc"/>
                </a:solidFill>
                <a:latin typeface="Parade"/>
              </a:rPr>
              <a:t>enige deel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ff66cc"/>
                </a:solidFill>
                <a:latin typeface="Parade"/>
              </a:rPr>
              <a:t>van je lev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716360" y="4869000"/>
            <a:ext cx="381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ff66cc"/>
                </a:solidFill>
                <a:latin typeface="Parade"/>
              </a:rPr>
              <a:t>Dat je niet kunt veranderen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rcRect l="0" t="0" r="0" b="13801"/>
          <a:stretch/>
        </p:blipFill>
        <p:spPr>
          <a:xfrm>
            <a:off x="4427640" y="549360"/>
            <a:ext cx="4716360" cy="58323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539640" y="1268280"/>
            <a:ext cx="540072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ff66cc"/>
                </a:solidFill>
                <a:latin typeface="Parade"/>
              </a:rPr>
              <a:t>De herinne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ff66cc"/>
                </a:solidFill>
                <a:latin typeface="Parade"/>
              </a:rPr>
              <a:t>die je later wil hebbe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ff66cc"/>
                </a:solidFill>
                <a:latin typeface="Parade"/>
              </a:rPr>
              <a:t>moet je nu maken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06" descr=""/>
          <p:cNvPicPr/>
          <p:nvPr/>
        </p:nvPicPr>
        <p:blipFill>
          <a:blip r:embed="rId2"/>
          <a:stretch/>
        </p:blipFill>
        <p:spPr>
          <a:xfrm>
            <a:off x="762120" y="3962520"/>
            <a:ext cx="1714320" cy="245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572000" y="476280"/>
            <a:ext cx="4375080" cy="58323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468360" y="5589720"/>
            <a:ext cx="352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39640" y="609480"/>
            <a:ext cx="3888000" cy="56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ff66cc"/>
                </a:solidFill>
                <a:latin typeface="Poor Richard"/>
              </a:rPr>
              <a:t>Een optimis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ff66cc"/>
                </a:solidFill>
                <a:latin typeface="Poor Richard"/>
              </a:rPr>
              <a:t>  </a:t>
            </a:r>
            <a:r>
              <a:rPr b="1" lang="nl-BE" sz="3600" spc="-1" strike="noStrike">
                <a:solidFill>
                  <a:srgbClr val="ff66cc"/>
                </a:solidFill>
                <a:latin typeface="Poor Richard"/>
              </a:rPr>
              <a:t>vergist zich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ff66cc"/>
                </a:solidFill>
                <a:latin typeface="Poor Richard"/>
              </a:rPr>
              <a:t>        </a:t>
            </a:r>
            <a:r>
              <a:rPr b="1" lang="nl-BE" sz="3600" spc="-1" strike="noStrike">
                <a:solidFill>
                  <a:srgbClr val="ff66cc"/>
                </a:solidFill>
                <a:latin typeface="Poor Richard"/>
              </a:rPr>
              <a:t>evenzeer als een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ff66cc"/>
                </a:solidFill>
                <a:latin typeface="Poor Richard"/>
              </a:rPr>
              <a:t>   </a:t>
            </a:r>
            <a:r>
              <a:rPr b="1" lang="nl-BE" sz="3600" spc="-1" strike="noStrike">
                <a:solidFill>
                  <a:srgbClr val="ff66cc"/>
                </a:solidFill>
                <a:latin typeface="Poor Richard"/>
              </a:rPr>
              <a:t>pessimist maar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ff66cc"/>
                </a:solidFill>
                <a:latin typeface="Poor Richard"/>
              </a:rPr>
              <a:t>     </a:t>
            </a:r>
            <a:r>
              <a:rPr b="1" lang="nl-BE" sz="3600" spc="-1" strike="noStrike">
                <a:solidFill>
                  <a:srgbClr val="ff66cc"/>
                </a:solidFill>
                <a:latin typeface="Parade"/>
              </a:rPr>
              <a:t>hij</a:t>
            </a:r>
            <a:r>
              <a:rPr b="1" lang="nl-BE" sz="3600" spc="-1" strike="noStrike">
                <a:solidFill>
                  <a:srgbClr val="ff66cc"/>
                </a:solidFill>
                <a:latin typeface="Poor Richard"/>
              </a:rPr>
              <a:t> is gelukkig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250920" y="476280"/>
            <a:ext cx="5402160" cy="583236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5796000" y="1268280"/>
            <a:ext cx="3097080" cy="42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ff66cc"/>
                </a:solidFill>
                <a:latin typeface="Parade"/>
              </a:rPr>
              <a:t>Oud worde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ff66cc"/>
                </a:solidFill>
                <a:latin typeface="Parade"/>
              </a:rPr>
              <a:t>is geen kunst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ff66cc"/>
                </a:solidFill>
                <a:latin typeface="Parade"/>
              </a:rPr>
              <a:t>er leren me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ff66cc"/>
                </a:solidFill>
                <a:latin typeface="Parade"/>
              </a:rPr>
              <a:t>omgaan wel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rcRect l="9083" t="6812" r="9083" b="7191"/>
          <a:stretch/>
        </p:blipFill>
        <p:spPr>
          <a:xfrm>
            <a:off x="755640" y="1197000"/>
            <a:ext cx="4044960" cy="4248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250920" y="189000"/>
            <a:ext cx="5113080" cy="6480000"/>
          </a:xfrm>
          <a:prstGeom prst="bevel">
            <a:avLst>
              <a:gd name="adj" fmla="val 12500"/>
            </a:avLst>
          </a:prstGeom>
          <a:noFill/>
          <a:ln w="9360">
            <a:solidFill>
              <a:srgbClr val="ebe6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7280" y="765000"/>
            <a:ext cx="2952720" cy="619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ff66cc"/>
                </a:solidFill>
                <a:latin typeface="Parade"/>
              </a:rPr>
              <a:t>Hoop i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ff66cc"/>
                </a:solidFill>
                <a:latin typeface="Parade"/>
              </a:rPr>
              <a:t>    </a:t>
            </a:r>
            <a:r>
              <a:rPr b="1" lang="nl-BE" sz="3600" spc="-1" strike="noStrike">
                <a:solidFill>
                  <a:srgbClr val="ff66cc"/>
                </a:solidFill>
                <a:latin typeface="Parade"/>
              </a:rPr>
              <a:t>ee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ff66cc"/>
                </a:solidFill>
                <a:latin typeface="Parade"/>
              </a:rPr>
              <a:t>voorscho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ff66cc"/>
                </a:solidFill>
                <a:latin typeface="Parade"/>
              </a:rPr>
              <a:t>op toekomstig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ff66cc"/>
                </a:solidFill>
                <a:latin typeface="Parade"/>
              </a:rPr>
              <a:t>    </a:t>
            </a:r>
            <a:r>
              <a:rPr b="1" lang="nl-BE" sz="3600" spc="-1" strike="noStrike">
                <a:solidFill>
                  <a:srgbClr val="ff66cc"/>
                </a:solidFill>
                <a:latin typeface="Parade"/>
              </a:rPr>
              <a:t>geluk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ff66cc"/>
                </a:solidFill>
                <a:latin typeface="Parade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anim288" descr=""/>
          <p:cNvPicPr/>
          <p:nvPr/>
        </p:nvPicPr>
        <p:blipFill>
          <a:blip r:embed="rId2"/>
          <a:stretch/>
        </p:blipFill>
        <p:spPr>
          <a:xfrm>
            <a:off x="2362320" y="2057400"/>
            <a:ext cx="982440" cy="99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4716360" y="333360"/>
            <a:ext cx="4113360" cy="58770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755640" y="692280"/>
            <a:ext cx="410364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ff66cc"/>
                </a:solidFill>
                <a:latin typeface="Parade"/>
              </a:rPr>
              <a:t>Hoe rechtvaardi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ff66cc"/>
                </a:solidFill>
                <a:latin typeface="Parade"/>
              </a:rPr>
              <a:t>    </a:t>
            </a:r>
            <a:r>
              <a:rPr b="1" lang="nl-BE" sz="3600" spc="-1" strike="noStrike">
                <a:solidFill>
                  <a:srgbClr val="ff66cc"/>
                </a:solidFill>
                <a:latin typeface="Parade"/>
              </a:rPr>
              <a:t>ze ook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ff66cc"/>
                </a:solidFill>
                <a:latin typeface="Parade"/>
              </a:rPr>
              <a:t>    </a:t>
            </a:r>
            <a:r>
              <a:rPr b="1" lang="nl-BE" sz="3600" spc="-1" strike="noStrike">
                <a:solidFill>
                  <a:srgbClr val="ff66cc"/>
                </a:solidFill>
                <a:latin typeface="Parade"/>
              </a:rPr>
              <a:t>mogen zij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ff66cc"/>
                </a:solidFill>
                <a:latin typeface="Parade"/>
              </a:rPr>
              <a:t>harde woord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ff66cc"/>
                </a:solidFill>
                <a:latin typeface="Parade"/>
              </a:rPr>
              <a:t>  </a:t>
            </a:r>
            <a:r>
              <a:rPr b="1" lang="nl-BE" sz="3600" spc="-1" strike="noStrike">
                <a:solidFill>
                  <a:srgbClr val="ff66cc"/>
                </a:solidFill>
                <a:latin typeface="Parade"/>
              </a:rPr>
              <a:t>bijten altijd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3T23:14:59Z</dcterms:created>
  <dc:creator>sylvi@</dc:creator>
  <dc:description/>
  <dc:language>en-US</dc:language>
  <cp:lastModifiedBy>guhm38</cp:lastModifiedBy>
  <dcterms:modified xsi:type="dcterms:W3CDTF">2006-11-19T14:55:09Z</dcterms:modified>
  <cp:revision>12</cp:revision>
  <dc:subject/>
  <dc:title>Dia 1</dc:title>
</cp:coreProperties>
</file>