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Haven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ABB9-8BEF-4F90-AE47-3A42C188A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41C9-69AE-4AA3-9A40-4AD0EB75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6C5E-6745-40EA-AD24-30A0A101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9C58-3200-47FA-884C-B9FD9034F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AA0A-1520-4588-A5E0-C4ACCE47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825F-7E83-41DA-85CC-E7938B5E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28F0-5EFB-4086-87BC-F04053C1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1E6D-C780-402C-BB2B-327C0432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F780-D100-47A7-BF38-C8D64A57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E5A5-FF64-4E1E-9DAE-65649650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697E-D664-4F0E-BADC-CABBCCD9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17FA-D03A-45B0-B00F-749442AA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28E6-4405-4C5C-88B2-C1C8DB8B1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audio" Target="../media/Haven.wav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467000" y="0"/>
            <a:ext cx="6210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59280" y="3789360"/>
            <a:ext cx="30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16360" y="2997360"/>
            <a:ext cx="30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Monotype Corsiva"/>
                <a:ea typeface="新細明體"/>
              </a:rPr>
              <a:t>Robert Productions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68720" y="4797360"/>
            <a:ext cx="2806560" cy="142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7280" y="364500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33cc33"/>
                </a:solidFill>
                <a:latin typeface="Arial"/>
                <a:ea typeface="新細明體"/>
              </a:rPr>
              <a:t>Powerpoint 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“Echte Nostalgi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19640" y="4221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新細明體"/>
              </a:rPr>
              <a:t>Wordt geactive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4771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eluid aanze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checker dir="vert"/>
    <p:sndAc>
      <p:stSnd>
        <p:snd r:embed="rId4" name="Have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9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9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9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9250"/>
                            </p:stCondLst>
                            <p:childTnLst>
                              <p:par>
                                <p:cTn id="30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250" autoRev="1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" dur="7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6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6318360" y="1165320"/>
            <a:ext cx="2286000" cy="453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Veel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agen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orde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geholpe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oor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en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ekhond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6000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1680" y="0"/>
            <a:ext cx="9144000" cy="568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250920" y="5805360"/>
            <a:ext cx="458136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en aantal jaren na de oorlog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11640" y="6308640"/>
            <a:ext cx="46306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indelijk de koffie van de bon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7000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1680" y="144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623880" y="5877000"/>
            <a:ext cx="5676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e levensmiddelenkar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3000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1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322880" y="404640"/>
            <a:ext cx="43527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Hier is de visboer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5000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840" y="1008000"/>
            <a:ext cx="9144000" cy="5889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562040" y="189000"/>
            <a:ext cx="6019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aarden bij de hoefsmid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5000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1680" y="30240"/>
            <a:ext cx="9144000" cy="5788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179280" y="5950080"/>
            <a:ext cx="40006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e scharensliep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38240" y="6415200"/>
            <a:ext cx="821052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om messen en scharen te slijpe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6000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680" y="244440"/>
            <a:ext cx="9144000" cy="5353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324000" y="5805360"/>
            <a:ext cx="8496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angs onze kusten, worden schelpen geschep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6000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1680" y="141120"/>
            <a:ext cx="9144000" cy="6575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657360" y="6021360"/>
            <a:ext cx="782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oseren tijdens een naaicursu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5000"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61800" y="31680"/>
            <a:ext cx="57834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6354720" y="517680"/>
            <a:ext cx="2610000" cy="582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oeder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raaid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haar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hand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nie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om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voo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kruiwage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9000"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5680" cy="6099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628640" y="6251400"/>
            <a:ext cx="5886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en ploeg roggebinder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6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039760" y="981000"/>
            <a:ext cx="51246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en beetje nostalg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936880" y="2997360"/>
            <a:ext cx="3219480" cy="75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it de jar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76480" y="4869000"/>
            <a:ext cx="67910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e al ver achter ons ligg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3000"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6948360" y="692280"/>
            <a:ext cx="219564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en 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entrifuge,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elnee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gewoon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e 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ringer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7000"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1680" y="39600"/>
            <a:ext cx="9144000" cy="6016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108000" y="6199200"/>
            <a:ext cx="468612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at wasmachine 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950000" y="6253200"/>
            <a:ext cx="4086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Hier op de blee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6000"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68880" cy="6840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5364000" y="981000"/>
            <a:ext cx="360072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ioscoop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n de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jaren '4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5000">
    <p:checke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324000" y="5805360"/>
            <a:ext cx="8351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ie van de ouderen heeft hier niet in gelege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8000"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1680" y="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908000" y="5084640"/>
            <a:ext cx="521028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en belastingplaatje was verplicht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195640" y="5589720"/>
            <a:ext cx="16002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op de fiets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95640" y="5589720"/>
            <a:ext cx="27529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,was je werkeloos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340000" y="6237360"/>
            <a:ext cx="40672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kon je het gratis verkrijgen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9000"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2124000" y="6021360"/>
            <a:ext cx="4969080" cy="61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pelletjes zijn  van alle tijden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8000">
    <p:checke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6360" y="228600"/>
            <a:ext cx="9144000" cy="6369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250920" y="333360"/>
            <a:ext cx="44575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eisjesspeelgoed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921200" y="333360"/>
            <a:ext cx="39718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en theeserviesj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003640" y="907920"/>
            <a:ext cx="3600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hoorde daarbij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8000">
    <p:checke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2695680" y="189000"/>
            <a:ext cx="3752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Fordje uit 1927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5000">
    <p:checke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90360"/>
            <a:ext cx="9144000" cy="6677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976320" y="6021360"/>
            <a:ext cx="7191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ermtoerisme in de jaren '50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6000">
    <p:checke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2619360" y="6021360"/>
            <a:ext cx="3905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Kampeerwagen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7000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050920" y="189000"/>
            <a:ext cx="608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elk zo van de boerderij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68360" y="836640"/>
            <a:ext cx="50007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naar de melkfabrie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8000">
    <p:checke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6300720" y="2492280"/>
            <a:ext cx="230364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kolenhaard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300720" y="3357720"/>
            <a:ext cx="23036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uit de jaren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659640" y="4508640"/>
            <a:ext cx="1368360" cy="68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'50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372360" y="1844640"/>
            <a:ext cx="23763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oderne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6000"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2627280" y="476280"/>
            <a:ext cx="4210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Keuken jaren '5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7000">
    <p:checke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1680" y="120600"/>
            <a:ext cx="9144000" cy="5060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250920" y="5302080"/>
            <a:ext cx="5743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it soort fietsenrekke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747880" y="5950080"/>
            <a:ext cx="535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zien we nog wel een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6000">
    <p:checke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hecke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627280" y="2924280"/>
            <a:ext cx="360036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in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 rot="763200">
            <a:off x="4356000" y="-316080"/>
            <a:ext cx="158436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elkboer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et ee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z.g kerrie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7000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1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2712960" y="6021360"/>
            <a:ext cx="51721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elkkannen schuren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7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8508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7272360" y="1197000"/>
            <a:ext cx="187164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1949 de</a:t>
            </a:r>
            <a:endParaRPr b="0" lang="en-US" sz="18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elkboer </a:t>
            </a:r>
            <a:endParaRPr b="0" lang="en-US" sz="18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nog aan </a:t>
            </a:r>
            <a:endParaRPr b="0" lang="en-US" sz="18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huis</a:t>
            </a:r>
            <a:endParaRPr b="0" lang="en-US" sz="1800" spc="1" strike="noStrike">
              <a:ln w="0">
                <a:noFill/>
              </a:ln>
              <a:solidFill>
                <a:srgbClr val="99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8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5796000" y="1812960"/>
            <a:ext cx="3219480" cy="323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1949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ersoonlijke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ervic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van de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kruidenie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6000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2436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6084720" y="1700280"/>
            <a:ext cx="2743200" cy="263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lles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erd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fgewoge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6000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6440400" y="1488960"/>
            <a:ext cx="187668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Ook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erd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r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el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ui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ezorg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7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9T19:48:16Z</dcterms:created>
  <dc:creator>hans</dc:creator>
  <dc:description/>
  <dc:language>en-US</dc:language>
  <cp:lastModifiedBy>cor dogge</cp:lastModifiedBy>
  <dcterms:modified xsi:type="dcterms:W3CDTF">2009-10-24T12:55:29Z</dcterms:modified>
  <cp:revision>11</cp:revision>
  <dc:subject/>
  <dc:title>Dia 1</dc:title>
</cp:coreProperties>
</file>