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08%20Je%20T'aime%20Heisst%20Ich%20Liebe%20Dich.wav" ContentType="audio/x-wav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7BA-0416-4E49-A655-58571340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861-1D46-4D70-9E6A-12363B7E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EF0-FEF3-4EBC-BAD4-FA8AAA9A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FE44-2323-46C7-9397-6FFCDB3F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A37-6352-4442-A4B2-2F17AADE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173-5CBA-4EBD-8D5E-8A2F2DEC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7893-2D79-48C8-8994-935F136C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B07-0D23-4F5A-991D-A0C6D8F4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5648-8B4A-41DA-806E-7CF83744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C71-F7F0-439E-B3A4-3870925A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239E-4DA8-4814-A904-45325420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0F4E-A16C-4FEA-A984-FBA6F3CD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D0C2-8FEB-4971-B1EA-7DAA05C8B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8%20Je%20T&apos;aime%20Heisst%20Ich%20Liebe%20Dich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Di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411280" y="260280"/>
            <a:ext cx="4981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s Schwarzwald - D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42920" y="6165720"/>
            <a:ext cx="24573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ziek - Die Flipper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e t'aime heisst ich liebe dich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12000">
    <p:zoom dir="out"/>
    <p:sndAc>
      <p:stSnd>
        <p:snd r:embed="rId2" name="08%20Je%20T'aime%20Heisst%20Ich%20Liebe%20Dic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Dia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Dia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Dia2" descr=""/>
          <p:cNvPicPr/>
          <p:nvPr/>
        </p:nvPicPr>
        <p:blipFill>
          <a:blip r:embed="rId1"/>
          <a:stretch/>
        </p:blipFill>
        <p:spPr>
          <a:xfrm>
            <a:off x="-252360" y="0"/>
            <a:ext cx="9648720" cy="7101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Dia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Dia3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792000" cy="741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Dia4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9720360" cy="741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6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9720360" cy="7490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Dia7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9648720" cy="741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Dia8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648720" cy="741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Dia9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648720" cy="741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Dia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Dia10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648720" cy="734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Dia16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648720" cy="734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Dia17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648720" cy="734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Dia19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648720" cy="7344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564000" y="260280"/>
            <a:ext cx="191448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En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308720" y="6453360"/>
            <a:ext cx="126684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oetjes jantjebeton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10000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Dia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Dia12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648720" cy="741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Dia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Dia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Dia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Dia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Di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8:39:16Z</dcterms:created>
  <dc:creator>jantjebeton</dc:creator>
  <dc:description>19/02/2009</dc:description>
  <dc:language>en-US</dc:language>
  <cp:lastModifiedBy>Eric PARMENTIER</cp:lastModifiedBy>
  <dcterms:modified xsi:type="dcterms:W3CDTF">2009-07-29T00:01:23Z</dcterms:modified>
  <cp:revision>3</cp:revision>
  <dc:subject/>
  <dc:title>Das Schwarzwald - DE</dc:title>
</cp:coreProperties>
</file>