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08%20Je%20T'aime%20Heisst%20Ich%20Liebe%20Dich.wav" ContentType="audio/x-wav"/>
  <Override PartName="/ppt/media/image5.jpeg" ContentType="image/jpeg"/>
  <Override PartName="/ppt/media/image4.jpeg" ContentType="image/jpeg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1E3-BDA1-4586-8E82-3500BB1D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59A-BBBD-4EB4-9FDD-D5BC884C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68B-40A9-49F2-AF0C-32631601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C274-549A-4D8F-AFEF-E074C321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5E2-AF42-4967-98C0-36B62833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142-50F2-484D-BEF3-9695305D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F89-6046-4DAE-94AC-10826BF9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AB19-0D8A-434A-BE1D-B833383F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628-60FD-4022-B16C-51082EA7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382-A5DF-48D8-85C0-50C9AFCA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028-6809-4801-BE2A-117BAA18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02C-8A0B-4696-9E1A-9F18D2AA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7FD0-8350-490B-9B86-BBE657AD1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8%20Je%20T&apos;aime%20Heisst%20Ich%20Liebe%20Dich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Di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411280" y="260280"/>
            <a:ext cx="4981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s Schwarzwald - D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42920" y="6165720"/>
            <a:ext cx="24573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ziek - Die Flippers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e t'aime heisst ich liebe dich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12000">
    <p:zoom dir="out"/>
    <p:sndAc>
      <p:stSnd>
        <p:snd r:embed="rId2" name="08%20Je%20T'aime%20Heisst%20Ich%20Liebe%20Dic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Dia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Dia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Dia2" descr=""/>
          <p:cNvPicPr/>
          <p:nvPr/>
        </p:nvPicPr>
        <p:blipFill>
          <a:blip r:embed="rId1"/>
          <a:stretch/>
        </p:blipFill>
        <p:spPr>
          <a:xfrm>
            <a:off x="-252360" y="0"/>
            <a:ext cx="9648720" cy="7101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Dia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Dia3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792000" cy="741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Dia4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9720360" cy="741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6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9720360" cy="7490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Dia7" descr=""/>
          <p:cNvPicPr/>
          <p:nvPr/>
        </p:nvPicPr>
        <p:blipFill>
          <a:blip r:embed="rId1"/>
          <a:stretch/>
        </p:blipFill>
        <p:spPr>
          <a:xfrm>
            <a:off x="-252360" y="-316080"/>
            <a:ext cx="9648720" cy="741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Dia8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648720" cy="741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Dia9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648720" cy="741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Dia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Dia10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648720" cy="734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Dia16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648720" cy="734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Dia17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648720" cy="7344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Dia19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648720" cy="7344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564000" y="260280"/>
            <a:ext cx="191448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En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308720" y="6453360"/>
            <a:ext cx="1266840" cy="1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oetjes jantjebeton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10000"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Dia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Dia12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648720" cy="7417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Dia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Dia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Dia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Dia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Di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8:39:16Z</dcterms:created>
  <dc:creator>jantjebeton</dc:creator>
  <dc:description>19/02/2009</dc:description>
  <dc:language>en-US</dc:language>
  <cp:lastModifiedBy>Eric PARMENTIER</cp:lastModifiedBy>
  <dcterms:modified xsi:type="dcterms:W3CDTF">2009-07-29T00:01:23Z</dcterms:modified>
  <cp:revision>3</cp:revision>
  <dc:subject/>
  <dc:title>Das Schwarzwald - DE</dc:title>
</cp:coreProperties>
</file>