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wmf" ContentType="image/x-wmf"/>
  <Override PartName="/ppt/media/Bilitis%20Pourcel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5611"/>
            </a:avLst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 rot="20893800">
            <a:off x="-34560" y="3579840"/>
            <a:ext cx="1370160" cy="22496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543880" y="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8543880" y="624852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0" y="6248520"/>
            <a:ext cx="600120" cy="609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 flipH="1" rot="706200">
            <a:off x="7909920" y="1998720"/>
            <a:ext cx="1242720" cy="2039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litis%20Pource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54864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336600"/>
                </a:solidFill>
                <a:latin typeface="One Stroke Script LET"/>
              </a:rPr>
              <a:t>Muziek : Frank Pourcel *** B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20733600">
            <a:off x="1623960" y="1528560"/>
            <a:ext cx="5832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Momenten van bezinning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 advTm="8000">
    <p:comb dir="horz"/>
    <p:sndAc>
      <p:stSnd>
        <p:snd r:embed="rId1" name="Bilitis%20Pource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95640" y="1341360"/>
            <a:ext cx="4968720" cy="4392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905120"/>
            <a:ext cx="453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Lucida Calligraphy"/>
              </a:rPr>
              <a:t>Het is bij het ouder             worden ,                                                dat men leert jong ,                                                     te blij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cc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Phantasialand 2006 von Just Fun"/>
          <p:cNvPicPr/>
          <p:nvPr/>
        </p:nvPicPr>
        <p:blipFill>
          <a:blip r:embed="rId1"/>
          <a:stretch/>
        </p:blipFill>
        <p:spPr>
          <a:xfrm>
            <a:off x="380880" y="533520"/>
            <a:ext cx="8382240" cy="5715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03280" y="1197000"/>
            <a:ext cx="6337440" cy="4680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0920" y="1628640"/>
            <a:ext cx="4897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Lucida Calligraphy"/>
              </a:rPr>
              <a:t>Indien iemand                 beweert dat hij op zijn zestigste nog evengoed presteert, als op zijn twintigste,                                                                   betekent dit :                                                                                               dat hij op die ouderdom ,                                                                           er niet veel van            terecht bra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roken heart von Nina Bucks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03280" y="1341360"/>
            <a:ext cx="6337440" cy="431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8360" y="1844640"/>
            <a:ext cx="475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Ouderdom laat         alles mooier lijken.                                          Hij heeft het effekt ,                                                                      van een ondergaande zon ,                                                           op de deemstering van de herfst.</a:t>
            </a: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Gestern Abend am Zürichsee von Micha Ber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03280" y="1484280"/>
            <a:ext cx="6337440" cy="45370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2133720"/>
            <a:ext cx="54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Bij het ouder worden ontdoet men zich,                 meestal van zijn gebreken,                                                         omdat ze toch geen enkel nut                meer hebb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Viel Lärm um nichts von V E L V E T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Viel Lärm um nichts von V E L V E 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32000" y="907920"/>
            <a:ext cx="6985080" cy="52578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5280" y="1268280"/>
            <a:ext cx="597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Lucida Calligraphy"/>
              </a:rPr>
              <a:t>In het leven van                     een man zijn er  vier belangrijke perioden:                                                      wanneer  hij in Sinterklaas gelooft, wanneer hij niet meer in Sinterklaas gelooft,                                         wanneer hij Sinterklaas is                                                               en tenslotte wanneer hij         meer en meer op Sinterklaas           gaat lij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mb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Merry Christmas von Inge Ha.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03280" y="1052640"/>
            <a:ext cx="6337440" cy="5184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47640" y="1773360"/>
            <a:ext cx="60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Ouderdom is helaas ,                                      de winter voor velen ,           maar voor de optimisten ,                                        en de wijzen                                        is het een,                           gelukkige en vruchtbare oogsttij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557360"/>
            <a:ext cx="6337080" cy="4103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2362320"/>
            <a:ext cx="554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De goede kant van het verouderen is ,                                          de vaststelling :                                                                               dat men steeds jonger is                                                          dan men ooit zal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glückliche Familie von Volker Langefeld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glückliche Familie von Volker Langef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8000" y="1628640"/>
            <a:ext cx="5472360" cy="37450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000" y="2276640"/>
            <a:ext cx="52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Wie zichzelf te               oud vindt ,                                                                     om nog iets te leren ,                                                                     is waarschijnlijk          altijd zo gewe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comb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Some Kind of Beautiful von Viola Har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20082600">
            <a:off x="32040" y="8283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b57713"/>
                </a:solidFill>
                <a:latin typeface="One Stroke Script LET"/>
              </a:rPr>
              <a:t>Groetj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38160">
            <a:solidFill>
              <a:srgbClr val="b57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082600">
            <a:off x="4528080" y="464472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b57713"/>
                </a:solidFill>
                <a:latin typeface="One Stroke Script LET"/>
              </a:rPr>
              <a:t>Tot zien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"/>
                            </p:stCondLst>
                            <p:childTnLst>
                              <p:par>
                                <p:cTn id="13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7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ield #2 von Adolfo Valen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484280"/>
            <a:ext cx="6337440" cy="4176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209680"/>
            <a:ext cx="525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Hoe langer men         nog in vervoering       kan geraken,                                       hoe langer men de veroudering kan uitstellen.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9ea33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unterm Apfelbaum von Kirsten G."/>
          <p:cNvPicPr/>
          <p:nvPr/>
        </p:nvPicPr>
        <p:blipFill>
          <a:blip r:embed="rId1"/>
          <a:stretch/>
        </p:blipFill>
        <p:spPr>
          <a:xfrm>
            <a:off x="838080" y="838080"/>
            <a:ext cx="7467840" cy="517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8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3280" y="1052640"/>
            <a:ext cx="6337440" cy="51847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752480"/>
            <a:ext cx="59198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Het ganse leven                            van een menselijk wezen,               hangt af van de woordjes:                                                     “ja” en “neen”,                                             twee- of driemaal            uitgesproken, tussen                                                                     zestien en                            vijfentwing ja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7621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re von Peter Jürgens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8000">
    <p:comb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1197000"/>
            <a:ext cx="6337440" cy="4608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1773360"/>
            <a:ext cx="518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Calligraphy"/>
              </a:rPr>
              <a:t>Ouderdom komt                        plotseling op, als een           sneeuwbui :                                             en op een morgen ,                           stelt men bij het ontwaken                 vast dat alles w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Summerfeeling von Carsten Schwedl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22:15:30Z</dcterms:created>
  <dc:creator/>
  <dc:description/>
  <dc:language>en-US</dc:language>
  <cp:lastModifiedBy/>
  <dcterms:modified xsi:type="dcterms:W3CDTF">2008-04-08T09:27:02Z</dcterms:modified>
  <cp:revision>26</cp:revision>
  <dc:subject/>
  <dc:title>Momenten van bezinning</dc:title>
</cp:coreProperties>
</file>