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Giovanni%20Moradi-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FA3-CFC6-4521-A9C4-9ACFD5D6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F90C-8E27-4F60-A18F-F61D89C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431-F638-48C9-A9EC-AD6DADA9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8C5-F175-46A5-B586-3514F7EC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968-FC38-4717-B5EA-6D7576CA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386-86B9-49E7-B8EA-6FE7305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CCD-EB81-4C7D-B969-5B878A39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682-50EB-4341-8BD6-BA85E099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2AC-1025-4090-83FB-629B5F5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8A7F-1FBD-466B-B23D-E813B25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BCC-8483-4F89-97CA-690456B5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03B-7CB4-46EE-80AC-0C8EDD8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8B6-BBA8-447A-B9B3-D770BFBE8A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mercialScriptTw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audio" Target="../media/Giovanni%20Moradi-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ilhou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8"/>
          <p:cNvSpPr txBox="1"/>
          <p:nvPr/>
        </p:nvSpPr>
        <p:spPr>
          <a:xfrm>
            <a:off x="468360" y="404640"/>
            <a:ext cx="5303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@sch@'s Powerpoint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1763640" y="2492280"/>
            <a:ext cx="5400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ksten van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ON HERMANS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10" descr="cd"/>
          <p:cNvPicPr/>
          <p:nvPr/>
        </p:nvPicPr>
        <p:blipFill>
          <a:blip r:embed="rId7"/>
          <a:stretch/>
        </p:blipFill>
        <p:spPr>
          <a:xfrm>
            <a:off x="179280" y="6237360"/>
            <a:ext cx="505080" cy="379440"/>
          </a:xfrm>
          <a:prstGeom prst="rect">
            <a:avLst/>
          </a:prstGeom>
          <a:ln w="0">
            <a:noFill/>
          </a:ln>
        </p:spPr>
      </p:pic>
      <p:sp>
        <p:nvSpPr>
          <p:cNvPr id="45" name="WordArt 12"/>
          <p:cNvSpPr txBox="1"/>
          <p:nvPr/>
        </p:nvSpPr>
        <p:spPr>
          <a:xfrm>
            <a:off x="900000" y="6308640"/>
            <a:ext cx="158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iovanni Marradi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15"/>
          <p:cNvSpPr/>
          <p:nvPr/>
        </p:nvSpPr>
        <p:spPr>
          <a:xfrm>
            <a:off x="6084720" y="630864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40013"/>
                </a:solidFill>
                <a:latin typeface="CommercialScriptTwo"/>
              </a:rPr>
              <a:t>Klik om verder te gaan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  <p:sndAc>
      <p:stSnd>
        <p:snd r:embed="rId8" name="Giovanni%20Moradi-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vergeet mij nietj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84360" y="907920"/>
            <a:ext cx="381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Veel mensen zijn eenzaam . Daar is niets op tegen , het mag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Maar kom je ze tegen , zeg dan op z’n minst even :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“ </a:t>
            </a: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Dag “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5699160"/>
            <a:ext cx="3382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6ffff"/>
                </a:solidFill>
                <a:latin typeface="CommercialScriptTwo"/>
              </a:rPr>
              <a:t>Niet je hele lange leven met je voetjes op de grond . 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508720" y="5734080"/>
            <a:ext cx="36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6ffff"/>
                </a:solidFill>
                <a:latin typeface="CommercialScriptTwo"/>
              </a:rPr>
              <a:t>Beetje dromen , beetje zweven , lijkt me ook niet ongezond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rozekopie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250920" y="47628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cc"/>
                </a:solidFill>
                <a:latin typeface="CommercialScriptTwo"/>
              </a:rPr>
              <a:t>Pennen kunnen op papier schreeuwen , vloeken , ketteren . Kunnen ook met veel bravoure schallen en trompette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544500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b7b7"/>
                </a:solidFill>
                <a:latin typeface="CommercialScriptTwo"/>
              </a:rPr>
              <a:t>Maar ze kunnen ook zacht een stil verdriet genezen . Met woorden die je nu en dan nóg es ‘n keer wilt lez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Lel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0" y="4941720"/>
            <a:ext cx="496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Waar je ook bent , ik zou het niet weten , niet in afstand of tijd te met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Maar ik heb je bij me , diep in mij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99cc"/>
                </a:solidFill>
                <a:latin typeface="CommercialScriptTwo"/>
              </a:rPr>
              <a:t>Daarom ben je zo dichtbij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boe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4822920" y="256536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dec188"/>
                </a:solidFill>
                <a:latin typeface="CommercialScriptTwo"/>
              </a:rPr>
              <a:t>Van het concert des levens , krijgt niemand een program .</a:t>
            </a:r>
            <a:endParaRPr b="0" lang="en-US" sz="24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3132000" y="5734080"/>
            <a:ext cx="157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c188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INDE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dec188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796000" y="508464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ommercialScriptTwo"/>
              </a:rPr>
              <a:t>Te leven is een gunst , te weten hoe is een kunst .</a:t>
            </a:r>
            <a:endParaRPr b="0" lang="en-US" sz="24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1f1d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79280" y="404640"/>
            <a:ext cx="44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Nacht of avond , middag of morgen , maak je om de tijd geen zorgen …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0" y="465300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Kraaienpoten , grijze haren , laat je drijven door de ja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08000" y="5445000"/>
            <a:ext cx="3384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En heb lak aan de kalender als je maar kunt zeggen : 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3366"/>
                </a:solidFill>
                <a:latin typeface="CommercialScriptTwo"/>
              </a:rPr>
              <a:t>Ik ben d’r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-108000" y="476280"/>
            <a:ext cx="4465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  </a:t>
            </a: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Het heeft geen enkel nut te juichen of te mor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de8400"/>
                </a:solidFill>
                <a:latin typeface="CommercialScriptTwo"/>
              </a:rPr>
              <a:t>Je ziet de bloemen die je plukt toch mettertijd verdorr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79280" y="2205000"/>
            <a:ext cx="388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28700"/>
                </a:solidFill>
                <a:latin typeface="CommercialScriptTwo"/>
              </a:rPr>
              <a:t>De grote kunst schuilt altijd weer in ‘t omgaan met je kans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e28700"/>
                </a:solidFill>
                <a:latin typeface="CommercialScriptTwo"/>
              </a:rPr>
              <a:t>Als het geluk jouw kant opkomt , dan moet je er mee dans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6" descr="slide0014_image001 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14200" y="35712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Vergeef me als ik droom . Vergeef me als ik zweef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14200" y="1000080"/>
            <a:ext cx="331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Als ik wat her en der gebeurt maar vagelijk beleef . Vergeef me als ik vlucht van oorlog en geweld en blij ben met de lucht in het open vrije veld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notenba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932360" y="189000"/>
            <a:ext cx="421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Het leven heeft mij dag aan dag heel duidelijk laten blijken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De mooiste dingen die je ziet , zie je  zonder te kijk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470560" y="5300640"/>
            <a:ext cx="3673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Ze blijven bij je bovendi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9c507"/>
                </a:solidFill>
                <a:latin typeface="CommercialScriptTwo"/>
              </a:rPr>
              <a:t>Je hebt ze met je hart gezie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5" descr="slide0010_image015 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428760" y="214200"/>
            <a:ext cx="273528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CommercialScriptTwo"/>
              </a:rPr>
              <a:t>Een kind is zoveel meer dan een aanstaande dame of een aanstaande heer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cc00"/>
                </a:solidFill>
                <a:latin typeface="CommercialScriptTwo"/>
              </a:rPr>
              <a:t>Wie niet in het kind het wonder ziet , die snapt dit hele versje niet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kerststerko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68360" y="549360"/>
            <a:ext cx="3816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9900"/>
                </a:solidFill>
                <a:latin typeface="CommercialScriptTwo"/>
              </a:rPr>
              <a:t>Kunt er eeuwig over praten : Wat is groot en wat is klein ,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9900"/>
                </a:solidFill>
                <a:latin typeface="CommercialScriptTwo"/>
              </a:rPr>
              <a:t>Leven is geen zaak van maten, maar gewoon een zaak van zijn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oenkopie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324000" y="5013360"/>
            <a:ext cx="424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Wanneer er iets van binnen fout zit , dan word je lusteloos en moe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ffffff"/>
                </a:solidFill>
                <a:latin typeface="CommercialScriptTwo"/>
              </a:rPr>
              <a:t>En of je met je kont in ‘t goud zit , dat doet er dan niet toe .</a:t>
            </a:r>
            <a:endParaRPr b="0" lang="en-US" sz="2000" spc="-1" strike="noStrike">
              <a:solidFill>
                <a:srgbClr val="ffffff"/>
              </a:solidFill>
              <a:latin typeface="CommercialScriptTwo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45:58Z</dcterms:created>
  <dc:creator>Pascha</dc:creator>
  <dc:description/>
  <dc:language>en-US</dc:language>
  <cp:lastModifiedBy>Marly Meulenberg</cp:lastModifiedBy>
  <dcterms:modified xsi:type="dcterms:W3CDTF">2010-02-13T14:37:12Z</dcterms:modified>
  <cp:revision>12</cp:revision>
  <dc:subject/>
  <dc:title>Dia 1</dc:title>
</cp:coreProperties>
</file>