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sound%20003.wav" ContentType="audio/x-wav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E83-35F4-4B77-93BB-5E850E57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5D4-CB02-4C97-8F38-D619E8E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752-8D66-4B00-ADF1-A5E86F16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EA8-043C-4870-8E03-D171E8C6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F7E-6476-490D-9ABF-CE9083B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05B-8A0C-42C5-97CD-10660157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C32-3B46-4A6E-868E-18C201A3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9B3-FD54-4C86-94AA-9C796AA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CFE-553D-43B3-9DCB-8333B67F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D1F-FDB4-430E-A890-D83AECC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AAA-6EE3-47FE-B1C6-366D6ED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170-A37D-40AA-949D-863FD745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8A7-FF78-42BA-B5D7-CEC6A2DC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ound%20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5185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en bundel vitamientj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3789360"/>
            <a:ext cx="505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ergeet niet ze in te nem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7640" y="5013360"/>
            <a:ext cx="3162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oetjes van Be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2492280"/>
            <a:ext cx="3025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flevering 2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11488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5805360"/>
            <a:ext cx="5114880" cy="75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  <p:sndAc>
      <p:stSnd>
        <p:snd r:embed="rId3" name="sound%20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2492280"/>
            <a:ext cx="540072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73400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07:38Z</dcterms:created>
  <dc:creator>bep</dc:creator>
  <dc:description/>
  <dc:language>en-US</dc:language>
  <cp:lastModifiedBy>bep</cp:lastModifiedBy>
  <dcterms:modified xsi:type="dcterms:W3CDTF">2010-03-01T19:54:17Z</dcterms:modified>
  <cp:revision>111</cp:revision>
  <dc:subject/>
  <dc:title>Dia 1</dc:title>
</cp:coreProperties>
</file>