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sound%20003.wav" ContentType="audio/x-wav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20-B460-47F6-9750-DE9A51E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3CE-5C8D-42BC-84F2-ED4855D8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D5C-A3C8-4893-87F2-517FF197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4FB-3D88-43E5-94B5-B65C0B4A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652-2D73-48F4-AAB2-1A24A34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FC2-87BA-4A9E-905D-DA3F3BCC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B2F-94E1-4C94-BE9C-DF10FF6E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F4B-2106-41B8-A493-D937252B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95A-5E62-4274-9269-56DA04B0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FF7-93D5-4D49-9638-D6AB96CA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88B-2AE6-4C59-9700-A29AF4C0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2A6-B1CB-4BFD-A280-B782265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C77-0CD5-48F3-83B9-726B6B4D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ound%2000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1125360"/>
            <a:ext cx="5185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en bundel vitamientj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24000" y="3789360"/>
            <a:ext cx="505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ergeet niet ze in te nem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987640" y="5013360"/>
            <a:ext cx="3162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roetjes van Be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59280" y="2492280"/>
            <a:ext cx="302544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flevering 2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260280"/>
            <a:ext cx="5114880" cy="752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0920" y="5805360"/>
            <a:ext cx="5114880" cy="7527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  <p:sndAc>
      <p:stSnd>
        <p:snd r:embed="rId3" name="sound%20003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2492280"/>
            <a:ext cx="540072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73400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40360" y="4941720"/>
            <a:ext cx="952200" cy="952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07:38Z</dcterms:created>
  <dc:creator>bep</dc:creator>
  <dc:description/>
  <dc:language>en-US</dc:language>
  <cp:lastModifiedBy>bep</cp:lastModifiedBy>
  <dcterms:modified xsi:type="dcterms:W3CDTF">2010-03-01T19:54:17Z</dcterms:modified>
  <cp:revision>111</cp:revision>
  <dc:subject/>
  <dc:title>Dia 1</dc:title>
</cp:coreProperties>
</file>