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FDE-79C5-43DB-BE44-33577EF4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5A2-9B42-465F-BF0E-621FD0A6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BAF-BF3A-42A3-A571-CB3858FD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158-406E-4082-9A2E-1AF34B89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D94-7114-4C56-879C-63779871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DBE-9A57-4A0B-8F9C-C4E85B31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8B9-A876-4446-9791-6D119C2D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ACC-2729-43BA-8867-B2C3D41B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905-2743-4134-9E15-E6BC3C92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BFC-5CB2-4784-A267-546357D1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785-E35C-441D-8E6B-5157DC19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7E1-B3EC-4DA8-BA15-8ACB35C2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2C87-012F-477F-B6E5-CE2BB09D0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-%20Gloria%20-%201%20-%20Gloria%20in%20excelsis%20Deo%20-%20King_s%20College%20Choir.wav" TargetMode="External"/><Relationship Id="rId3" Type="http://schemas.microsoft.com/office/2007/relationships/media" Target="file:///tmp/home/.config/libreoffice/4/user/gallery/-%20Gloria%20-%201%20-%20Gloria%20in%20excelsis%20Deo%20-%20King_s%20College%20Choir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2276640"/>
            <a:ext cx="792144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Rage Italic"/>
              </a:rPr>
              <a:t>El Duomo de Milán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Rage Italic"/>
              <a:ea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00000" y="1315440"/>
            <a:ext cx="7272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a catedral de Milán es un templo de grandes dimensiones, de cinco naves, una central y dos naves laterales por cada uno de los lados, con al menos cuarenta pilares atravesada por un transepto seguido por el coro y el áb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a nave central es muy alta, tiene una altura de 45 metr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a construcción es de ladrillo, recubierto de mármol de color r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80000" y="189000"/>
            <a:ext cx="1511280" cy="368280"/>
          </a:xfrm>
          <a:prstGeom prst="rect">
            <a:avLst/>
          </a:prstGeom>
          <a:solidFill>
            <a:srgbClr val="ffffff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800px-Duomo_di_milano_keski" descr=""/>
          <p:cNvPicPr/>
          <p:nvPr/>
        </p:nvPicPr>
        <p:blipFill>
          <a:blip r:embed="rId2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800px-IMG_3712_-_Milano_-_D" descr=""/>
          <p:cNvPicPr/>
          <p:nvPr/>
        </p:nvPicPr>
        <p:blipFill>
          <a:blip r:embed="rId1"/>
          <a:stretch/>
        </p:blipFill>
        <p:spPr>
          <a:xfrm>
            <a:off x="250920" y="560520"/>
            <a:ext cx="8642160" cy="5736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800px-0174_-_Milano,_Il_Du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800px-3274_-_Milano_-_Duom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020000" y="3284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bist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488px-Presbiterio_del_Duomo" descr=""/>
          <p:cNvPicPr/>
          <p:nvPr/>
        </p:nvPicPr>
        <p:blipFill>
          <a:blip r:embed="rId1"/>
          <a:stretch/>
        </p:blipFill>
        <p:spPr>
          <a:xfrm>
            <a:off x="888840" y="0"/>
            <a:ext cx="557856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641px-Milano_duomo_coro_rad" descr=""/>
          <p:cNvPicPr/>
          <p:nvPr/>
        </p:nvPicPr>
        <p:blipFill>
          <a:blip r:embed="rId2"/>
          <a:stretch/>
        </p:blipFill>
        <p:spPr>
          <a:xfrm>
            <a:off x="900000" y="-84240"/>
            <a:ext cx="7417080" cy="6942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Duomo_di_Milano_in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87280" y="1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biste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800px-MilanoDuomoOrgan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0" y="306828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nave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zquier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450px-Lombardia_Milano3_tan" descr=""/>
          <p:cNvPicPr/>
          <p:nvPr/>
        </p:nvPicPr>
        <p:blipFill>
          <a:blip r:embed="rId1"/>
          <a:stretch/>
        </p:blipFill>
        <p:spPr>
          <a:xfrm>
            <a:off x="539640" y="0"/>
            <a:ext cx="514512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800px-DSC03034_-_Duomo_di_M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799px-Duomo_di_Milano_inter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7640" y="40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transversal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IMG_5873_-_Milano_-_D" descr=""/>
          <p:cNvPicPr/>
          <p:nvPr/>
        </p:nvPicPr>
        <p:blipFill>
          <a:blip r:embed="rId1"/>
          <a:stretch/>
        </p:blipFill>
        <p:spPr>
          <a:xfrm>
            <a:off x="-324000" y="192240"/>
            <a:ext cx="9649080" cy="6151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783240" y="64911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800px-3824_-_Milano_-_Duomo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619760" cy="503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409840" y="602100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sbiterio - Foto Giovanni Dall'O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800px-IMG_5878_-_Milano_-_D" descr=""/>
          <p:cNvPicPr/>
          <p:nvPr/>
        </p:nvPicPr>
        <p:blipFill>
          <a:blip r:embed="rId2"/>
          <a:stretch/>
        </p:blipFill>
        <p:spPr>
          <a:xfrm>
            <a:off x="762120" y="900000"/>
            <a:ext cx="7619760" cy="50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pull dir="l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Es una catedral gótica. Su construcción comenzó en 1386. Los detalles finales de la catedral fueron terminados ya en el siglo XX: la última puerta fue inaugurada el 6 de enero de 1965. Esta fecha es considerada como el término del proceso que ha durado muchas generacion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Tiene 157 metros de largo y puede albergar 40.000 personas en su interior. Las ventanas mayores del coro tienen la reputación de ser las mas grandes d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398px-3345_-_Milano_-_Duomo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3790800" cy="570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5869080" y="2997000"/>
            <a:ext cx="19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neocl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705px-3346_-_Milano_-_Duomo" descr=""/>
          <p:cNvPicPr/>
          <p:nvPr/>
        </p:nvPicPr>
        <p:blipFill>
          <a:blip r:embed="rId2"/>
          <a:stretch/>
        </p:blipFill>
        <p:spPr>
          <a:xfrm>
            <a:off x="324000" y="58680"/>
            <a:ext cx="8208720" cy="6985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75px-3348_-_Milano_-_Duomo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3932280" cy="628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332000" y="242100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de Jo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800px-3484_-_Milano_-_Duom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92px-3806_-_Milano,_Duomo_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106880" cy="6286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5508720" y="314172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de San Ambro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800px-3810_-_Milano,_Duomo_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713px-IMG_6911_-_Milano_-_D" descr=""/>
          <p:cNvPicPr/>
          <p:nvPr/>
        </p:nvPicPr>
        <p:blipFill>
          <a:blip r:embed="rId1"/>
          <a:stretch/>
        </p:blipFill>
        <p:spPr>
          <a:xfrm>
            <a:off x="468360" y="0"/>
            <a:ext cx="8280360" cy="6967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9440" y="-360"/>
            <a:ext cx="282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ar Idelfonso Sch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800px-IMG_4554_Milano_-_Duo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800px-DSC03071_-_Duomo_di_M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420360" y="6307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tral del c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719px-Duomo_Milano_Stained_" descr=""/>
          <p:cNvPicPr/>
          <p:nvPr/>
        </p:nvPicPr>
        <p:blipFill>
          <a:blip r:embed="rId2"/>
          <a:stretch/>
        </p:blipFill>
        <p:spPr>
          <a:xfrm>
            <a:off x="611280" y="128520"/>
            <a:ext cx="8064360" cy="61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800px-IMG_5893_-_Milano_-_D" descr=""/>
          <p:cNvPicPr/>
          <p:nvPr/>
        </p:nvPicPr>
        <p:blipFill>
          <a:blip r:embed="rId1"/>
          <a:stretch/>
        </p:blipFill>
        <p:spPr>
          <a:xfrm>
            <a:off x="762120" y="900000"/>
            <a:ext cx="7619760" cy="50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493080" y="63079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tral del áb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750px-3799_-_Milano_-_Duomo" descr=""/>
          <p:cNvPicPr/>
          <p:nvPr/>
        </p:nvPicPr>
        <p:blipFill>
          <a:blip r:embed="rId1"/>
          <a:stretch/>
        </p:blipFill>
        <p:spPr>
          <a:xfrm>
            <a:off x="0" y="-28440"/>
            <a:ext cx="9325080" cy="691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5877000"/>
            <a:ext cx="2448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ve izquierda Fuente bautis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50px-Cripta_duomo_di_milan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42861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435320" y="6307920"/>
            <a:ext cx="65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pta “Scurolo di san Carlo" (cripta de Carlos Borrome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Los tejados, que están abiertos al público, permiten una observación cercana de algunas esculturas de gran calidad. Es muy destacado el bosque de pináculos y chapiteles que se puede observar desde los mism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El punto más alto del templo es la </a:t>
            </a:r>
            <a:r>
              <a:rPr b="1" i="1" lang="en-US" sz="2800" spc="-1" strike="noStrike">
                <a:solidFill>
                  <a:srgbClr val="c6c4aa"/>
                </a:solidFill>
                <a:latin typeface="Arial"/>
              </a:rPr>
              <a:t>La Madonnina</a:t>
            </a:r>
            <a:r>
              <a:rPr b="1" lang="en-US" sz="2800" spc="-1" strike="noStrike">
                <a:solidFill>
                  <a:srgbClr val="c6c4aa"/>
                </a:solidFill>
                <a:latin typeface="Arial"/>
              </a:rPr>
              <a:t>, obra en cobre dorado, de Giuseppe Perego, inaugurada en 177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ilano_Duomo_Interno_1" descr=""/>
          <p:cNvPicPr/>
          <p:nvPr/>
        </p:nvPicPr>
        <p:blipFill>
          <a:blip r:embed="rId1"/>
          <a:stretch/>
        </p:blipFill>
        <p:spPr>
          <a:xfrm>
            <a:off x="1967040" y="1309680"/>
            <a:ext cx="5209920" cy="4238640"/>
          </a:xfrm>
          <a:prstGeom prst="rect">
            <a:avLst/>
          </a:prstGeom>
          <a:ln w="57240">
            <a:solidFill>
              <a:srgbClr val="c6c4aa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685440" y="6020640"/>
            <a:ext cx="76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6c4aa"/>
                </a:solidFill>
                <a:latin typeface="Arial"/>
              </a:rPr>
              <a:t>Placa conmemorativa de la colocación de la primera piedra en 138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SC04317_-_Milano_-_Doccion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0962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DSC08087_-_Milano_-_Sul_tet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SC04337_-_Milano_-_Sul_tet" descr=""/>
          <p:cNvPicPr/>
          <p:nvPr/>
        </p:nvPicPr>
        <p:blipFill>
          <a:blip r:embed="rId1"/>
          <a:stretch/>
        </p:blipFill>
        <p:spPr>
          <a:xfrm>
            <a:off x="2843280" y="206064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DSC08070_-_Milano_-_Sul_tet" descr=""/>
          <p:cNvPicPr/>
          <p:nvPr/>
        </p:nvPicPr>
        <p:blipFill>
          <a:blip r:embed="rId2"/>
          <a:stretch/>
        </p:blipFill>
        <p:spPr>
          <a:xfrm>
            <a:off x="0" y="115920"/>
            <a:ext cx="60958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SC08069_-_Milano_-_Sole_e_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0962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DSC08130_-_Milano_-_Sul_tet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609624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450px-DSC04325_-_Milano_-_S" descr=""/>
          <p:cNvPicPr/>
          <p:nvPr/>
        </p:nvPicPr>
        <p:blipFill>
          <a:blip r:embed="rId1"/>
          <a:stretch/>
        </p:blipFill>
        <p:spPr>
          <a:xfrm>
            <a:off x="2340000" y="836640"/>
            <a:ext cx="4286160" cy="571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7308720" y="602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gnature"/>
              </a:rPr>
              <a:t>E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9520" y="259200"/>
            <a:ext cx="82411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dio   Vivaldi - Gloria - 1 - Gloria in excelsis Deo -  Coro King's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7:52:01Z</dcterms:created>
  <dc:creator>Eliza Torres</dc:creator>
  <dc:description/>
  <dc:language>en-US</dc:language>
  <cp:lastModifiedBy>saskia</cp:lastModifiedBy>
  <dcterms:modified xsi:type="dcterms:W3CDTF">2010-04-20T20:58:18Z</dcterms:modified>
  <cp:revision>7</cp:revision>
  <dc:subject/>
  <dc:title>El Duomo di Milano</dc:title>
</cp:coreProperties>
</file>