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winter%20memories%202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1F4-E6E7-4B8C-98EF-F9474AC0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F993-8668-4EE8-A0E8-4EF27D78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08BD-3443-4BC4-A13B-57899E59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78C-D382-40F2-9C73-F6AA53EF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C8F-5352-4AA0-842A-A615439D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C27C-1D03-41BE-9272-AF6B0532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C29E-E71A-40E0-88CE-A1DD0643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7624-95FD-4673-AB55-5E172FCD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C66-D9C7-450A-BBEA-EB9FC637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B09-923A-4BA2-BB31-4AD70D44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07A1-20D5-495E-8112-67723F85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1211-92C1-4D24-BFEB-1AB31167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796B-0288-4AB7-9BA6-1DF6A11DD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ter%20memories%202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411280" y="549360"/>
            <a:ext cx="425772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996633"/>
                    </a:gs>
                    <a:gs pos="50000">
                      <a:srgbClr val="808080"/>
                    </a:gs>
                    <a:gs pos="100000">
                      <a:srgbClr val="9966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INTERSE</a:t>
            </a:r>
            <a:endParaRPr b="0" i="1" lang="en-US" sz="48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996633"/>
                  </a:gs>
                  <a:gs pos="50000">
                    <a:srgbClr val="808080"/>
                  </a:gs>
                  <a:gs pos="100000">
                    <a:srgbClr val="996633"/>
                  </a:gs>
                </a:gsLst>
                <a:lin ang="81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996633"/>
                    </a:gs>
                    <a:gs pos="50000">
                      <a:srgbClr val="808080"/>
                    </a:gs>
                    <a:gs pos="100000">
                      <a:srgbClr val="9966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EDACHTEN</a:t>
            </a:r>
            <a:endParaRPr b="0" i="1" lang="en-US" sz="4800" spc="1" strike="noStrike">
              <a:ln w="93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996633"/>
                  </a:gs>
                  <a:gs pos="50000">
                    <a:srgbClr val="808080"/>
                  </a:gs>
                  <a:gs pos="100000">
                    <a:srgbClr val="996633"/>
                  </a:gs>
                </a:gsLst>
                <a:lin ang="81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9000">
    <p:zoom dir="out"/>
    <p:sndAc>
      <p:stSnd>
        <p:snd r:embed="rId2" name="winter%20memories%202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26920" y="404640"/>
            <a:ext cx="813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ff"/>
                </a:solidFill>
                <a:latin typeface="Arial"/>
              </a:rPr>
              <a:t>IN ALLES EN IEDEREEN SCHUILT WEL IETS VAN WAARDE,                     IN MENSEN, GEBOUWEN, ONZE NATUUR VAN MOEDER AAR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87400" y="1484280"/>
            <a:ext cx="7356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650"/>
                            </p:stCondLst>
                            <p:childTnLst>
                              <p:par>
                                <p:cTn id="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4000" y="47628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ccff"/>
                </a:solidFill>
                <a:latin typeface="Arial"/>
              </a:rPr>
              <a:t>DUS KIJK EENS WAT VERDER DAN WAT JE ZIET,                      KIJK NU MAAR EENS ECHT EN VEROORDEEL HET NI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22320" y="260280"/>
            <a:ext cx="82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ff"/>
                </a:solidFill>
                <a:latin typeface="Arial"/>
              </a:rPr>
              <a:t>GENIET VAN ALLES OM JE HEEN,                                                               DE WERELD IN AL ZIJN PRACHT.                                                                  EEN VOGEL, EEN BLOEM, ZELFS EEN SIMPELE ST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95640" y="4437000"/>
            <a:ext cx="49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ff"/>
                </a:solidFill>
                <a:latin typeface="Arial"/>
              </a:rPr>
              <a:t>LAAT DE ZON JE LICHAAM STREL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ff"/>
                </a:solidFill>
                <a:latin typeface="Arial"/>
              </a:rPr>
              <a:t>LAAT DE TIJD JE WONDEN H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71640" y="62064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ff"/>
                </a:solidFill>
                <a:latin typeface="Arial"/>
              </a:rPr>
              <a:t>STRALENDE DAGEN, HUIL NIET OMDAT ZE VOORBIJ ZIJN,                                                 MAAR LACH OMDAT ZE ER WA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195640" y="5084640"/>
            <a:ext cx="46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003300"/>
                </a:solidFill>
                <a:latin typeface="Arial"/>
              </a:rPr>
              <a:t>DE BLIJHEID VAN HET LEVEN,                    IS ONS ALLEMAAL GEGE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877000"/>
            <a:ext cx="53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003300"/>
                </a:solidFill>
                <a:latin typeface="Arial"/>
              </a:rPr>
              <a:t>‘</a:t>
            </a:r>
            <a:r>
              <a:rPr b="1" i="1" lang="nl-BE" sz="2000" spc="-1" strike="noStrike">
                <a:solidFill>
                  <a:srgbClr val="003300"/>
                </a:solidFill>
                <a:latin typeface="Arial"/>
              </a:rPr>
              <a:t>T ZIT HEM IN DE KLEINE DINGEN,                DIE ONS DAGELIJKS OMR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600"/>
                            </p:stCondLst>
                            <p:childTnLst>
                              <p:par>
                                <p:cTn id="1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40464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ff"/>
                </a:solidFill>
                <a:latin typeface="Arial"/>
              </a:rPr>
              <a:t>PIEKEREN NEEMT DE ZORGEN VAN MORGEN NIET WEG,             MAAR WEL DE KRACHT VAN VANDA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76360" y="5589720"/>
            <a:ext cx="74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808080"/>
                </a:solidFill>
                <a:latin typeface="Arial"/>
              </a:rPr>
              <a:t>HET KOST NIET ZOVEEL MOEITE,                                               IEMAND EEN GLIMLACH TE SCHENKEN                                        OF JE HAND OP TE STEKEN VOOR EEN GRO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76360" y="5516640"/>
            <a:ext cx="737712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ff"/>
                </a:solidFill>
                <a:latin typeface="Arial"/>
              </a:rPr>
              <a:t>HET KAN OPEENS DE ZON LATEN SCHIJNEN,                               IN HET HART VAN DE MENS DIE JE HEBT ONTMO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03280" y="47628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ff"/>
                </a:solidFill>
                <a:latin typeface="Arial"/>
              </a:rPr>
              <a:t>WE STREVEN ZO NAAR PERFECTIE DAT WE VERGETEN,        DAT INPERFECTIE OOK MOOI KAN ZIJN.                                   KIJK MAAR NAAR JEZ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6000" y="558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cc6600"/>
                </a:solidFill>
                <a:latin typeface="Arial"/>
              </a:rPr>
              <a:t>DIKWIJLS IS WAT MENSEN GELUK NOEMEN                                               NIETS ANDERS DAN HET RESULTAAT VAN VOLHOUDEN                     ALS EEN ANDER HET AL HEEFT OPGEGE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42920" y="620640"/>
            <a:ext cx="748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62064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ff"/>
                </a:solidFill>
                <a:latin typeface="Arial"/>
              </a:rPr>
              <a:t>KIJK NAAR WAT JE WIL BEREIKEN,         NIET WAT JE WIL VERMIJ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300720" y="6597720"/>
            <a:ext cx="28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720" y="6669000"/>
            <a:ext cx="161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roeten uit Veendam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348000" y="333360"/>
            <a:ext cx="556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ff"/>
                </a:solidFill>
                <a:latin typeface="Arial"/>
              </a:rPr>
              <a:t>HET GELUK DAT JE ZOEKT IN HET LEVEN,      ZIT NIET IN GELD OF GO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1413000"/>
            <a:ext cx="4824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900"/>
                            </p:stCondLst>
                            <p:childTnLst>
                              <p:par>
                                <p:cTn id="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00720" y="549360"/>
            <a:ext cx="41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ff"/>
                </a:solidFill>
                <a:latin typeface="Arial"/>
              </a:rPr>
              <a:t>HET ZIT HEM IN GEZONDHEID,            EN WAT JE IN JE LEVEN DO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5589720"/>
            <a:ext cx="52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003366"/>
                </a:solidFill>
                <a:latin typeface="Arial"/>
              </a:rPr>
              <a:t>EN DAARIN HEB JE VAAK GEEN KEUZE,        ZELDEN HEB JE HET ECHT IN DE H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189000"/>
            <a:ext cx="701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996633"/>
                </a:solidFill>
                <a:latin typeface="Arial"/>
              </a:rPr>
              <a:t>SOMS ZOU JE WILLEN KIEZEN MET JE HART,                  MAAR WORDT KEUZE BEPAALD DOOR JE VERST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2920" y="90792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ff"/>
                </a:solidFill>
                <a:latin typeface="Arial"/>
              </a:rPr>
              <a:t>ONZE OGEN ZIJN SOMS EEN WONDERLIJK IETS,        WANT ZONDER DIE KIJKERS LIJKT ALLES OP NIET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00000" y="54936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5f5f5f"/>
                </a:solidFill>
                <a:latin typeface="Arial"/>
              </a:rPr>
              <a:t>VAAK ZIJN DE DINGEN ECHTER NIET WAT HET LIJKT, OMDAT JE TE DRUK BENT EN DAN NIET ECHT KIJK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403280" y="692280"/>
            <a:ext cx="69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cc6600"/>
                </a:solidFill>
                <a:latin typeface="Arial"/>
              </a:rPr>
              <a:t>ZODAT JE DE ZIEL VAN IETS OF IEMAND NIET ZIET,    JE ZIET NIET ZIJN PIJN, ZIJN ANGST, OF VERDRI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2T19:23:21Z</dcterms:created>
  <dc:creator>Martine</dc:creator>
  <dc:description/>
  <dc:language>en-US</dc:language>
  <cp:lastModifiedBy>Gerard</cp:lastModifiedBy>
  <dcterms:modified xsi:type="dcterms:W3CDTF">2009-12-03T11:50:05Z</dcterms:modified>
  <cp:revision>9</cp:revision>
  <dc:subject/>
  <dc:title>Dia 1</dc:title>
</cp:coreProperties>
</file>