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9A77-2E84-46DD-B2F6-A96C818A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B0C5-A313-496F-BA0D-744F0079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B30C-3969-41E8-9930-BDC04365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11B9-9E8B-4A52-927B-C8B15126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4FF-7D22-4F47-BE6F-40FABC7D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05EE-344F-4F8E-89E4-34F0EB2A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A4D6-1661-4E11-B7BF-80AEF492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958B-DA8E-4535-80B4-C2DFBB2B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49ED-A2ED-4F05-9133-8F1DBF1C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49F8-757F-4EF8-8C5B-83A97B1B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7680-B3A8-4055-ABA5-4072ECB5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71A8-DB9E-459B-8890-CA27C780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5AFE-631C-4288-97EB-4BB31DE0BE1B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6a"/>
          <p:cNvPicPr/>
          <p:nvPr/>
        </p:nvPicPr>
        <p:blipFill>
          <a:blip r:embed="rId1"/>
          <a:stretch/>
        </p:blipFill>
        <p:spPr>
          <a:xfrm>
            <a:off x="-541440" y="0"/>
            <a:ext cx="9901440" cy="6931080"/>
          </a:xfrm>
          <a:prstGeom prst="rect">
            <a:avLst/>
          </a:prstGeom>
          <a:ln w="0">
            <a:noFill/>
          </a:ln>
        </p:spPr>
      </p:pic>
      <p:pic>
        <p:nvPicPr>
          <p:cNvPr id="44" name="musique sifflée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2714400"/>
            <a:ext cx="9144000" cy="11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Ik schreef je naam in mijn 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en hij staat erin gegrift voor altij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8a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2643120"/>
            <a:ext cx="91440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Alle dagen is het tij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voor de vriendschap en de ‘k zie je gra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10a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2214360"/>
            <a:ext cx="91440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Vertel deze woorden aan allen die jij graag ma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ook aan degene die dit naar je stuurd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9a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2643120"/>
            <a:ext cx="91440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als ik deel uitmaak van je vriendenk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wel te versta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0a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2356920"/>
            <a:ext cx="91440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Als je ‘m zend naar je vriend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maak je mensen gelukk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en bezorg je jezelf ook een mooie da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kstvak 2"/>
          <p:cNvSpPr/>
          <p:nvPr/>
        </p:nvSpPr>
        <p:spPr>
          <a:xfrm>
            <a:off x="684360" y="61657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BE" sz="1800" spc="-1" strike="noStrike">
                <a:solidFill>
                  <a:srgbClr val="ffffff"/>
                </a:solidFill>
                <a:latin typeface="Arial"/>
              </a:rPr>
              <a:t>M@rcky 201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circl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1a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857240"/>
            <a:ext cx="9144000" cy="16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Ik schreef je naam op een velletje papi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maar ik ben het per ongeluk kwijt geraa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975120" y="-72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2a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Ik noteerde je naam                                                                         in de palm van mijn hand,                                                 maar toen ik me gewassen had,                                       was ie er niet m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3a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235728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Ik schreef je naam in het zand,                                                                  maar de golven hebben hem uitgew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4a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2714760"/>
            <a:ext cx="91440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Ik trok je naam door de witte sneeu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maar de zon liet hem verwat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7a"/>
          <p:cNvPicPr/>
          <p:nvPr/>
        </p:nvPicPr>
        <p:blipFill>
          <a:blip r:embed="rId1"/>
          <a:stretch/>
        </p:blipFill>
        <p:spPr>
          <a:xfrm>
            <a:off x="0" y="0"/>
            <a:ext cx="9756720" cy="7029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15:13:52Z</dcterms:created>
  <dc:creator>M@rcky</dc:creator>
  <dc:description/>
  <dc:language>en-US</dc:language>
  <cp:lastModifiedBy>m@rcky</cp:lastModifiedBy>
  <dcterms:modified xsi:type="dcterms:W3CDTF">2010-08-01T13:06:45Z</dcterms:modified>
  <cp:revision>12</cp:revision>
  <dc:subject/>
  <dc:title>Donnez au suivant…</dc:title>
</cp:coreProperties>
</file>