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3.jpeg" ContentType="image/jpeg"/>
  <Override PartName="/ppt/media/image1.jpeg" ContentType="image/jpeg"/>
  <Override PartName="/ppt/media/sound004.wav" ContentType="audio/x-wav"/>
  <Override PartName="/ppt/media/image7.jpeg" ContentType="image/jpeg"/>
  <Override PartName="/ppt/media/image1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2CE4-9589-4E62-A266-5920596F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A0DC-1F61-4699-8515-ADA16FD7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BD4-E76D-41CC-AD68-32FEB523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20D-F79E-45A8-B059-5086E9FE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9C7-0B29-48B1-8E3D-9326F209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1C7-83E8-41BB-BBA6-B5297183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5415-B147-4515-B375-45D747F6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24D-853E-4B94-89A8-8AB6DE30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D31-8F2C-4047-B9E0-B23E6BC8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9FB-B29F-444E-AF93-241052BF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8FDB-F060-49C8-8BB0-71035035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5BE-4EB3-4B4F-A09F-C10074AB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48A0-999B-4F6A-9133-E5A9368EC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004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  <p:sndAc>
      <p:stSnd>
        <p:snd r:embed="rId2" name="sound004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Documents"/>
          <p:cNvSpPr/>
          <p:nvPr/>
        </p:nvSpPr>
        <p:spPr>
          <a:xfrm>
            <a:off x="4859280" y="549360"/>
            <a:ext cx="4105440" cy="5832360"/>
          </a:xfrm>
          <a:prstGeom prst="pie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1700280"/>
            <a:ext cx="32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42be"/>
                </a:solidFill>
                <a:latin typeface="Poor Richard"/>
              </a:rPr>
              <a:t>"</a:t>
            </a:r>
            <a:r>
              <a:rPr b="0" lang="en-US" sz="3200" spc="-1" strike="noStrike">
                <a:solidFill>
                  <a:srgbClr val="c048c3"/>
                </a:solidFill>
                <a:latin typeface="Poor Richard"/>
              </a:rPr>
              <a:t>Woorden als glas zo breekbaar, gebroken in mijn mond. Voor eeuwig onuitspreekbaar, omdat ik de moed niet vond. "</a:t>
            </a:r>
            <a:r>
              <a:rPr b="0" lang="en-US" sz="2800" spc="-1" strike="noStrike">
                <a:solidFill>
                  <a:srgbClr val="c048c3"/>
                </a:solidFill>
                <a:latin typeface="Poor Richar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549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or Richard"/>
              </a:rPr>
              <a:t>Laat zien wie je bent, los van verwachtingen, los van goedkeuring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4000" y="3429000"/>
            <a:ext cx="374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b1e6"/>
                </a:solidFill>
                <a:latin typeface="Poor Richard"/>
              </a:rPr>
              <a:t>"Als je denkt dat iets kleins en simpels geen verschil uitmaakt, probeer dan maar eens te slapen met een mug in je kamer."</a:t>
            </a:r>
            <a:r>
              <a:rPr b="0" lang="en-US" sz="2400" spc="-1" strike="noStrike">
                <a:solidFill>
                  <a:srgbClr val="edb1e6"/>
                </a:solidFill>
                <a:latin typeface="Poor Richar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360" y="1125360"/>
            <a:ext cx="33116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Poor Richard"/>
              </a:rPr>
              <a:t>"</a:t>
            </a:r>
            <a:r>
              <a:rPr b="0" lang="en-US" sz="3600" spc="-1" strike="noStrike">
                <a:solidFill>
                  <a:srgbClr val="dddddd"/>
                </a:solidFill>
                <a:latin typeface="Poor Richard"/>
              </a:rPr>
              <a:t>Je bent niet in het leven om vrienden te maken, je bent in het leven om een vriend te zijn. 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71640" y="260280"/>
            <a:ext cx="712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Poor Richard"/>
              </a:rPr>
              <a:t>"Mensen kun je vergelijken met muzieknoten</a:t>
            </a:r>
            <a:r>
              <a:rPr b="0" lang="en-US" sz="3200" spc="-1" strike="noStrike">
                <a:solidFill>
                  <a:srgbClr val="dddddd"/>
                </a:solidFill>
                <a:latin typeface="Poor Richard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373720"/>
            <a:ext cx="8280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Poor Richard"/>
              </a:rPr>
              <a:t>Als ze eenmaal op elkaar zijn afgestemd, vormen ze een prachtig orkest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38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47640" y="4356000"/>
            <a:ext cx="3384720" cy="2502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435640" y="0"/>
            <a:ext cx="3708360" cy="363996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64000" y="479736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f88d4"/>
                </a:solidFill>
                <a:latin typeface="Poor Richard"/>
              </a:rPr>
              <a:t>"Probeer, elke keer als je tegen de lamp loopt, een beetje licht mee te nemen."</a:t>
            </a:r>
            <a:r>
              <a:rPr b="0" lang="en-US" sz="32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4360" y="2133720"/>
            <a:ext cx="331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e5"/>
                </a:solidFill>
                <a:latin typeface="Poor Richard"/>
              </a:rPr>
              <a:t>"Wees tevreden met de kleine dingen en ze zullen je overvloedig omringen.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3280" y="765000"/>
            <a:ext cx="4500720" cy="5400720"/>
          </a:xfrm>
          <a:custGeom>
            <a:avLst/>
            <a:gdLst>
              <a:gd name="textAreaLeft" fmla="*/ 1057680 w 4500720"/>
              <a:gd name="textAreaRight" fmla="*/ 3439800 w 4500720"/>
              <a:gd name="textAreaTop" fmla="*/ 635040 h 5400720"/>
              <a:gd name="textAreaBottom" fmla="*/ 3387600 h 54007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57240">
            <a:solidFill>
              <a:srgbClr val="8e32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1557360"/>
            <a:ext cx="302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e3274"/>
                </a:solidFill>
                <a:latin typeface="Arial"/>
              </a:rPr>
              <a:t>"</a:t>
            </a:r>
            <a:r>
              <a:rPr b="0" lang="en-US" sz="3600" spc="-1" strike="noStrike">
                <a:solidFill>
                  <a:srgbClr val="8e3274"/>
                </a:solidFill>
                <a:latin typeface="Poor Richard"/>
              </a:rPr>
              <a:t>Wie een goed humeur bewaart, wordt veel last en zorg bespaard."</a:t>
            </a:r>
            <a:r>
              <a:rPr b="0" lang="en-US" sz="1800" spc="-1" strike="noStrike">
                <a:solidFill>
                  <a:srgbClr val="8e32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7149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4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4365720"/>
            <a:ext cx="38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Poor Richard"/>
              </a:rPr>
              <a:t>"Mensen die de zon in andermans leven breng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4221000"/>
            <a:ext cx="338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Poor Richard"/>
              </a:rPr>
              <a:t>zullen zelf ook haar stralen voelen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494172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Poor Richard"/>
              </a:rPr>
              <a:t>"Niet krijgen wat je wenst, is soms het beste dat je kan overkomen."</a:t>
            </a:r>
            <a:r>
              <a:rPr b="0" lang="en-US" sz="3200" spc="-1" strike="noStrike">
                <a:solidFill>
                  <a:srgbClr val="99cc00"/>
                </a:solidFill>
                <a:latin typeface="Poor Rich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64000" y="907920"/>
            <a:ext cx="33116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Poor Richard"/>
              </a:rPr>
              <a:t>"Wat je werkelijk toebehoort, kun je niet verliezen. Zelfs niet als je het wegwerpt.</a:t>
            </a:r>
            <a:r>
              <a:rPr b="0" lang="en-US" sz="4800" spc="-1" strike="noStrike">
                <a:solidFill>
                  <a:srgbClr val="bbe0e3"/>
                </a:solidFill>
                <a:latin typeface="Poor Richard"/>
              </a:rPr>
              <a:t> "</a:t>
            </a:r>
            <a:r>
              <a:rPr b="0" lang="en-US" sz="48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54936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oor Richard"/>
              </a:rPr>
              <a:t>Maak van je gedachten een tuin vol bloemen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9640" y="3429000"/>
            <a:ext cx="331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or Richard"/>
              </a:rPr>
              <a:t>"Wie zich niet ergert, doch zich verwondert; die wordt geen tachtig maar die wordt honderd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7:58:36Z</dcterms:created>
  <dc:creator>Sylvi@</dc:creator>
  <dc:description/>
  <dc:language>en-US</dc:language>
  <cp:lastModifiedBy>Jeannine</cp:lastModifiedBy>
  <dcterms:modified xsi:type="dcterms:W3CDTF">2009-08-09T13:03:17Z</dcterms:modified>
  <cp:revision>11</cp:revision>
  <dc:subject/>
  <dc:title>Dia 1</dc:title>
</cp:coreProperties>
</file>