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Mistral%20Gagnant.wav" ContentType="audio/x-wav"/>
  <Override PartName="/ppt/media/image16.jpeg" ContentType="image/jpeg"/>
  <Override PartName="/ppt/media/image24.gif" ContentType="image/gif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D90E8-D1A5-47BA-8CE2-1C94AEE3A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55D-EE37-4BC6-BD7D-6E8AB807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66D-0A93-4C16-A176-7F9988F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3FB-0B37-4792-88E2-C72DB499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DDD-97CD-4B09-9D1E-71BC4244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DED-83E1-446C-9DA3-C84B16C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DBF-90A5-4415-A0CC-4AC9463C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443-41CC-44E5-B265-0927B111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A52-B866-4414-A92E-D3673642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DCD-EF78-423C-8AEA-27AB86A3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FF4-61B6-4982-A5DA-7DF3782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43F-882D-44F6-98F3-E0B76DB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076-9A55-4830-ADE5-2BFE6952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2D908-4CDB-422B-A56C-76B56F2CB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istral%20Gagnan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99280" y="720720"/>
            <a:ext cx="10796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720720"/>
            <a:ext cx="90036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31840" y="0"/>
            <a:ext cx="60692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  <p:sndAc>
      <p:stSnd>
        <p:snd r:embed="rId2" name="Mistral%20Gagnan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95480" y="0"/>
            <a:ext cx="5759280" cy="7604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665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19280" y="360360"/>
            <a:ext cx="792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b80047"/>
                </a:solidFill>
                <a:latin typeface="Kristen ITC"/>
              </a:rPr>
              <a:t>SANS COM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10080720" cy="41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34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00240" y="1263600"/>
            <a:ext cx="6000840" cy="4857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2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3240000"/>
            <a:ext cx="558000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75596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9280"/>
            <a:ext cx="10080720" cy="5040360"/>
          </a:xfrm>
          <a:prstGeom prst="roundRect">
            <a:avLst>
              <a:gd name="adj" fmla="val 2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60720" y="251928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3:22:17Z</dcterms:created>
  <dc:creator/>
  <dc:description/>
  <dc:language>en-US</dc:language>
  <cp:lastModifiedBy/>
  <dcterms:modified xsi:type="dcterms:W3CDTF">2010-05-07T17:38:27Z</dcterms:modified>
  <cp:revision>25</cp:revision>
  <dc:subject/>
  <dc:title/>
</cp:coreProperties>
</file>