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Mistral%20Gagnant.wav" ContentType="audio/x-wav"/>
  <Override PartName="/ppt/media/image16.jpeg" ContentType="image/jpeg"/>
  <Override PartName="/ppt/media/image24.gif" ContentType="image/gif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67554-B992-4F7B-A04B-1DECFB155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89C-8EFA-48D8-AFE6-38376959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EBD-7CE5-478D-A51D-00FB4D00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E7F-EF07-48D4-ADFD-2E89156C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0AB-3184-4A02-A59D-60888632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D5C-C485-4CE2-BDEB-D61B92B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2B9-8E12-4CBD-8239-A8B55A9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EDF-00CA-4BE7-AB7C-7159DB78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8AC-155E-4ECA-9453-1C76E77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151-542D-4A22-88AF-5823969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BB6-C782-4745-A572-712E285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D14-9A26-4BF5-B5AB-B65B849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D93-B635-4487-A1A4-A600BE9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69685-CDA3-49E3-9C0A-D28707AF4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istral%20Gagnan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99280" y="720720"/>
            <a:ext cx="10796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720720"/>
            <a:ext cx="90036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31840" y="0"/>
            <a:ext cx="60692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  <p:sndAc>
      <p:stSnd>
        <p:snd r:embed="rId2" name="Mistral%20Gagnan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95480" y="0"/>
            <a:ext cx="5759280" cy="7604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665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19280" y="360360"/>
            <a:ext cx="792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b80047"/>
                </a:solidFill>
                <a:latin typeface="Kristen ITC"/>
              </a:rPr>
              <a:t>SANS COM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10080720" cy="41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34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00240" y="1263600"/>
            <a:ext cx="6000840" cy="4857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2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3240000"/>
            <a:ext cx="558000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75596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9280"/>
            <a:ext cx="10080720" cy="5040360"/>
          </a:xfrm>
          <a:prstGeom prst="roundRect">
            <a:avLst>
              <a:gd name="adj" fmla="val 2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60720" y="251928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3:22:17Z</dcterms:created>
  <dc:creator/>
  <dc:description/>
  <dc:language>en-US</dc:language>
  <cp:lastModifiedBy/>
  <dcterms:modified xsi:type="dcterms:W3CDTF">2010-05-07T17:38:27Z</dcterms:modified>
  <cp:revision>25</cp:revision>
  <dc:subject/>
  <dc:title/>
</cp:coreProperties>
</file>